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4E1B9CA-75AB-4A1B-A47B-99500F7DD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F8EC47E-44A1-4224-A472-A2F82E044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EB0C-15E0-41A4-9EA8-F095B3933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4E80-E84F-4EFD-842C-E7E9C3C65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5197-DA94-4CBC-8B07-96A694222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B63A-FE02-48BE-9AE2-A338C0B10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E646-BF25-4B80-9889-4B26266F5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FCA7-5649-4070-ADDF-5BB6E9683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239F-F29D-46FE-A9D1-5D336BC8D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6A2E-FB37-441B-B219-E24F32092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127F-E24A-49D2-A1D2-18E3C9BE0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2935-ECBF-4C0E-B6D5-EE703923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F980-63B4-4028-B53B-936EE52D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6496-A2D9-4FC3-A0E4-DFDA58C6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0663B-4631-4173-8ADF-8552732455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22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day, November 22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46E3-4989-4922-9346-9EEF52A3E76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129680" y="2133720"/>
            <a:ext cx="184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R.A =S.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13840" y="1828800"/>
            <a:ext cx="3875040" cy="484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first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first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(_______________) d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   case x.A &lt; y.B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x.A=y.B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case x.A &gt; y.B;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8280" y="3881520"/>
            <a:ext cx="190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la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5640" y="1336680"/>
            <a:ext cx="218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(A,C),  S(B,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0132-54CD-4696-BE3A-D1D829398B9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 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by sorting both R and S on the join attribu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4B(R)+4B(S)  (because need to write to dis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both relations in sorted order, match tu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B(R)+B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iculty: many tuples in R may match many in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t least one set of tuples fits in M, we are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wise need nested loop, higher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cost: 5B(R)+5B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ption: B(R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B(S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9E5E-62BA-4C71-BA6C-B777276C4D2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in 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number of tuples in R matching those in S is small (or vice versa) we can compute the join during the merge ph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cost: 3B(R)+3B(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B(R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B(S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1E90-85E3-491E-819C-8965610BCDC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Pass Algorithms Based on Has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: partition a relation R into buckets, on d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bucket has size approx. B(R)/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each bucket fit in main memor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 if B(R)/M &lt;= M,   i.e. B(R) &lt;=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751760" y="2895480"/>
            <a:ext cx="5476320" cy="2820960"/>
            <a:chOff x="1751760" y="2895480"/>
            <a:chExt cx="5476320" cy="2820960"/>
          </a:xfrm>
        </p:grpSpPr>
        <p:sp>
          <p:nvSpPr>
            <p:cNvPr id="84" name=""/>
            <p:cNvSpPr/>
            <p:nvPr/>
          </p:nvSpPr>
          <p:spPr>
            <a:xfrm>
              <a:off x="2914560" y="5327280"/>
              <a:ext cx="2582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 main memory buff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00400" y="534816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983600" y="534960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751760" y="2895480"/>
              <a:ext cx="1233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lation 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398480" y="3180960"/>
              <a:ext cx="925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096240" y="4664880"/>
              <a:ext cx="40680" cy="5940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4" y="0"/>
                  </a:lnTo>
                  <a:lnTo>
                    <a:pt x="0" y="20"/>
                  </a:lnTo>
                  <a:lnTo>
                    <a:pt x="14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244200" y="4664880"/>
              <a:ext cx="40680" cy="5940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4" y="0"/>
                  </a:lnTo>
                  <a:lnTo>
                    <a:pt x="0" y="20"/>
                  </a:lnTo>
                  <a:lnTo>
                    <a:pt x="14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61200" y="3159720"/>
              <a:ext cx="2541960" cy="2156760"/>
            </a:xfrm>
            <a:custGeom>
              <a:avLst/>
              <a:gdLst/>
              <a:ahLst/>
              <a:rect l="l" t="t" r="r" b="b"/>
              <a:pathLst>
                <a:path w="1683" h="1442">
                  <a:moveTo>
                    <a:pt x="0" y="1441"/>
                  </a:moveTo>
                  <a:lnTo>
                    <a:pt x="0" y="0"/>
                  </a:lnTo>
                  <a:lnTo>
                    <a:pt x="1682" y="0"/>
                  </a:lnTo>
                  <a:lnTo>
                    <a:pt x="1682" y="1441"/>
                  </a:lnTo>
                  <a:lnTo>
                    <a:pt x="0" y="144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96360" y="4402800"/>
              <a:ext cx="318600" cy="253800"/>
            </a:xfrm>
            <a:custGeom>
              <a:avLst/>
              <a:gdLst/>
              <a:ahLst/>
              <a:rect l="l" t="t" r="r" b="b"/>
              <a:pathLst>
                <a:path w="211" h="170">
                  <a:moveTo>
                    <a:pt x="0" y="169"/>
                  </a:moveTo>
                  <a:lnTo>
                    <a:pt x="0" y="0"/>
                  </a:lnTo>
                  <a:lnTo>
                    <a:pt x="210" y="0"/>
                  </a:lnTo>
                  <a:lnTo>
                    <a:pt x="210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4764240" y="4583880"/>
              <a:ext cx="317880" cy="85320"/>
              <a:chOff x="4764240" y="4583880"/>
              <a:chExt cx="317880" cy="85320"/>
            </a:xfrm>
          </p:grpSpPr>
          <p:sp>
            <p:nvSpPr>
              <p:cNvPr id="94" name=""/>
              <p:cNvSpPr/>
              <p:nvPr/>
            </p:nvSpPr>
            <p:spPr>
              <a:xfrm>
                <a:off x="4764240" y="4583880"/>
                <a:ext cx="40680" cy="59760"/>
              </a:xfrm>
              <a:custGeom>
                <a:avLst/>
                <a:gdLst/>
                <a:ahLst/>
                <a:rect l="l" t="t" r="r" b="b"/>
                <a:pathLst>
                  <a:path w="27" h="40">
                    <a:moveTo>
                      <a:pt x="26" y="19"/>
                    </a:moveTo>
                    <a:lnTo>
                      <a:pt x="13" y="0"/>
                    </a:lnTo>
                    <a:lnTo>
                      <a:pt x="0" y="19"/>
                    </a:lnTo>
                    <a:lnTo>
                      <a:pt x="13" y="39"/>
                    </a:lnTo>
                    <a:lnTo>
                      <a:pt x="26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901400" y="4583880"/>
                <a:ext cx="40680" cy="59760"/>
              </a:xfrm>
              <a:custGeom>
                <a:avLst/>
                <a:gdLst/>
                <a:ahLst/>
                <a:rect l="l" t="t" r="r" b="b"/>
                <a:pathLst>
                  <a:path w="27" h="40">
                    <a:moveTo>
                      <a:pt x="26" y="19"/>
                    </a:moveTo>
                    <a:lnTo>
                      <a:pt x="13" y="0"/>
                    </a:lnTo>
                    <a:lnTo>
                      <a:pt x="0" y="19"/>
                    </a:lnTo>
                    <a:lnTo>
                      <a:pt x="13" y="39"/>
                    </a:lnTo>
                    <a:lnTo>
                      <a:pt x="26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049000" y="4583880"/>
                <a:ext cx="33120" cy="85320"/>
              </a:xfrm>
              <a:custGeom>
                <a:avLst/>
                <a:gdLst/>
                <a:ahLst/>
                <a:rect l="l" t="t" r="r" b="b"/>
                <a:pathLst>
                  <a:path w="22" h="57">
                    <a:moveTo>
                      <a:pt x="21" y="27"/>
                    </a:moveTo>
                    <a:lnTo>
                      <a:pt x="11" y="0"/>
                    </a:lnTo>
                    <a:lnTo>
                      <a:pt x="0" y="27"/>
                    </a:lnTo>
                    <a:lnTo>
                      <a:pt x="11" y="56"/>
                    </a:lnTo>
                    <a:lnTo>
                      <a:pt x="21" y="2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5723280" y="3768840"/>
              <a:ext cx="238680" cy="25416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99760" y="3768840"/>
              <a:ext cx="236880" cy="25416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23280" y="4208760"/>
              <a:ext cx="238680" cy="25380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008400" y="4208760"/>
              <a:ext cx="237240" cy="25380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60160" y="4664880"/>
              <a:ext cx="40680" cy="5940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3" y="0"/>
                  </a:lnTo>
                  <a:lnTo>
                    <a:pt x="0" y="20"/>
                  </a:lnTo>
                  <a:lnTo>
                    <a:pt x="13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94240" y="4208760"/>
              <a:ext cx="236880" cy="25380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750200" y="394668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723280" y="4995000"/>
              <a:ext cx="238680" cy="25416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718520" y="4954680"/>
              <a:ext cx="401760" cy="27036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74240" y="4012560"/>
              <a:ext cx="738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750200" y="343044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399840" y="4244400"/>
              <a:ext cx="82044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has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un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661640" y="4687200"/>
              <a:ext cx="502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577120" y="3170520"/>
              <a:ext cx="1151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rti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75840" y="3746160"/>
              <a:ext cx="29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666840" y="4145400"/>
              <a:ext cx="29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636240" y="4892040"/>
              <a:ext cx="591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1812600" y="3524760"/>
              <a:ext cx="875880" cy="1838880"/>
              <a:chOff x="1812600" y="3524760"/>
              <a:chExt cx="875880" cy="1838880"/>
            </a:xfrm>
          </p:grpSpPr>
          <p:sp>
            <p:nvSpPr>
              <p:cNvPr id="115" name=""/>
              <p:cNvSpPr/>
              <p:nvPr/>
            </p:nvSpPr>
            <p:spPr>
              <a:xfrm>
                <a:off x="1826280" y="3524760"/>
                <a:ext cx="855720" cy="127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819800" y="3587760"/>
                <a:ext cx="0" cy="165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688480" y="3587760"/>
                <a:ext cx="0" cy="165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12600" y="5143320"/>
                <a:ext cx="867960" cy="220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05"/>
                    </a:moveTo>
                    <a:arcTo wR="10800" hR="10800" stAng="-94011" swAng="1094069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05"/>
                    </a:moveTo>
                    <a:arcTo wR="10800" hR="10800" stAng="-94011" swAng="1094069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2114640" y="3740040"/>
              <a:ext cx="277560" cy="27540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114640" y="4170960"/>
              <a:ext cx="277560" cy="27540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14640" y="4889160"/>
              <a:ext cx="277560" cy="27504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19880" y="4353480"/>
              <a:ext cx="742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Book Antiqua"/>
                </a:rPr>
                <a:t>. . 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5654880" y="3524760"/>
              <a:ext cx="1020960" cy="1859760"/>
              <a:chOff x="5654880" y="3524760"/>
              <a:chExt cx="1020960" cy="1859760"/>
            </a:xfrm>
          </p:grpSpPr>
          <p:sp>
            <p:nvSpPr>
              <p:cNvPr id="124" name=""/>
              <p:cNvSpPr/>
              <p:nvPr/>
            </p:nvSpPr>
            <p:spPr>
              <a:xfrm>
                <a:off x="5668560" y="3524760"/>
                <a:ext cx="1001160" cy="128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662080" y="3588840"/>
                <a:ext cx="0" cy="1677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675840" y="3588840"/>
                <a:ext cx="0" cy="1677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654880" y="5164200"/>
                <a:ext cx="1013040" cy="220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07"/>
                    </a:moveTo>
                    <a:arcTo wR="10800" hR="10800" stAng="-93306" swAng="1089330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07"/>
                    </a:moveTo>
                    <a:arcTo wR="10800" hR="10800" stAng="-93306" swAng="10893306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2688840" y="4524120"/>
              <a:ext cx="362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4211280" y="3949560"/>
              <a:ext cx="507240" cy="57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4211280" y="4380480"/>
              <a:ext cx="507240" cy="14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211280" y="4524120"/>
              <a:ext cx="507240" cy="57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153400" y="3877920"/>
              <a:ext cx="57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3400" y="4308840"/>
              <a:ext cx="57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53400" y="5098320"/>
              <a:ext cx="57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718520" y="4165200"/>
              <a:ext cx="401760" cy="27036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18520" y="3662640"/>
              <a:ext cx="401760" cy="27036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1509480" y="3619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09480" y="4152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44800" y="48736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(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E1CC-D754-4815-8336-70F2F92003E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 Based Algorithms for 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: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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plicate elimin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1. Partition R into buc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2. Appl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each bucket (may read in main memo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3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B(R) 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3DDD-F50A-40B5-BC1D-B72346FC4A1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 Based Algorithms for 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: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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 and aggre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1. Partition R into buc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2. Appl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each bucket (may read in main memo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3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B(R) 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F6F0-F1B4-4BF0-AFBD-BF3C645C017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tioned Hash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1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h S into M bu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all buckets to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h R into M bu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all buckets to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 every pair of bu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C46E-223A-4B0A-B864-403B3DEE0C0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-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350532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tion both relations using hash fn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R tuples in partition i will only match S tuples in partition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411480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ead in a partition of R, hash it using </a:t>
            </a:r>
            <a:r>
              <a:rPr b="1" lang="en-US" sz="2400" spc="-1" strike="noStrike">
                <a:solidFill>
                  <a:srgbClr val="3365fb"/>
                </a:solidFill>
                <a:latin typeface="Book Antiqua"/>
              </a:rPr>
              <a:t>h2 (&lt;&gt; </a:t>
            </a:r>
            <a:r>
              <a:rPr b="1" lang="en-US" sz="2400" spc="-1" strike="noStrike">
                <a:solidFill>
                  <a:srgbClr val="3333cc"/>
                </a:solidFill>
                <a:latin typeface="Book Antiqua"/>
              </a:rPr>
              <a:t>h</a:t>
            </a:r>
            <a:r>
              <a:rPr b="1" lang="en-US" sz="2400" spc="-1" strike="noStrike">
                <a:solidFill>
                  <a:srgbClr val="3365fb"/>
                </a:solidFill>
                <a:latin typeface="Book Antiqua"/>
              </a:rPr>
              <a:t>!)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. Scan matching partition of S, search for matc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05320" y="3429000"/>
            <a:ext cx="51051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422520" y="3560760"/>
            <a:ext cx="5495040" cy="3030840"/>
            <a:chOff x="3422520" y="3560760"/>
            <a:chExt cx="5495040" cy="3030840"/>
          </a:xfrm>
        </p:grpSpPr>
        <p:sp>
          <p:nvSpPr>
            <p:cNvPr id="153" name=""/>
            <p:cNvSpPr/>
            <p:nvPr/>
          </p:nvSpPr>
          <p:spPr>
            <a:xfrm>
              <a:off x="3447360" y="3560760"/>
              <a:ext cx="1151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rti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f R &amp; 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160240" y="5726160"/>
              <a:ext cx="1131480" cy="4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put buff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or R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219280" y="4008600"/>
              <a:ext cx="22410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ash table for part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i ( &lt; M-1 page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576760" y="5419800"/>
              <a:ext cx="230400" cy="24768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0" y="155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5"/>
                  </a:lnTo>
                  <a:lnTo>
                    <a:pt x="0" y="155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49760" y="5505480"/>
              <a:ext cx="39600" cy="5724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4" y="18"/>
                  </a:moveTo>
                  <a:lnTo>
                    <a:pt x="12" y="0"/>
                  </a:lnTo>
                  <a:lnTo>
                    <a:pt x="0" y="18"/>
                  </a:lnTo>
                  <a:lnTo>
                    <a:pt x="12" y="35"/>
                  </a:lnTo>
                  <a:lnTo>
                    <a:pt x="24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881520" y="5505480"/>
              <a:ext cx="39600" cy="5724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4" y="18"/>
                  </a:moveTo>
                  <a:lnTo>
                    <a:pt x="12" y="0"/>
                  </a:lnTo>
                  <a:lnTo>
                    <a:pt x="0" y="18"/>
                  </a:lnTo>
                  <a:lnTo>
                    <a:pt x="12" y="35"/>
                  </a:lnTo>
                  <a:lnTo>
                    <a:pt x="24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024440" y="5505480"/>
              <a:ext cx="39600" cy="5724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4" y="18"/>
                  </a:moveTo>
                  <a:lnTo>
                    <a:pt x="12" y="0"/>
                  </a:lnTo>
                  <a:lnTo>
                    <a:pt x="0" y="18"/>
                  </a:lnTo>
                  <a:lnTo>
                    <a:pt x="12" y="35"/>
                  </a:lnTo>
                  <a:lnTo>
                    <a:pt x="24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521160" y="4702320"/>
              <a:ext cx="230040" cy="24768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0" y="155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5"/>
                  </a:lnTo>
                  <a:lnTo>
                    <a:pt x="0" y="155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787920" y="4702320"/>
              <a:ext cx="228600" cy="24768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0" y="155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155"/>
                  </a:lnTo>
                  <a:lnTo>
                    <a:pt x="0" y="155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521160" y="5062680"/>
              <a:ext cx="230040" cy="245880"/>
            </a:xfrm>
            <a:custGeom>
              <a:avLst/>
              <a:gdLst/>
              <a:ahLst/>
              <a:rect l="l" t="t" r="r" b="b"/>
              <a:pathLst>
                <a:path w="145" h="155">
                  <a:moveTo>
                    <a:pt x="0" y="154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4"/>
                  </a:lnTo>
                  <a:lnTo>
                    <a:pt x="0" y="154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797280" y="5062680"/>
              <a:ext cx="228600" cy="245880"/>
            </a:xfrm>
            <a:custGeom>
              <a:avLst/>
              <a:gdLst/>
              <a:ahLst/>
              <a:rect l="l" t="t" r="r" b="b"/>
              <a:pathLst>
                <a:path w="144" h="155">
                  <a:moveTo>
                    <a:pt x="0" y="154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154"/>
                  </a:lnTo>
                  <a:lnTo>
                    <a:pt x="0" y="154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43360" y="5824440"/>
              <a:ext cx="228600" cy="246240"/>
            </a:xfrm>
            <a:custGeom>
              <a:avLst/>
              <a:gdLst/>
              <a:ahLst/>
              <a:rect l="l" t="t" r="r" b="b"/>
              <a:pathLst>
                <a:path w="144" h="155">
                  <a:moveTo>
                    <a:pt x="0" y="154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154"/>
                  </a:lnTo>
                  <a:lnTo>
                    <a:pt x="0" y="154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21160" y="5826240"/>
              <a:ext cx="230040" cy="24768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0" y="155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5"/>
                  </a:lnTo>
                  <a:lnTo>
                    <a:pt x="0" y="155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64080" y="4692600"/>
              <a:ext cx="228600" cy="24768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0" y="155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155"/>
                  </a:lnTo>
                  <a:lnTo>
                    <a:pt x="0" y="155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784840" y="4702320"/>
              <a:ext cx="230040" cy="24768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0" y="155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5"/>
                  </a:lnTo>
                  <a:lnTo>
                    <a:pt x="0" y="155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837480" y="4702320"/>
              <a:ext cx="228600" cy="24768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0" y="155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155"/>
                  </a:lnTo>
                  <a:lnTo>
                    <a:pt x="0" y="155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288120" y="4807080"/>
              <a:ext cx="39600" cy="5688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4" y="18"/>
                  </a:moveTo>
                  <a:lnTo>
                    <a:pt x="11" y="0"/>
                  </a:lnTo>
                  <a:lnTo>
                    <a:pt x="0" y="18"/>
                  </a:lnTo>
                  <a:lnTo>
                    <a:pt x="11" y="35"/>
                  </a:lnTo>
                  <a:lnTo>
                    <a:pt x="24" y="18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421320" y="4807080"/>
              <a:ext cx="38160" cy="56880"/>
            </a:xfrm>
            <a:custGeom>
              <a:avLst/>
              <a:gdLst/>
              <a:ahLst/>
              <a:rect l="l" t="t" r="r" b="b"/>
              <a:pathLst>
                <a:path w="24" h="36">
                  <a:moveTo>
                    <a:pt x="23" y="18"/>
                  </a:moveTo>
                  <a:lnTo>
                    <a:pt x="11" y="0"/>
                  </a:lnTo>
                  <a:lnTo>
                    <a:pt x="0" y="18"/>
                  </a:lnTo>
                  <a:lnTo>
                    <a:pt x="11" y="35"/>
                  </a:lnTo>
                  <a:lnTo>
                    <a:pt x="23" y="18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562800" y="4807080"/>
              <a:ext cx="39600" cy="5688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4" y="18"/>
                  </a:moveTo>
                  <a:lnTo>
                    <a:pt x="11" y="0"/>
                  </a:lnTo>
                  <a:lnTo>
                    <a:pt x="0" y="18"/>
                  </a:lnTo>
                  <a:lnTo>
                    <a:pt x="11" y="35"/>
                  </a:lnTo>
                  <a:lnTo>
                    <a:pt x="24" y="18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410080" y="4648320"/>
              <a:ext cx="1749600" cy="366480"/>
            </a:xfrm>
            <a:custGeom>
              <a:avLst/>
              <a:gdLst/>
              <a:ahLst/>
              <a:rect l="l" t="t" r="r" b="b"/>
              <a:pathLst>
                <a:path w="1102" h="231">
                  <a:moveTo>
                    <a:pt x="0" y="230"/>
                  </a:moveTo>
                  <a:lnTo>
                    <a:pt x="0" y="0"/>
                  </a:lnTo>
                  <a:lnTo>
                    <a:pt x="1101" y="0"/>
                  </a:lnTo>
                  <a:lnTo>
                    <a:pt x="1101" y="230"/>
                  </a:lnTo>
                  <a:lnTo>
                    <a:pt x="0" y="23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770520" y="5419800"/>
              <a:ext cx="230400" cy="24768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0" y="155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5"/>
                  </a:lnTo>
                  <a:lnTo>
                    <a:pt x="0" y="155"/>
                  </a:lnTo>
                </a:path>
              </a:pathLst>
            </a:custGeom>
            <a:solidFill>
              <a:srgbClr val="00cc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122800" y="3962520"/>
              <a:ext cx="2422440" cy="2211120"/>
            </a:xfrm>
            <a:custGeom>
              <a:avLst/>
              <a:gdLst/>
              <a:ahLst/>
              <a:rect l="l" t="t" r="r" b="b"/>
              <a:pathLst>
                <a:path w="1526" h="1393">
                  <a:moveTo>
                    <a:pt x="0" y="1392"/>
                  </a:moveTo>
                  <a:lnTo>
                    <a:pt x="0" y="0"/>
                  </a:lnTo>
                  <a:lnTo>
                    <a:pt x="1525" y="0"/>
                  </a:lnTo>
                  <a:lnTo>
                    <a:pt x="1525" y="1392"/>
                  </a:lnTo>
                  <a:lnTo>
                    <a:pt x="0" y="13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8088480" y="4552920"/>
              <a:ext cx="312480" cy="1368360"/>
              <a:chOff x="8088480" y="4552920"/>
              <a:chExt cx="312480" cy="1368360"/>
            </a:xfrm>
          </p:grpSpPr>
          <p:sp>
            <p:nvSpPr>
              <p:cNvPr id="176" name=""/>
              <p:cNvSpPr/>
              <p:nvPr/>
            </p:nvSpPr>
            <p:spPr>
              <a:xfrm>
                <a:off x="8088480" y="5391000"/>
                <a:ext cx="39600" cy="59040"/>
              </a:xfrm>
              <a:custGeom>
                <a:avLst/>
                <a:gdLst/>
                <a:ahLst/>
                <a:rect l="l" t="t" r="r" b="b"/>
                <a:pathLst>
                  <a:path w="25" h="37">
                    <a:moveTo>
                      <a:pt x="24" y="18"/>
                    </a:moveTo>
                    <a:lnTo>
                      <a:pt x="12" y="0"/>
                    </a:lnTo>
                    <a:lnTo>
                      <a:pt x="0" y="18"/>
                    </a:lnTo>
                    <a:lnTo>
                      <a:pt x="12" y="36"/>
                    </a:lnTo>
                    <a:lnTo>
                      <a:pt x="24" y="18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220240" y="5391000"/>
                <a:ext cx="39600" cy="59040"/>
              </a:xfrm>
              <a:custGeom>
                <a:avLst/>
                <a:gdLst/>
                <a:ahLst/>
                <a:rect l="l" t="t" r="r" b="b"/>
                <a:pathLst>
                  <a:path w="25" h="37">
                    <a:moveTo>
                      <a:pt x="24" y="18"/>
                    </a:moveTo>
                    <a:lnTo>
                      <a:pt x="12" y="0"/>
                    </a:lnTo>
                    <a:lnTo>
                      <a:pt x="0" y="18"/>
                    </a:lnTo>
                    <a:lnTo>
                      <a:pt x="12" y="36"/>
                    </a:lnTo>
                    <a:lnTo>
                      <a:pt x="24" y="18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362800" y="5391000"/>
                <a:ext cx="38160" cy="59040"/>
              </a:xfrm>
              <a:custGeom>
                <a:avLst/>
                <a:gdLst/>
                <a:ahLst/>
                <a:rect l="l" t="t" r="r" b="b"/>
                <a:pathLst>
                  <a:path w="24" h="37">
                    <a:moveTo>
                      <a:pt x="23" y="18"/>
                    </a:moveTo>
                    <a:lnTo>
                      <a:pt x="12" y="0"/>
                    </a:lnTo>
                    <a:lnTo>
                      <a:pt x="0" y="18"/>
                    </a:lnTo>
                    <a:lnTo>
                      <a:pt x="12" y="36"/>
                    </a:lnTo>
                    <a:lnTo>
                      <a:pt x="23" y="18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145360" y="4552920"/>
                <a:ext cx="228600" cy="246240"/>
              </a:xfrm>
              <a:custGeom>
                <a:avLst/>
                <a:gdLst/>
                <a:ahLst/>
                <a:rect l="l" t="t" r="r" b="b"/>
                <a:pathLst>
                  <a:path w="144" h="155">
                    <a:moveTo>
                      <a:pt x="0" y="154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43" y="154"/>
                    </a:lnTo>
                    <a:lnTo>
                      <a:pt x="0" y="154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8145360" y="4910040"/>
                <a:ext cx="228600" cy="247680"/>
              </a:xfrm>
              <a:custGeom>
                <a:avLst/>
                <a:gdLst/>
                <a:ahLst/>
                <a:rect l="l" t="t" r="r" b="b"/>
                <a:pathLst>
                  <a:path w="144" h="156">
                    <a:moveTo>
                      <a:pt x="0" y="155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43" y="155"/>
                    </a:lnTo>
                    <a:lnTo>
                      <a:pt x="0" y="155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145360" y="5675400"/>
                <a:ext cx="228600" cy="245880"/>
              </a:xfrm>
              <a:custGeom>
                <a:avLst/>
                <a:gdLst/>
                <a:ahLst/>
                <a:rect l="l" t="t" r="r" b="b"/>
                <a:pathLst>
                  <a:path w="144" h="155">
                    <a:moveTo>
                      <a:pt x="0" y="154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43" y="154"/>
                    </a:lnTo>
                    <a:lnTo>
                      <a:pt x="0" y="154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5074920" y="6167520"/>
              <a:ext cx="2518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 main memory buff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86040" y="622476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555600" y="5634000"/>
              <a:ext cx="7840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utput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uff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939080" y="616752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633800" y="3738600"/>
              <a:ext cx="1283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Join Resul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501440" y="4300560"/>
              <a:ext cx="591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as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548240" y="4510080"/>
              <a:ext cx="365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f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556160" y="4716360"/>
              <a:ext cx="425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5fb"/>
                  </a:solidFill>
                  <a:latin typeface="Times New Roman"/>
                </a:rPr>
                <a:t>h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952240" y="5186520"/>
              <a:ext cx="399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65fb"/>
                  </a:solidFill>
                  <a:latin typeface="Times New Roman"/>
                </a:rPr>
                <a:t>h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3422520" y="4197240"/>
              <a:ext cx="1073160" cy="2027160"/>
              <a:chOff x="3422520" y="4197240"/>
              <a:chExt cx="1073160" cy="2027160"/>
            </a:xfrm>
          </p:grpSpPr>
          <p:sp>
            <p:nvSpPr>
              <p:cNvPr id="192" name=""/>
              <p:cNvSpPr/>
              <p:nvPr/>
            </p:nvSpPr>
            <p:spPr>
              <a:xfrm>
                <a:off x="3436920" y="4197240"/>
                <a:ext cx="1052640" cy="139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430440" y="426708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495680" y="426708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422520" y="5983560"/>
                <a:ext cx="1064880" cy="240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15"/>
                    </a:moveTo>
                    <a:arcTo wR="10800" hR="10800" stAng="-90852" swAng="1089085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15"/>
                    </a:moveTo>
                    <a:arcTo wR="10800" hR="10800" stAng="-90852" swAng="1089085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7842240" y="4273560"/>
              <a:ext cx="844560" cy="1875960"/>
              <a:chOff x="7842240" y="4273560"/>
              <a:chExt cx="844560" cy="1875960"/>
            </a:xfrm>
          </p:grpSpPr>
          <p:sp>
            <p:nvSpPr>
              <p:cNvPr id="197" name=""/>
              <p:cNvSpPr/>
              <p:nvPr/>
            </p:nvSpPr>
            <p:spPr>
              <a:xfrm>
                <a:off x="7854840" y="4273560"/>
                <a:ext cx="825480" cy="128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848720" y="4336920"/>
                <a:ext cx="0" cy="169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686800" y="4336920"/>
                <a:ext cx="0" cy="169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842240" y="5924520"/>
                <a:ext cx="837720" cy="22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493"/>
                    </a:moveTo>
                    <a:arcTo wR="10800" hR="10800" stAng="-97869" swAng="1094662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493"/>
                    </a:moveTo>
                    <a:arcTo wR="10800" hR="10800" stAng="-97869" swAng="10946628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4495680" y="50292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495680" y="5562720"/>
              <a:ext cx="106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15000" y="5029200"/>
              <a:ext cx="306360" cy="458640"/>
            </a:xfrm>
            <a:custGeom>
              <a:avLst/>
              <a:gdLst/>
              <a:ahLst/>
              <a:rect l="l" t="t" r="r" b="b"/>
              <a:pathLst>
                <a:path w="193" h="289">
                  <a:moveTo>
                    <a:pt x="0" y="288"/>
                  </a:moveTo>
                  <a:lnTo>
                    <a:pt x="192" y="173"/>
                  </a:lnTo>
                  <a:lnTo>
                    <a:pt x="188" y="145"/>
                  </a:lnTo>
                  <a:lnTo>
                    <a:pt x="0" y="115"/>
                  </a:lnTo>
                  <a:lnTo>
                    <a:pt x="19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010280" y="5562720"/>
              <a:ext cx="83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33680" y="328680"/>
            <a:ext cx="5726880" cy="2971800"/>
            <a:chOff x="3433680" y="328680"/>
            <a:chExt cx="5726880" cy="2971800"/>
          </a:xfrm>
        </p:grpSpPr>
        <p:sp>
          <p:nvSpPr>
            <p:cNvPr id="206" name=""/>
            <p:cNvSpPr/>
            <p:nvPr/>
          </p:nvSpPr>
          <p:spPr>
            <a:xfrm>
              <a:off x="4659120" y="2909880"/>
              <a:ext cx="2518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 main memory buff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794720" y="293220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678120" y="293364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433680" y="328680"/>
              <a:ext cx="1070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rigina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216480" y="631800"/>
              <a:ext cx="925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001000" y="2206800"/>
              <a:ext cx="42840" cy="633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4" y="0"/>
                  </a:lnTo>
                  <a:lnTo>
                    <a:pt x="0" y="20"/>
                  </a:lnTo>
                  <a:lnTo>
                    <a:pt x="14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156520" y="2206800"/>
              <a:ext cx="42840" cy="633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4" y="0"/>
                  </a:lnTo>
                  <a:lnTo>
                    <a:pt x="0" y="20"/>
                  </a:lnTo>
                  <a:lnTo>
                    <a:pt x="14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495680" y="609480"/>
              <a:ext cx="2671920" cy="2289240"/>
            </a:xfrm>
            <a:custGeom>
              <a:avLst/>
              <a:gdLst/>
              <a:ahLst/>
              <a:rect l="l" t="t" r="r" b="b"/>
              <a:pathLst>
                <a:path w="1683" h="1442">
                  <a:moveTo>
                    <a:pt x="0" y="1441"/>
                  </a:moveTo>
                  <a:lnTo>
                    <a:pt x="0" y="0"/>
                  </a:lnTo>
                  <a:lnTo>
                    <a:pt x="1682" y="0"/>
                  </a:lnTo>
                  <a:lnTo>
                    <a:pt x="1682" y="1441"/>
                  </a:lnTo>
                  <a:lnTo>
                    <a:pt x="0" y="144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848120" y="1928880"/>
              <a:ext cx="335160" cy="269640"/>
            </a:xfrm>
            <a:custGeom>
              <a:avLst/>
              <a:gdLst/>
              <a:ahLst/>
              <a:rect l="l" t="t" r="r" b="b"/>
              <a:pathLst>
                <a:path w="211" h="170">
                  <a:moveTo>
                    <a:pt x="0" y="169"/>
                  </a:moveTo>
                  <a:lnTo>
                    <a:pt x="0" y="0"/>
                  </a:lnTo>
                  <a:lnTo>
                    <a:pt x="210" y="0"/>
                  </a:lnTo>
                  <a:lnTo>
                    <a:pt x="210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6600960" y="2120760"/>
              <a:ext cx="334800" cy="90720"/>
              <a:chOff x="6600960" y="2120760"/>
              <a:chExt cx="334800" cy="90720"/>
            </a:xfrm>
          </p:grpSpPr>
          <p:sp>
            <p:nvSpPr>
              <p:cNvPr id="216" name=""/>
              <p:cNvSpPr/>
              <p:nvPr/>
            </p:nvSpPr>
            <p:spPr>
              <a:xfrm>
                <a:off x="6600960" y="2120760"/>
                <a:ext cx="42840" cy="63720"/>
              </a:xfrm>
              <a:custGeom>
                <a:avLst/>
                <a:gdLst/>
                <a:ahLst/>
                <a:rect l="l" t="t" r="r" b="b"/>
                <a:pathLst>
                  <a:path w="27" h="40">
                    <a:moveTo>
                      <a:pt x="26" y="19"/>
                    </a:moveTo>
                    <a:lnTo>
                      <a:pt x="13" y="0"/>
                    </a:lnTo>
                    <a:lnTo>
                      <a:pt x="0" y="19"/>
                    </a:lnTo>
                    <a:lnTo>
                      <a:pt x="13" y="39"/>
                    </a:lnTo>
                    <a:lnTo>
                      <a:pt x="26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745320" y="2120760"/>
                <a:ext cx="42840" cy="63720"/>
              </a:xfrm>
              <a:custGeom>
                <a:avLst/>
                <a:gdLst/>
                <a:ahLst/>
                <a:rect l="l" t="t" r="r" b="b"/>
                <a:pathLst>
                  <a:path w="27" h="40">
                    <a:moveTo>
                      <a:pt x="26" y="19"/>
                    </a:moveTo>
                    <a:lnTo>
                      <a:pt x="13" y="0"/>
                    </a:lnTo>
                    <a:lnTo>
                      <a:pt x="0" y="19"/>
                    </a:lnTo>
                    <a:lnTo>
                      <a:pt x="13" y="39"/>
                    </a:lnTo>
                    <a:lnTo>
                      <a:pt x="26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900840" y="2120760"/>
                <a:ext cx="34920" cy="90720"/>
              </a:xfrm>
              <a:custGeom>
                <a:avLst/>
                <a:gdLst/>
                <a:ahLst/>
                <a:rect l="l" t="t" r="r" b="b"/>
                <a:pathLst>
                  <a:path w="22" h="57">
                    <a:moveTo>
                      <a:pt x="21" y="27"/>
                    </a:moveTo>
                    <a:lnTo>
                      <a:pt x="11" y="0"/>
                    </a:lnTo>
                    <a:lnTo>
                      <a:pt x="0" y="27"/>
                    </a:lnTo>
                    <a:lnTo>
                      <a:pt x="11" y="56"/>
                    </a:lnTo>
                    <a:lnTo>
                      <a:pt x="21" y="2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9" name=""/>
            <p:cNvSpPr/>
            <p:nvPr/>
          </p:nvSpPr>
          <p:spPr>
            <a:xfrm>
              <a:off x="7608960" y="1255680"/>
              <a:ext cx="250920" cy="27000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899480" y="1255680"/>
              <a:ext cx="249120" cy="27000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608960" y="1722600"/>
              <a:ext cx="250920" cy="26964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908840" y="1722600"/>
              <a:ext cx="249480" cy="26964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58080" y="2206800"/>
              <a:ext cx="42840" cy="633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3" y="0"/>
                  </a:lnTo>
                  <a:lnTo>
                    <a:pt x="0" y="20"/>
                  </a:lnTo>
                  <a:lnTo>
                    <a:pt x="13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209080" y="1722600"/>
              <a:ext cx="249120" cy="26964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587280" y="144468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608960" y="2557440"/>
              <a:ext cx="250920" cy="27000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553080" y="2514600"/>
              <a:ext cx="422280" cy="28728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614120" y="1514520"/>
              <a:ext cx="738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587280" y="89676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187240" y="1760400"/>
              <a:ext cx="82044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has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un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491880" y="2230560"/>
              <a:ext cx="502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455600" y="620640"/>
              <a:ext cx="1151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rti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610120" y="1231920"/>
              <a:ext cx="29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600760" y="1655640"/>
              <a:ext cx="29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568720" y="2448000"/>
              <a:ext cx="591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3498840" y="996840"/>
              <a:ext cx="920880" cy="1952280"/>
              <a:chOff x="3498840" y="996840"/>
              <a:chExt cx="920880" cy="1952280"/>
            </a:xfrm>
          </p:grpSpPr>
          <p:sp>
            <p:nvSpPr>
              <p:cNvPr id="237" name=""/>
              <p:cNvSpPr/>
              <p:nvPr/>
            </p:nvSpPr>
            <p:spPr>
              <a:xfrm>
                <a:off x="3513240" y="996840"/>
                <a:ext cx="900000" cy="135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506760" y="1063800"/>
                <a:ext cx="0" cy="176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419720" y="1063800"/>
                <a:ext cx="0" cy="176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498840" y="2714760"/>
                <a:ext cx="912600" cy="234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05"/>
                    </a:moveTo>
                    <a:arcTo wR="10800" hR="10800" stAng="-94011" swAng="1094069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05"/>
                    </a:moveTo>
                    <a:arcTo wR="10800" hR="10800" stAng="-94011" swAng="1094069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3816360" y="1225440"/>
              <a:ext cx="291960" cy="29232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816360" y="1682640"/>
              <a:ext cx="291960" cy="29232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816360" y="2444760"/>
              <a:ext cx="291960" cy="29196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613320" y="1876320"/>
              <a:ext cx="742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Book Antiqua"/>
                </a:rPr>
                <a:t>. . 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7537320" y="996840"/>
              <a:ext cx="1073160" cy="1974600"/>
              <a:chOff x="7537320" y="996840"/>
              <a:chExt cx="1073160" cy="1974600"/>
            </a:xfrm>
          </p:grpSpPr>
          <p:sp>
            <p:nvSpPr>
              <p:cNvPr id="246" name=""/>
              <p:cNvSpPr/>
              <p:nvPr/>
            </p:nvSpPr>
            <p:spPr>
              <a:xfrm>
                <a:off x="7551720" y="996840"/>
                <a:ext cx="1052640" cy="136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545240" y="1065240"/>
                <a:ext cx="0" cy="17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8610480" y="1065240"/>
                <a:ext cx="0" cy="17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537320" y="2737080"/>
                <a:ext cx="1064880" cy="234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07"/>
                    </a:moveTo>
                    <a:arcTo wR="10800" hR="10800" stAng="-93306" swAng="1089330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07"/>
                    </a:moveTo>
                    <a:arcTo wR="10800" hR="10800" stAng="-93306" swAng="10893306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419720" y="20574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6019920" y="1447560"/>
              <a:ext cx="53316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6019920" y="1904760"/>
              <a:ext cx="5331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019920" y="2057400"/>
              <a:ext cx="53316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010280" y="1371600"/>
              <a:ext cx="60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010280" y="1828800"/>
              <a:ext cx="60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010280" y="2666880"/>
              <a:ext cx="60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553080" y="1676520"/>
              <a:ext cx="422280" cy="28728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553080" y="1143000"/>
              <a:ext cx="422280" cy="28728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0" y="403848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FF8E-9D2F-4364-831B-07557B380BC1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tioned Hash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3B(R) + 3B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min(B(R), B(S)) 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9C38-DC75-45AE-9342-2CA0826E684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brid Hash Join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tion S into k buc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keep first bucket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memory, k-1 buckets to d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tion R into k buc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bucket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joined immediately with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k-1 buckets go to d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ly, join k-1 pairs of bucke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(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…, (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49E2-3A45-4648-A44C-53FE7FA32B8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y execution: 15.1 – 15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3E6E-CE8E-4B6D-B2E8-487298FCF2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brid Join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big should we choose k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erage bucket size for S is B(S)/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fit B(S)/k + (k-1) blocks in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(S)/k + (k-1) &lt;=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 slightly smaller than B(S)/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1E45-0A48-412F-8612-5B965878EED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brid Join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many I/O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all: cost of partitioned hash jo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B(R) + 3B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save 2 disk operations for one buc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all there are k buc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we save 2/k(B(R) + B(S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(3-2/k)(B(R) + B(S)) =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(3-2M/B(S))(B(R) + B(S)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61D7-7E4D-4755-A72B-29ABF3DC7CB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brid Join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stion in class: what is the real advantage of the hybrid algorithm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31A5-A000-4CA1-9C38-6661BD21CCB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ed 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 that in a clustered index all tuples with the same value of the key are clustered on as few blocks as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book uses another term: “clustering index”.  Difference is minor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2139120" y="3965760"/>
            <a:ext cx="4113000" cy="459720"/>
            <a:chOff x="2139120" y="3965760"/>
            <a:chExt cx="4113000" cy="459720"/>
          </a:xfrm>
        </p:grpSpPr>
        <p:sp>
          <p:nvSpPr>
            <p:cNvPr id="273" name=""/>
            <p:cNvSpPr/>
            <p:nvPr/>
          </p:nvSpPr>
          <p:spPr>
            <a:xfrm>
              <a:off x="2139120" y="3965760"/>
              <a:ext cx="11210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a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43200" y="3965760"/>
              <a:ext cx="11638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a a a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190480" y="3965760"/>
              <a:ext cx="10616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a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7450-803A-4E0E-AC6A-567D39E84D0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Based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on on equality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=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ustered index on a:  cost B(R)/V(R,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clustered index on a: cost T(R)/V(R,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CE2C-4954-484F-B415-0646AAD9ED0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Based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B(R) = 2000,  T(R) = 100,000, V(R, a) = 20, compute the cost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=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of table sca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R is clustered: B(R) = 2000 I/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R is unclustered: T(R) = 100,000 I/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of index based sele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index is clustered: B(R)/V(R,a) =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index is unclustered: T(R)/V(R,a) = 5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ice: when V(R,a) is small, then unclustered index is use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7F66-07F5-4DAE-B8FF-C292C76057B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Based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S has an index on the join at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rate over R, for each tuple fetch corresponding tuple(s) from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R is clustered. Co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index is clustered:  B(R) + T(R)B(S)/V(S,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index is unclustered: B(R) + T(R)T(S)/V(S,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3C5E-C32F-4A60-8586-1CBF3F7AF8C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Based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both R and S have a sorted index (B+ tree) on the join at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perform a merge join (called zig-zag jo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B(R) + B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6975-DA27-4C00-8D62-0C995D05DE3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in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(Product), B(Company) are la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join method would you us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 bozo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.s. 100…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 coo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ni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.s. 100…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07120" y="3200400"/>
            <a:ext cx="537588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Product.name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Company.cit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   Product, Compan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Product.maker = Company.nam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and Product.category = ‘bozo’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Company.rating = ‘cool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28A6-A6A9-403A-BDD7-1B9E573AC20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: multi-way merge sort needs only two passes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B(R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for sorting: 3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7C75-AFE0-4F4C-A108-3CEB2B8B5B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plicate eliminatio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vial idea: sort first, then eliminate duplic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1: sort chunks of size M, wr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 2B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2: merge M-1 runs, but include each tuple only o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 B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cost: 3B(R), Assumption: B(R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A0F3-8F5A-43DB-8DFA-17187ECCCD0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, sum(b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as before: sort, then compute the sum(b) for each group of a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cost: 3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B(R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C410-477D-4A02-8AF3-76A8CD727D2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18080" y="2133720"/>
            <a:ext cx="108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∪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13840" y="1828800"/>
            <a:ext cx="3875040" cy="448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first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first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(_______________) d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   case x &lt; y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output(x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x = next(R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case x=y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case x &gt; y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8280" y="3881520"/>
            <a:ext cx="190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la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11AF-2367-4471-8522-CAC8CF46542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38960" y="2133720"/>
            <a:ext cx="10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13840" y="1828800"/>
            <a:ext cx="3875040" cy="448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first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first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(_______________) d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   case x &lt; y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x=y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case x &gt; y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8280" y="3881520"/>
            <a:ext cx="190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la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8DCA-FC1A-495D-9EC4-92045DE9FF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9200" y="2128680"/>
            <a:ext cx="91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8280" y="3881520"/>
            <a:ext cx="190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la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22000" y="1828800"/>
            <a:ext cx="3875040" cy="484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first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first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(_______________) d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   case x &lt; y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x=y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case x &gt; y;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D1C0-2A59-452C-B5CE-25ED18B6308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operations: 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∪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, 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, R –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: sort R, sort S, then do the right 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loser loo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: split R into runs of size M, then split S into runs of size M.  Cost: 2B(R) + 2B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: merge M/2 runs from R; merge M/2 runs from S; ouput a tuple on a case by cases b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cost: 3B(R)+3B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ption: B(R)+B(S)&lt;=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A8D5-74E1-4622-B38B-9036B41943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uw</cp:lastModifiedBy>
  <dcterms:modified xsi:type="dcterms:W3CDTF">2002-11-22T08:18:37Z</dcterms:modified>
  <cp:revision>295</cp:revision>
  <dc:subject/>
  <dc:title>Lecture 09:</dc:title>
</cp:coreProperties>
</file>