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412A1D-C2FC-4EBE-ADBC-D2F3A09D3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297827-4A04-4C6C-8F33-F757A12C0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286-572A-488F-8FBE-5D4A2DC6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B15-EC3B-4C3C-A427-5C86FB97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D99-4A41-4B52-A132-F5E0672B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20D-A924-4BEB-AE72-EBB12538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134-BED0-45B3-9B4E-B184B15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FDF-8BF2-48CE-ADF6-12B3F56F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CB8-B924-436B-BC8A-41344C7D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505-398D-412F-85C9-E1B4F250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153-895F-4C1A-8000-1E4CD80B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945-CCC6-4AF3-92C5-868F0A02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7D5-381A-496C-8573-45F26F10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E11-7487-42BB-9244-64801DEE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A4FB-C16C-4EEB-8AE6-D05A902EB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22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E73-16FA-4C9D-9482-F2D705E78F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29680" y="2133720"/>
            <a:ext cx="184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R.A =S.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384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.A &lt; y.B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.A=y.B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.A &gt; y.B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640" y="133668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C),  S(B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886-64F4-4A45-9A78-9E83753C89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76F-4332-4671-9C95-5AE092A21C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148-2F95-44BE-807F-B556F42C55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84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94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5020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7424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5020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984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115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1988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124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758-F7AD-4A7D-A416-53A4798A7C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3AF-8602-45D5-A1D4-CB31883D53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CCE-D185-4E68-8477-58F5C653A3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F79-AACC-48C0-872A-237C050FFB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153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1928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176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192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197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206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216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37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1332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46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B84-930C-4AA5-B5F9-25A02ADE50A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62F-CE84-4C78-817D-E3E2282736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keep first bucke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emory, k-1 buckets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bucket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joined immediately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k-1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1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DD0-0BE1-4BB0-8CE3-F131AD198E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05F-4DF6-403B-BB01-4E5612E309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big should we choose 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ucket size for S is B(S)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t B(S)/k + (k-1) block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S)/k + (k-1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slightly smaller than B(S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9A0-8CF3-4498-ADC1-3F4BA6EFCB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: cost of 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save 2 disk operations for one bu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re are k 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we save 2/k(B(R) + B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(3-2/k)(B(R) + B(S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3-2M/B(S))(B(R) + B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54C-9BF4-4B29-92B1-C25B95D665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at is the real advantage of the hybrid algorith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714-6E93-444F-BF31-051BAF5AD2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273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C22-9D75-4911-8540-DDEC2D4878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7BE-1BC6-4E8A-A4A7-1F6DDA7FB4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(R) = 2000,  T(R) = 100,000, V(R, a) = 20, compute the 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table s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clustered: B(R) = 2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unclustered: T(R) = 100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when V(R,a) is small, then unclustered index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F1A-ADA1-4B9C-86AE-FEF75084ED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705-7B1A-4CAD-B5D2-B671F79722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(called zig-zag 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2BA-7AD7-495F-AA45-13869354FD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(Product), B(Company) are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join method would you u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boz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.s. 100…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coo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.s. 100…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7120" y="3200400"/>
            <a:ext cx="5375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Company.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, 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maker = Company.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and Product.category = ‘bozo’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Company.rating = ‘coo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C54-3FE3-4EA0-A312-82273298FE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multi-way merge sort needs only two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0DA-A725-496D-9CB0-40AA1577D3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5DA-679E-4FE6-BB50-809AED9802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463-EC24-43B8-AC7E-549F8B7071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18080" y="2133720"/>
            <a:ext cx="10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1384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output(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x = next(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25F-514A-47C9-BF42-F38F71816A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38960" y="21337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1384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D2B-638D-48A9-B83C-EEB9B9E268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9200" y="212868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2200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DEA-F55D-4E8B-B2AB-681F707442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5CB-91EB-4F67-AB51-F620340904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1-22T08:18:37Z</dcterms:modified>
  <cp:revision>295</cp:revision>
  <dc:subject/>
  <dc:title>Lecture 09:</dc:title>
</cp:coreProperties>
</file>