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C7BEF8-D897-4111-8530-255057EAE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F01252-CC1E-4C5C-855A-9EFC787C5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390-384A-4469-9383-74CE3F51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00A-30F4-4E99-A983-64DF0622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7A9-E94C-4D16-A2F1-915528E3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9DC-BB14-45BE-B69E-6EB0ADCB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BFE-2F6D-4554-BE80-14778F97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FB3-6182-4657-B04A-3D15C342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292-19AF-43FC-A42E-E7C5F11B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9CF-2869-4D9E-BD4F-3D792842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4DE-5F07-4275-BBAB-73A26F59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DD3-5400-40DD-8B9B-0CA3AE3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188-D937-4862-A6F2-FD2D713F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EAD-10D1-439F-B0ED-3CEBAD0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0AF6-5C70-4B09-9280-E331F24BA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9E9-3DB0-4D56-AE21-C3DFCDB441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_________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8640" y="1676520"/>
            <a:ext cx="20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04A-71CC-49DE-BD1A-2D6AEE3D46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T(R) T(S),  sometimes T(R)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E41-1D11-4C73-8EA0-248B389E2F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4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1C3-7C65-41D0-BD61-AB1460EB78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80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1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D6C-24DC-4A3B-A12D-E9850FBD3B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82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9724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816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51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k &lt; B-1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7012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34200" y="2979720"/>
            <a:ext cx="858600" cy="2026440"/>
            <a:chOff x="6334200" y="2979720"/>
            <a:chExt cx="858600" cy="2026440"/>
          </a:xfrm>
        </p:grpSpPr>
        <p:grpSp>
          <p:nvGrpSpPr>
            <p:cNvPr id="107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5012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00192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A8F-BDCA-4232-9DC5-4802A89DA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1) times, and each time need to read R: costs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27C-B5F8-464E-8A56-A800008D8F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7CE-D4AB-48E0-8F5F-1651A610F5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92B-2C7E-4D0B-9E1A-A7DBBE271D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152-91DF-42C5-88AF-60E2C3034C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CEE-5815-4B64-BCB8-AC26EA3C2E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66E-D342-4007-A80E-0B000A0970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427-D07C-4109-AF37-C95F9DEC7C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2CA-078E-4B88-9FF1-2CD0DB0C36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134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144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165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3A7-3287-49E4-B9F4-9C78D1C509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427-9491-4969-A9C4-D1726C041B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C11-967F-4277-913A-C498040A0F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F0F-C883-476A-8067-E62583D348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03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226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242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247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256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66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96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E0D-2782-42F6-907C-FA7AB907E6F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3D9-657C-44F2-B0D5-1FE9A7E48F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D33-5109-4D05-8B53-293C5A02DB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small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571-B808-4AF1-AB2B-9210901898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C29-F76D-4D55-9127-26D599FD44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2D9-4294-4D97-A0FC-AA04A09A2F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321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A71-3D93-445F-A780-2321375874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6AE-091D-4EF9-AB02-3649F11575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(R) = 2000,  T(R) = 100,000, V(R, a) = 20, compute the 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4FA-EB65-4893-AE1C-81F0B64C0D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011-3C5E-46D2-910D-779B642214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(called zig-zag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EB0-25FF-4D60-8D8E-896778D018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72F-CED8-4E1E-89B8-168089A5EE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725-77E7-4998-A8EB-2D1AE3B642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a’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b) for each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citie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744-CF63-4C89-99CC-F70313ABB5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F1D-BA7B-4A12-AB5E-855CD67D1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_________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0640" y="167652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63D-1AC1-4086-9878-9A07C00210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_________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" y="1676520"/>
            <a:ext cx="198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9ED-25C7-49E9-8F35-6F9D16B00D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1-20T05:08:56Z</dcterms:modified>
  <cp:revision>281</cp:revision>
  <dc:subject/>
  <dc:title>Lecture 09:</dc:title>
</cp:coreProperties>
</file>