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EE6F3D-25E4-491B-9696-0D38F888F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B80C6D-6BE1-4F66-82F8-14EBEBFF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A71-295E-42F6-AC90-6704DE4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762-4E1B-4512-A8A1-93C37E3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6F7-B2B5-40B7-B76A-DF68CD20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A91-8CDF-420D-9179-4445465E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6D9-B657-44DD-813D-A4A45E0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AD4-0586-4B5B-9483-33A5F9AE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DBD-8CD9-42FB-8923-A828A3D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7A1-6FA3-4E9D-8F7B-687CEC91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236-DBF5-4D76-BACA-1C50FF90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5C7-D9D7-4B59-A8AD-CB02563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578-703C-4E97-B199-E6E5CB0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9AC-8892-4A3E-A48C-64A9420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3578-6EA2-4FDB-84AE-A364DB1E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72C-A17B-429D-AE80-24110485C2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_________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8640" y="167652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84E-93CD-4213-A3BF-908D490F6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T(R) T(S),  sometimes T(R)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D84-923F-4F27-AACF-89BD9D6AB9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4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374-7121-47DF-B0D9-46BD465657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1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A6E-49E7-45A2-B9A5-33B2A7729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82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107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4F5-87E0-4170-B57E-37AF2D9100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1) times, and each time need to read R: costs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DC0-9EE2-472D-B982-BBFEEAA42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5EF-DB46-43D3-AA96-ECF3CFC0CE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219-A50F-4D7B-8113-FF0A9E8E13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944-7879-4904-8E32-B0648F021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D06-52B8-45B4-87F9-90C1E1F198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57A-B4BB-4800-A9F8-AEA1070D8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F27-9AB7-4E4C-9B28-E36A96B685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0FE-A8CC-4E49-BC5A-FC972FCF69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134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144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65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DDA-3C51-4142-AFCF-503638AA71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AE2-D0A3-465B-BC41-46D4E489A3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A2C-DA02-4C9A-93A0-DECAD3556B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F5C-501F-4099-9343-33D72F9801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03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26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242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247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56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66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96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6C9-99C3-40CC-9DDA-6090727FF0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B2D-7B7A-4D28-9E7C-82660A4D98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595-0A32-4086-81B2-71DFD8213F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3EF-CA39-447E-8FDC-B823262068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B4E-3415-4103-A26C-D58F27EEA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829-53CE-4D62-8166-01B89FD22A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321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AB1-D0D7-4DB0-883E-577063F14E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8C8-E6AA-4102-B9E9-58B9B5BC5E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999-CF9D-4AC0-BA83-4F9D1A0B55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857-9FF2-4225-8BBA-048A25987D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B27-4212-4B14-B977-D02ADDD45B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867-BBCB-419E-9CE0-7644F194A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266-1FBE-4B71-947C-A48DA538E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a’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b) for each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citie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8DE-1570-4A7E-92A2-E0478B27B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C40-2846-464F-93EF-BA40FF7DA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_________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640" y="167652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634-9314-4800-8AA2-91FB868D34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_________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" y="1676520"/>
            <a:ext cx="19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1F4-07E3-4D21-9D8D-16D0C4083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1-20T05:08:56Z</dcterms:modified>
  <cp:revision>281</cp:revision>
  <dc:subject/>
  <dc:title>Lecture 09:</dc:title>
</cp:coreProperties>
</file>