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501-18A0-4F67-850D-4F07054E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444-09BA-4399-BC49-604AA212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202-7D5D-47D9-A515-EDF75715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4DE-DD01-4233-92C2-1E3D6BD8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0D5-AD97-48FF-B93B-9B6DE04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B2D-1F9B-4B4D-BCD8-092BAA2A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05D-D64F-426C-A8B3-6A498F3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68A-B84D-4CAE-84FD-930B20A8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9BA-F79F-46A9-9879-B83CAD4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16B-1A06-4D45-A531-ED06F52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F19-F7CD-468F-A8FC-E799A236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F2B-5CF6-4E43-B618-E1B241C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5A1-A2F1-4826-A889-90FC34EC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96A-DDF6-489C-9321-51652D43E0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3B8-779B-4F4B-A213-CF04A0B02D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055-C7A9-40F5-8BF5-CC9409981F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cost of sorting a table with B block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B49-E57B-4796-9833-0CFBB6F88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-scan: if we know where the block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can: if we have a sparse index to find the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one read for each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9AE-731A-4F23-A9F1-4805726F0D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While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useful to have the output 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ways to scan it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a primary or secondary index on it, use it during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fits in memory, sor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use multi-way merge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B1E-CD69-4A3B-84AA-F0A7FC0A3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the Sca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FB0-1A89-4783-A326-EE88DB0B1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6DF-BC1E-426E-87B4-89FA6A65AE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D65-FAEF-47B4-A919-2B44AADC8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572-B083-4BCD-A7F2-2E8787E66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385-D41F-4AB4-AE5D-04DE3FF61A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3BE-0024-49EE-A949-38DB07BA81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a’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b) for each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citie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81C-AAB2-40E6-A62F-02C4BF48E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0E8-878C-40F2-BEF8-8725D724A3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T(R) T(S),  sometimes T(R)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928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3B0-D666-4F66-8008-8B726019AC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4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059-EF63-43D9-84FD-80E93E7FA7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80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1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194-1C31-4898-832E-BE0DF2707C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50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9724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8816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51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7012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34200" y="2979720"/>
            <a:ext cx="858600" cy="2026440"/>
            <a:chOff x="6334200" y="2979720"/>
            <a:chExt cx="858600" cy="2026440"/>
          </a:xfrm>
        </p:grpSpPr>
        <p:grpSp>
          <p:nvGrpSpPr>
            <p:cNvPr id="175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76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5012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0192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DF8-D443-486E-9B9F-A5401D9FAE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1) times, and each time need to read R: costs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C45-62A1-49E8-96E9-B022ADE8FA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9A9-D1FF-4787-AF37-E1A0D4E7F1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058-C96E-4003-B388-BB4E70336B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986-8E46-474D-8927-D68EA86ABD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7592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2604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2"/>
            <a:endCxn id="47" idx="0"/>
          </p:cNvCxnSpPr>
          <p:nvPr/>
        </p:nvCxnSpPr>
        <p:spPr>
          <a:xfrm>
            <a:off x="4478040" y="2717280"/>
            <a:ext cx="108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2"/>
            <a:endCxn id="48" idx="0"/>
          </p:cNvCxnSpPr>
          <p:nvPr/>
        </p:nvCxnSpPr>
        <p:spPr>
          <a:xfrm>
            <a:off x="4478400" y="357516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2"/>
            <a:endCxn id="49" idx="0"/>
          </p:cNvCxnSpPr>
          <p:nvPr/>
        </p:nvCxnSpPr>
        <p:spPr>
          <a:xfrm>
            <a:off x="4479480" y="443232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0" idx="1"/>
          </p:cNvCxnSpPr>
          <p:nvPr/>
        </p:nvCxnSpPr>
        <p:spPr>
          <a:xfrm>
            <a:off x="4479480" y="528948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2"/>
            <a:endCxn id="46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236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26920" y="2725200"/>
            <a:ext cx="1581480" cy="1172520"/>
          </a:xfrm>
          <a:prstGeom prst="wedgeEllipseCallout">
            <a:avLst>
              <a:gd name="adj1" fmla="val -157805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57080" y="4096800"/>
            <a:ext cx="1726560" cy="1172520"/>
          </a:xfrm>
          <a:prstGeom prst="wedgeEllipseCallout">
            <a:avLst>
              <a:gd name="adj1" fmla="val -156939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A23-38E4-4065-9315-78FF07C03E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9D9-A094-44E3-8848-A1560AB0C0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CCB-C155-4C3B-8BB0-5E66A14C70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03D-74DF-4169-B28F-326EB087BA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202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12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233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3F9-A51A-446F-A1C6-CCFCC30443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868-C527-48C1-A949-A853233A6E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E24-4CC1-4027-A3C2-8A4C336F95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gebr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379-0B59-46CE-9895-7633A08C1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 in the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981080"/>
            <a:ext cx="1828800" cy="2286000"/>
          </a:xfrm>
          <a:custGeom>
            <a:avLst/>
            <a:gdLst>
              <a:gd name="textAreaLeft" fmla="*/ 0 w 1828800"/>
              <a:gd name="textAreaRight" fmla="*/ 660240 w 1828800"/>
              <a:gd name="textAreaTop" fmla="*/ 47880 h 2286000"/>
              <a:gd name="textAreaBottom" fmla="*/ 22381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316-C35B-432E-8873-AFC182247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8100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9520" y="5527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628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335-2F7F-4398-BACB-4C81BC4D3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24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105080" y="1447920"/>
            <a:ext cx="5040720" cy="3802320"/>
            <a:chOff x="4105080" y="1447920"/>
            <a:chExt cx="5040720" cy="3802320"/>
          </a:xfrm>
        </p:grpSpPr>
        <p:sp>
          <p:nvSpPr>
            <p:cNvPr id="79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83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8552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112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6852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5716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5208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380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168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414240" y="560232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,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ED9-0DDA-4EE3-8094-FDC6983DE1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EC5-9DC2-4EC9-BE33-4EF86A3458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9E1-18E3-4054-AEA2-6C02BB2993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1-18T17:29:32Z</dcterms:modified>
  <cp:revision>285</cp:revision>
  <dc:subject/>
  <dc:title>Lecture 09:</dc:title>
</cp:coreProperties>
</file>