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3EDA-F5B1-42E9-8E69-E4F9E0E91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E576-D7F1-4A86-BB7D-4A1BF2C08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23AC-4351-4487-867B-29BF28E91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2CE8-6AF6-49D0-8FCC-7E7AAC8D3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DF04-F785-45EC-9C91-A2E55F241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E114-047B-4D51-B7AB-F8F0F0AD5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7994-C458-484D-BE87-F9B617BA2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B152-D5C7-41C9-A521-64163B0EF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1362-3A42-4232-A6E3-484893AAC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57F0-F0BD-429B-8CC8-4EB713DA1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EE75-9966-4304-AEBD-1912E47FC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03B9-83EA-4070-99C1-230D649EB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F97A5-A57A-431C-9535-73C0B2E09A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20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ry Execu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day, November 18, 20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37F4-75AC-44AB-A1B5-B1D4A5B3D3C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st Parame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database systems the data is 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isk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not in main mem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an operation = total number of I/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 paramete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(R) = number of blocks for relation 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(R) = number of tuples in relation 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(R, a) = number of distinct values of attribute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2D43-5638-4E5F-BB41-951EAEE6FAA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st Parame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luster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able 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ocks consists only of records from this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(R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(R) / blockS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ncluster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able 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s records are placed on blocks with other t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R 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ncluster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B(R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(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a is a key, V(R,a) = T(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a is not a key, V(R,a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BC4A-D162-4D71-8D3D-B33B9242EFF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 of an operation =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umber of disk I/Os needed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 the opera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 the 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 of writing the result to disk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not includ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n the following sli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Ques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the cost of sorting a table with B blocks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sw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24DD-4D84-4F1F-8E34-459E141219E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anning T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able i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uster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ble-scan: if we know where the blocks 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x scan: if we have a sparse index to find the blo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able i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ncluster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 need one read for each reco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073C-5933-4C7F-9451-39F96F91040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rting While Scan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times it is useful to have the output sor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ree ways to scan it sort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there is a primary or secondary index on it, use it during sc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it fits in memory, sort t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not, use multi-way merge s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94B7-9595-4A7A-AB18-6330E19E04C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st of the Scan Opera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ustered rel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ble sc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sorted:  B(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rted:    3B(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ex s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sorted: B(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rted: B(R) or 3B(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clustered re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sorted: T(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rted: T(R) + 2B(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E801-3A33-42A8-9465-5D0FD51605C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e-Pass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ectio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), projectio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th ar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uple-at-a-tim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lgorith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: B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299600" y="4499280"/>
            <a:ext cx="16484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 buf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262480" y="4499280"/>
            <a:ext cx="18511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 buf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505320" y="4343400"/>
            <a:ext cx="11430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971800" y="47242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648320" y="47242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6E25-60A9-4AE0-9D97-89416939807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e-pass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sh join:  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an S, build buckets in main mem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 scan R and jo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: B(R) + B(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ption: B(S) &lt;= 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6B02-0794-43F5-98C6-B53401675B0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e-pass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plicate eliminatio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keep tuples in mem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new tuple arrives, need to compare it with previously seen tu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lanced search tree, or hash 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: B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ption: B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)) &lt;= 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A7CE-6594-4130-B4FB-4C15CEC0F60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 in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up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duct(name, department, quantit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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department, sum(quantity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Product)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(department, su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estion: how do you compute it in main memory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BDAF-9413-43AB-92FF-2F0EE04EDFA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ery execution: 15.1 – 15.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636D-9600-40EE-BEB4-0E589BD519A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e-pass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uping: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a, sum(b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store all a’s in mem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store the sum(b) for each 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lanced search tree or hash 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: B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ption: number of cities fits in mem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9759-C876-4DF1-BB9F-72C13A002B4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e-pass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nary operations: 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∩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, 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∪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, R – 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umption: min(B(R), B(S)) &lt;= 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n one table first, then the next, eliminate duplic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t: B(R)+B(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0C2D-BEE2-4692-AA99-407F12AF2FB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sted Loop Jo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uple-based nested loop 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: T(R) T(S),  sometimes T(R) B(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19280" y="3048120"/>
            <a:ext cx="6475320" cy="175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ach tuple r in R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ach tuple s in 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i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 and s join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th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utput (r,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BA99-54E8-4D59-8598-0ED0C03B98E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sted Loop Jo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an be much more cle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Ques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how would you compute the join in the following cases ? What is the cost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(R) = 1000, B(S) = 2, M =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(R) = 1000, B(S) = 4, M =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(R) = 1000, B(S) = 6, M =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2370-9B27-4AD3-BEBC-FE43A83FFCC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sted Loop Jo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lock-based Nested Loop Jo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87800" y="2743200"/>
            <a:ext cx="7598520" cy="29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ach (M-1) blocks bs of S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ach block br of R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ach tuple s in 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ach tuple r in br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i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 and s join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th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utput(r,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FE84-531E-466D-B64C-7087133ED91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sted Loop Jo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759040" y="50306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457280" y="2979720"/>
            <a:ext cx="844560" cy="2026440"/>
            <a:chOff x="1457280" y="2979720"/>
            <a:chExt cx="844560" cy="2026440"/>
          </a:xfrm>
        </p:grpSpPr>
        <p:sp>
          <p:nvSpPr>
            <p:cNvPr id="150" name=""/>
            <p:cNvSpPr/>
            <p:nvPr/>
          </p:nvSpPr>
          <p:spPr>
            <a:xfrm>
              <a:off x="1470240" y="2979720"/>
              <a:ext cx="825480" cy="139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463760" y="3049200"/>
              <a:ext cx="0" cy="182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1840" y="3049200"/>
              <a:ext cx="0" cy="182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457280" y="4766040"/>
              <a:ext cx="838080" cy="240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6" y="10515"/>
                  </a:moveTo>
                  <a:arcTo wR="10800" hR="10800" stAng="-90790" swAng="1089079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6" y="10515"/>
                  </a:moveTo>
                  <a:arcTo wR="10800" hR="10800" stAng="-90790" swAng="1089079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536920" y="2827440"/>
            <a:ext cx="3416040" cy="2197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98480" y="3284640"/>
            <a:ext cx="292320" cy="291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698480" y="3741840"/>
            <a:ext cx="292320" cy="291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698480" y="4503600"/>
            <a:ext cx="292320" cy="2923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497240" y="3935520"/>
            <a:ext cx="7426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. .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146400" y="3360600"/>
            <a:ext cx="2197080" cy="520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222720" y="3436920"/>
            <a:ext cx="291960" cy="2919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79920" y="3436920"/>
            <a:ext cx="291960" cy="2919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088160" y="3247920"/>
            <a:ext cx="7426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. .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822920" y="3436920"/>
            <a:ext cx="291960" cy="2919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146400" y="4351320"/>
            <a:ext cx="291960" cy="2919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051520" y="4351320"/>
            <a:ext cx="291960" cy="2919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301840" y="358308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301840" y="449748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349960" y="449748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51520" y="2625840"/>
            <a:ext cx="8006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R &amp; 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219840" y="2819520"/>
            <a:ext cx="2331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ash table for block of 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k &lt; B-1 pag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670120" y="4651200"/>
            <a:ext cx="1765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put buffer for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574520" y="4648320"/>
            <a:ext cx="14043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buff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216240" y="3811680"/>
            <a:ext cx="306360" cy="534960"/>
          </a:xfrm>
          <a:custGeom>
            <a:avLst/>
            <a:gdLst/>
            <a:ahLst/>
            <a:rect l="l" t="t" r="r" b="b"/>
            <a:pathLst>
              <a:path w="193" h="337">
                <a:moveTo>
                  <a:pt x="48" y="336"/>
                </a:moveTo>
                <a:lnTo>
                  <a:pt x="144" y="144"/>
                </a:lnTo>
                <a:lnTo>
                  <a:pt x="0" y="192"/>
                </a:lnTo>
                <a:lnTo>
                  <a:pt x="2" y="166"/>
                </a:lnTo>
                <a:lnTo>
                  <a:pt x="192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334200" y="2979720"/>
            <a:ext cx="858600" cy="2026440"/>
            <a:chOff x="6334200" y="2979720"/>
            <a:chExt cx="858600" cy="2026440"/>
          </a:xfrm>
        </p:grpSpPr>
        <p:grpSp>
          <p:nvGrpSpPr>
            <p:cNvPr id="175" name=""/>
            <p:cNvGrpSpPr/>
            <p:nvPr/>
          </p:nvGrpSpPr>
          <p:grpSpPr>
            <a:xfrm>
              <a:off x="6334200" y="2979720"/>
              <a:ext cx="844560" cy="2026440"/>
              <a:chOff x="6334200" y="2979720"/>
              <a:chExt cx="844560" cy="2026440"/>
            </a:xfrm>
          </p:grpSpPr>
          <p:sp>
            <p:nvSpPr>
              <p:cNvPr id="176" name=""/>
              <p:cNvSpPr/>
              <p:nvPr/>
            </p:nvSpPr>
            <p:spPr>
              <a:xfrm>
                <a:off x="6346800" y="2979720"/>
                <a:ext cx="825480" cy="1393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6340680" y="3049200"/>
                <a:ext cx="0" cy="1828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7178760" y="3049200"/>
                <a:ext cx="0" cy="1828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6334200" y="4766040"/>
                <a:ext cx="837720" cy="240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96" y="10515"/>
                    </a:moveTo>
                    <a:arcTo wR="10800" hR="10800" stAng="-90790" swAng="1089079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96" y="10515"/>
                    </a:moveTo>
                    <a:arcTo wR="10800" hR="10800" stAng="-90790" swAng="1089079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0" name=""/>
            <p:cNvSpPr/>
            <p:nvPr/>
          </p:nvSpPr>
          <p:spPr>
            <a:xfrm>
              <a:off x="6651720" y="3284280"/>
              <a:ext cx="291960" cy="29160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51720" y="3741480"/>
              <a:ext cx="291960" cy="2916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651720" y="4503600"/>
              <a:ext cx="291960" cy="29160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450120" y="3933720"/>
              <a:ext cx="7426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Book Antiqua"/>
                </a:rPr>
                <a:t>. . 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6001920" y="2624040"/>
            <a:ext cx="1434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Join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E44A-3FD3-4052-A043-14047C6A745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sted Loop Jo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lock-based Nested Loop Jo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d S once: cost B(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er loop runs B(S)/(M-1) times, and each time need to read R: costs B(S)B(R)/(M-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tal cost:  B(S)  +  B(S)B(R)/(M-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ice: it is better to iterate over the smaller relation fir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:  R=outer relation, S=inner re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377A-31A3-42DB-97E8-B0C8A41D250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-Pass Algorithms Based on Sor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all: multi-way merge sort needs only two passes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ption: B(R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= 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 for sorting: 3B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E813-600B-451E-91BA-9D26D7A9896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-Pass Algorithms Based on Sor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plicate eliminatio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vial idea: sort first, then eliminate duplic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p 1: sort chunks of size M, wr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 2B(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p 2: merge M-1 runs, but include each tuple only o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 B(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tal cost: 3B(R), Assumption: B(R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= 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B6AC-710A-44EB-921E-E0ED0C2568D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-Pass Algorithms Based on Sor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uping: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a, sum(b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me as before: sort, then compute the sum(b) for each group of a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tal cost: 3B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ption: B(R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= 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C46E-A6E2-404E-AF79-D9135A2A1F1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chitecture of a Database Eng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613320" y="2208960"/>
            <a:ext cx="1730160" cy="50940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Qu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75920" y="3066480"/>
            <a:ext cx="2604960" cy="50940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Logical 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125520" y="3923640"/>
            <a:ext cx="2706840" cy="50940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Physical 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326040" y="4780800"/>
            <a:ext cx="2306160" cy="50940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ry Exec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98960" y="5638680"/>
            <a:ext cx="762120" cy="914400"/>
          </a:xfrm>
          <a:prstGeom prst="can">
            <a:avLst>
              <a:gd name="adj" fmla="val 3593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" name=""/>
          <p:cNvCxnSpPr>
            <a:stCxn id="46" idx="2"/>
            <a:endCxn id="47" idx="0"/>
          </p:cNvCxnSpPr>
          <p:nvPr/>
        </p:nvCxnSpPr>
        <p:spPr>
          <a:xfrm>
            <a:off x="4478040" y="2717280"/>
            <a:ext cx="1080" cy="350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" name=""/>
          <p:cNvCxnSpPr>
            <a:stCxn id="47" idx="2"/>
            <a:endCxn id="48" idx="0"/>
          </p:cNvCxnSpPr>
          <p:nvPr/>
        </p:nvCxnSpPr>
        <p:spPr>
          <a:xfrm>
            <a:off x="4478400" y="3575160"/>
            <a:ext cx="2160" cy="349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8" idx="2"/>
            <a:endCxn id="49" idx="0"/>
          </p:cNvCxnSpPr>
          <p:nvPr/>
        </p:nvCxnSpPr>
        <p:spPr>
          <a:xfrm>
            <a:off x="4479480" y="4432320"/>
            <a:ext cx="1080" cy="349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2"/>
            <a:endCxn id="50" idx="1"/>
          </p:cNvCxnSpPr>
          <p:nvPr/>
        </p:nvCxnSpPr>
        <p:spPr>
          <a:xfrm>
            <a:off x="4479480" y="5289480"/>
            <a:ext cx="1080" cy="349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" name=""/>
          <p:cNvSpPr/>
          <p:nvPr/>
        </p:nvSpPr>
        <p:spPr>
          <a:xfrm>
            <a:off x="3716640" y="1447920"/>
            <a:ext cx="152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QL qu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" name=""/>
          <p:cNvCxnSpPr>
            <a:stCxn id="55" idx="2"/>
            <a:endCxn id="46" idx="0"/>
          </p:cNvCxnSpPr>
          <p:nvPr/>
        </p:nvCxnSpPr>
        <p:spPr>
          <a:xfrm flipH="1">
            <a:off x="4478040" y="1905120"/>
            <a:ext cx="216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"/>
          <p:cNvSpPr/>
          <p:nvPr/>
        </p:nvSpPr>
        <p:spPr>
          <a:xfrm>
            <a:off x="2666880" y="2971800"/>
            <a:ext cx="533520" cy="1523880"/>
          </a:xfrm>
          <a:custGeom>
            <a:avLst/>
            <a:gdLst>
              <a:gd name="textAreaLeft" fmla="*/ 340920 w 533520"/>
              <a:gd name="textAreaRight" fmla="*/ 533880 w 53352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72360" y="3241800"/>
            <a:ext cx="172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r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126920" y="2725200"/>
            <a:ext cx="1581480" cy="1172520"/>
          </a:xfrm>
          <a:prstGeom prst="wedgeEllipseCallout">
            <a:avLst>
              <a:gd name="adj1" fmla="val -157805"/>
              <a:gd name="adj2" fmla="val 368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gic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057080" y="4096800"/>
            <a:ext cx="1726560" cy="1172520"/>
          </a:xfrm>
          <a:prstGeom prst="wedgeEllipseCallout">
            <a:avLst>
              <a:gd name="adj1" fmla="val -156939"/>
              <a:gd name="adj2" fmla="val -58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ysic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8337-BBE4-44EF-B937-909C46C7476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-Pass Algorithms Based on Sor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operations: 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∪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, 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, R –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a: sort R, sort S, then do the right t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loser look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1: split R into runs of size M, then split S into runs of size M.  Cost: 2B(R) + 2B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2: merge M/2 runs from R; merge M/2 runs from S; ouput a tuple on a case by cases ba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tal cost: 3B(R)+3B(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umption: B(R)+B(S)&lt;= 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2E08-F157-4DB8-A2FD-8A9C739E2A3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-Pass Algorithms Based on Sor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 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by sorting both R and S on the join attribut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4B(R)+4B(S)  (because need to write to dis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d both relations in sorted order, match tu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B(R)+B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iculty: many tuples in R may match many in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at least one set of tuples fits in M, we are 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wise need nested loop, higher c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tal cost: 5B(R)+5B(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umption: B(R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= 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B(S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= 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18F6-9C1D-4653-89F2-1B6CF22C65F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-Pass Algorithms Based on Sor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in 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 number of tuples in R matching those in S is small (or vice versa) we can compute the join during the merge ph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tal cost: 3B(R)+3B(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ption: B(R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 B(S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= 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3F65-4FAB-4638-88F2-21E75701DAF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 Pass Algorithms Based on Hash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a: partition a relation R into buckets, on di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bucket has size approx. B(R)/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each bucket fit in main memory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s if B(R)/M &lt;= M,   i.e. B(R) &lt;= 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1751760" y="2895480"/>
            <a:ext cx="5476320" cy="2820960"/>
            <a:chOff x="1751760" y="2895480"/>
            <a:chExt cx="5476320" cy="2820960"/>
          </a:xfrm>
        </p:grpSpPr>
        <p:sp>
          <p:nvSpPr>
            <p:cNvPr id="202" name=""/>
            <p:cNvSpPr/>
            <p:nvPr/>
          </p:nvSpPr>
          <p:spPr>
            <a:xfrm>
              <a:off x="2914560" y="5327280"/>
              <a:ext cx="2582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 main memory buff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900400" y="5348160"/>
              <a:ext cx="6285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Dis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983600" y="5349600"/>
              <a:ext cx="6285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Dis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751760" y="2895480"/>
              <a:ext cx="1233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Relation 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398480" y="3180960"/>
              <a:ext cx="9255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OUTP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096240" y="4664880"/>
              <a:ext cx="40680" cy="59400"/>
            </a:xfrm>
            <a:custGeom>
              <a:avLst/>
              <a:gdLst/>
              <a:ahLst/>
              <a:rect l="l" t="t" r="r" b="b"/>
              <a:pathLst>
                <a:path w="27" h="40">
                  <a:moveTo>
                    <a:pt x="26" y="20"/>
                  </a:moveTo>
                  <a:lnTo>
                    <a:pt x="14" y="0"/>
                  </a:lnTo>
                  <a:lnTo>
                    <a:pt x="0" y="20"/>
                  </a:lnTo>
                  <a:lnTo>
                    <a:pt x="14" y="39"/>
                  </a:lnTo>
                  <a:lnTo>
                    <a:pt x="26" y="2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244200" y="4664880"/>
              <a:ext cx="40680" cy="59400"/>
            </a:xfrm>
            <a:custGeom>
              <a:avLst/>
              <a:gdLst/>
              <a:ahLst/>
              <a:rect l="l" t="t" r="r" b="b"/>
              <a:pathLst>
                <a:path w="27" h="40">
                  <a:moveTo>
                    <a:pt x="26" y="20"/>
                  </a:moveTo>
                  <a:lnTo>
                    <a:pt x="14" y="0"/>
                  </a:lnTo>
                  <a:lnTo>
                    <a:pt x="0" y="20"/>
                  </a:lnTo>
                  <a:lnTo>
                    <a:pt x="14" y="39"/>
                  </a:lnTo>
                  <a:lnTo>
                    <a:pt x="26" y="2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761200" y="3159720"/>
              <a:ext cx="2541960" cy="2156760"/>
            </a:xfrm>
            <a:custGeom>
              <a:avLst/>
              <a:gdLst/>
              <a:ahLst/>
              <a:rect l="l" t="t" r="r" b="b"/>
              <a:pathLst>
                <a:path w="1683" h="1442">
                  <a:moveTo>
                    <a:pt x="0" y="1441"/>
                  </a:moveTo>
                  <a:lnTo>
                    <a:pt x="0" y="0"/>
                  </a:lnTo>
                  <a:lnTo>
                    <a:pt x="1682" y="0"/>
                  </a:lnTo>
                  <a:lnTo>
                    <a:pt x="1682" y="1441"/>
                  </a:lnTo>
                  <a:lnTo>
                    <a:pt x="0" y="144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096360" y="4402800"/>
              <a:ext cx="318600" cy="253800"/>
            </a:xfrm>
            <a:custGeom>
              <a:avLst/>
              <a:gdLst/>
              <a:ahLst/>
              <a:rect l="l" t="t" r="r" b="b"/>
              <a:pathLst>
                <a:path w="211" h="170">
                  <a:moveTo>
                    <a:pt x="0" y="169"/>
                  </a:moveTo>
                  <a:lnTo>
                    <a:pt x="0" y="0"/>
                  </a:lnTo>
                  <a:lnTo>
                    <a:pt x="210" y="0"/>
                  </a:lnTo>
                  <a:lnTo>
                    <a:pt x="210" y="169"/>
                  </a:lnTo>
                  <a:lnTo>
                    <a:pt x="0" y="169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1" name=""/>
            <p:cNvGrpSpPr/>
            <p:nvPr/>
          </p:nvGrpSpPr>
          <p:grpSpPr>
            <a:xfrm>
              <a:off x="4764240" y="4583880"/>
              <a:ext cx="317880" cy="85320"/>
              <a:chOff x="4764240" y="4583880"/>
              <a:chExt cx="317880" cy="85320"/>
            </a:xfrm>
          </p:grpSpPr>
          <p:sp>
            <p:nvSpPr>
              <p:cNvPr id="212" name=""/>
              <p:cNvSpPr/>
              <p:nvPr/>
            </p:nvSpPr>
            <p:spPr>
              <a:xfrm>
                <a:off x="4764240" y="4583880"/>
                <a:ext cx="40680" cy="59760"/>
              </a:xfrm>
              <a:custGeom>
                <a:avLst/>
                <a:gdLst/>
                <a:ahLst/>
                <a:rect l="l" t="t" r="r" b="b"/>
                <a:pathLst>
                  <a:path w="27" h="40">
                    <a:moveTo>
                      <a:pt x="26" y="19"/>
                    </a:moveTo>
                    <a:lnTo>
                      <a:pt x="13" y="0"/>
                    </a:lnTo>
                    <a:lnTo>
                      <a:pt x="0" y="19"/>
                    </a:lnTo>
                    <a:lnTo>
                      <a:pt x="13" y="39"/>
                    </a:lnTo>
                    <a:lnTo>
                      <a:pt x="26" y="1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4901400" y="4583880"/>
                <a:ext cx="40680" cy="59760"/>
              </a:xfrm>
              <a:custGeom>
                <a:avLst/>
                <a:gdLst/>
                <a:ahLst/>
                <a:rect l="l" t="t" r="r" b="b"/>
                <a:pathLst>
                  <a:path w="27" h="40">
                    <a:moveTo>
                      <a:pt x="26" y="19"/>
                    </a:moveTo>
                    <a:lnTo>
                      <a:pt x="13" y="0"/>
                    </a:lnTo>
                    <a:lnTo>
                      <a:pt x="0" y="19"/>
                    </a:lnTo>
                    <a:lnTo>
                      <a:pt x="13" y="39"/>
                    </a:lnTo>
                    <a:lnTo>
                      <a:pt x="26" y="1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5049000" y="4583880"/>
                <a:ext cx="33120" cy="85320"/>
              </a:xfrm>
              <a:custGeom>
                <a:avLst/>
                <a:gdLst/>
                <a:ahLst/>
                <a:rect l="l" t="t" r="r" b="b"/>
                <a:pathLst>
                  <a:path w="22" h="57">
                    <a:moveTo>
                      <a:pt x="21" y="27"/>
                    </a:moveTo>
                    <a:lnTo>
                      <a:pt x="11" y="0"/>
                    </a:lnTo>
                    <a:lnTo>
                      <a:pt x="0" y="27"/>
                    </a:lnTo>
                    <a:lnTo>
                      <a:pt x="11" y="56"/>
                    </a:lnTo>
                    <a:lnTo>
                      <a:pt x="21" y="2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5" name=""/>
            <p:cNvSpPr/>
            <p:nvPr/>
          </p:nvSpPr>
          <p:spPr>
            <a:xfrm>
              <a:off x="5723280" y="3768840"/>
              <a:ext cx="238680" cy="254160"/>
            </a:xfrm>
            <a:custGeom>
              <a:avLst/>
              <a:gdLst/>
              <a:ahLst/>
              <a:rect l="l" t="t" r="r" b="b"/>
              <a:pathLst>
                <a:path w="158" h="170">
                  <a:moveTo>
                    <a:pt x="0" y="169"/>
                  </a:moveTo>
                  <a:lnTo>
                    <a:pt x="0" y="0"/>
                  </a:lnTo>
                  <a:lnTo>
                    <a:pt x="157" y="0"/>
                  </a:lnTo>
                  <a:lnTo>
                    <a:pt x="157" y="169"/>
                  </a:lnTo>
                  <a:lnTo>
                    <a:pt x="0" y="169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999760" y="3768840"/>
              <a:ext cx="236880" cy="254160"/>
            </a:xfrm>
            <a:custGeom>
              <a:avLst/>
              <a:gdLst/>
              <a:ahLst/>
              <a:rect l="l" t="t" r="r" b="b"/>
              <a:pathLst>
                <a:path w="157" h="170">
                  <a:moveTo>
                    <a:pt x="0" y="169"/>
                  </a:moveTo>
                  <a:lnTo>
                    <a:pt x="0" y="0"/>
                  </a:lnTo>
                  <a:lnTo>
                    <a:pt x="156" y="0"/>
                  </a:lnTo>
                  <a:lnTo>
                    <a:pt x="156" y="169"/>
                  </a:lnTo>
                  <a:lnTo>
                    <a:pt x="0" y="169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723280" y="4208760"/>
              <a:ext cx="238680" cy="253800"/>
            </a:xfrm>
            <a:custGeom>
              <a:avLst/>
              <a:gdLst/>
              <a:ahLst/>
              <a:rect l="l" t="t" r="r" b="b"/>
              <a:pathLst>
                <a:path w="158" h="170">
                  <a:moveTo>
                    <a:pt x="0" y="169"/>
                  </a:moveTo>
                  <a:lnTo>
                    <a:pt x="0" y="0"/>
                  </a:lnTo>
                  <a:lnTo>
                    <a:pt x="157" y="0"/>
                  </a:lnTo>
                  <a:lnTo>
                    <a:pt x="157" y="169"/>
                  </a:lnTo>
                  <a:lnTo>
                    <a:pt x="0" y="169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008400" y="4208760"/>
              <a:ext cx="237240" cy="253800"/>
            </a:xfrm>
            <a:custGeom>
              <a:avLst/>
              <a:gdLst/>
              <a:ahLst/>
              <a:rect l="l" t="t" r="r" b="b"/>
              <a:pathLst>
                <a:path w="157" h="170">
                  <a:moveTo>
                    <a:pt x="0" y="169"/>
                  </a:moveTo>
                  <a:lnTo>
                    <a:pt x="0" y="0"/>
                  </a:lnTo>
                  <a:lnTo>
                    <a:pt x="156" y="0"/>
                  </a:lnTo>
                  <a:lnTo>
                    <a:pt x="156" y="169"/>
                  </a:lnTo>
                  <a:lnTo>
                    <a:pt x="0" y="169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960160" y="4664880"/>
              <a:ext cx="40680" cy="59400"/>
            </a:xfrm>
            <a:custGeom>
              <a:avLst/>
              <a:gdLst/>
              <a:ahLst/>
              <a:rect l="l" t="t" r="r" b="b"/>
              <a:pathLst>
                <a:path w="27" h="40">
                  <a:moveTo>
                    <a:pt x="26" y="20"/>
                  </a:moveTo>
                  <a:lnTo>
                    <a:pt x="13" y="0"/>
                  </a:lnTo>
                  <a:lnTo>
                    <a:pt x="0" y="20"/>
                  </a:lnTo>
                  <a:lnTo>
                    <a:pt x="13" y="39"/>
                  </a:lnTo>
                  <a:lnTo>
                    <a:pt x="26" y="2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294240" y="4208760"/>
              <a:ext cx="236880" cy="253800"/>
            </a:xfrm>
            <a:custGeom>
              <a:avLst/>
              <a:gdLst/>
              <a:ahLst/>
              <a:rect l="l" t="t" r="r" b="b"/>
              <a:pathLst>
                <a:path w="157" h="170">
                  <a:moveTo>
                    <a:pt x="0" y="169"/>
                  </a:moveTo>
                  <a:lnTo>
                    <a:pt x="0" y="0"/>
                  </a:lnTo>
                  <a:lnTo>
                    <a:pt x="156" y="0"/>
                  </a:lnTo>
                  <a:lnTo>
                    <a:pt x="156" y="169"/>
                  </a:lnTo>
                  <a:lnTo>
                    <a:pt x="0" y="169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750200" y="3946680"/>
              <a:ext cx="275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723280" y="4995000"/>
              <a:ext cx="238680" cy="254160"/>
            </a:xfrm>
            <a:custGeom>
              <a:avLst/>
              <a:gdLst/>
              <a:ahLst/>
              <a:rect l="l" t="t" r="r" b="b"/>
              <a:pathLst>
                <a:path w="158" h="170">
                  <a:moveTo>
                    <a:pt x="0" y="169"/>
                  </a:moveTo>
                  <a:lnTo>
                    <a:pt x="0" y="0"/>
                  </a:lnTo>
                  <a:lnTo>
                    <a:pt x="157" y="0"/>
                  </a:lnTo>
                  <a:lnTo>
                    <a:pt x="157" y="169"/>
                  </a:lnTo>
                  <a:lnTo>
                    <a:pt x="0" y="169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718520" y="4954680"/>
              <a:ext cx="401760" cy="270360"/>
            </a:xfrm>
            <a:custGeom>
              <a:avLst/>
              <a:gdLst/>
              <a:ahLst/>
              <a:rect l="l" t="t" r="r" b="b"/>
              <a:pathLst>
                <a:path w="266" h="181">
                  <a:moveTo>
                    <a:pt x="0" y="180"/>
                  </a:moveTo>
                  <a:lnTo>
                    <a:pt x="0" y="0"/>
                  </a:lnTo>
                  <a:lnTo>
                    <a:pt x="265" y="0"/>
                  </a:lnTo>
                  <a:lnTo>
                    <a:pt x="265" y="180"/>
                  </a:lnTo>
                  <a:lnTo>
                    <a:pt x="0" y="180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874240" y="4012560"/>
              <a:ext cx="7383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NP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750200" y="3430440"/>
              <a:ext cx="275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399840" y="4244400"/>
              <a:ext cx="820440" cy="71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has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func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661640" y="4687200"/>
              <a:ext cx="502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M-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577120" y="3170520"/>
              <a:ext cx="1151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arti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675840" y="3746160"/>
              <a:ext cx="2995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666840" y="4145400"/>
              <a:ext cx="2995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636240" y="4892040"/>
              <a:ext cx="5918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2" name=""/>
            <p:cNvGrpSpPr/>
            <p:nvPr/>
          </p:nvGrpSpPr>
          <p:grpSpPr>
            <a:xfrm>
              <a:off x="1812600" y="3524760"/>
              <a:ext cx="875880" cy="1838880"/>
              <a:chOff x="1812600" y="3524760"/>
              <a:chExt cx="875880" cy="1838880"/>
            </a:xfrm>
          </p:grpSpPr>
          <p:sp>
            <p:nvSpPr>
              <p:cNvPr id="233" name=""/>
              <p:cNvSpPr/>
              <p:nvPr/>
            </p:nvSpPr>
            <p:spPr>
              <a:xfrm>
                <a:off x="1826280" y="3524760"/>
                <a:ext cx="855720" cy="1270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1819800" y="3587760"/>
                <a:ext cx="0" cy="1658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2688480" y="3587760"/>
                <a:ext cx="0" cy="1658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812600" y="5143320"/>
                <a:ext cx="867960" cy="220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96" y="10505"/>
                    </a:moveTo>
                    <a:arcTo wR="10800" hR="10800" stAng="-94011" swAng="1094069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96" y="10505"/>
                    </a:moveTo>
                    <a:arcTo wR="10800" hR="10800" stAng="-94011" swAng="1094069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7" name=""/>
            <p:cNvSpPr/>
            <p:nvPr/>
          </p:nvSpPr>
          <p:spPr>
            <a:xfrm>
              <a:off x="2114640" y="3740040"/>
              <a:ext cx="277560" cy="275400"/>
            </a:xfrm>
            <a:prstGeom prst="rect">
              <a:avLst/>
            </a:prstGeom>
            <a:solidFill>
              <a:srgbClr val="f6bf6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114640" y="4170960"/>
              <a:ext cx="277560" cy="275400"/>
            </a:xfrm>
            <a:prstGeom prst="rect">
              <a:avLst/>
            </a:prstGeom>
            <a:solidFill>
              <a:srgbClr val="f6bf6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114640" y="4889160"/>
              <a:ext cx="277560" cy="275040"/>
            </a:xfrm>
            <a:prstGeom prst="rect">
              <a:avLst/>
            </a:prstGeom>
            <a:solidFill>
              <a:srgbClr val="f6bf6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919880" y="4353480"/>
              <a:ext cx="7426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Book Antiqua"/>
                </a:rPr>
                <a:t>. . 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1" name=""/>
            <p:cNvGrpSpPr/>
            <p:nvPr/>
          </p:nvGrpSpPr>
          <p:grpSpPr>
            <a:xfrm>
              <a:off x="5654880" y="3524760"/>
              <a:ext cx="1020960" cy="1859760"/>
              <a:chOff x="5654880" y="3524760"/>
              <a:chExt cx="1020960" cy="1859760"/>
            </a:xfrm>
          </p:grpSpPr>
          <p:sp>
            <p:nvSpPr>
              <p:cNvPr id="242" name=""/>
              <p:cNvSpPr/>
              <p:nvPr/>
            </p:nvSpPr>
            <p:spPr>
              <a:xfrm>
                <a:off x="5668560" y="3524760"/>
                <a:ext cx="1001160" cy="1285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5662080" y="3588840"/>
                <a:ext cx="0" cy="1677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6675840" y="3588840"/>
                <a:ext cx="0" cy="1677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654880" y="5164200"/>
                <a:ext cx="1013040" cy="220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96" y="10507"/>
                    </a:moveTo>
                    <a:arcTo wR="10800" hR="10800" stAng="-93306" swAng="1089330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96" y="10507"/>
                    </a:moveTo>
                    <a:arcTo wR="10800" hR="10800" stAng="-93306" swAng="10893306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6" name=""/>
            <p:cNvSpPr/>
            <p:nvPr/>
          </p:nvSpPr>
          <p:spPr>
            <a:xfrm>
              <a:off x="2688840" y="4524120"/>
              <a:ext cx="362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V="1">
              <a:off x="4211280" y="3949560"/>
              <a:ext cx="507240" cy="57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V="1">
              <a:off x="4211280" y="4380480"/>
              <a:ext cx="507240" cy="143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211280" y="4524120"/>
              <a:ext cx="507240" cy="57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153400" y="3877920"/>
              <a:ext cx="579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153400" y="4308840"/>
              <a:ext cx="579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153400" y="5098320"/>
              <a:ext cx="579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718520" y="4165200"/>
              <a:ext cx="401760" cy="270360"/>
            </a:xfrm>
            <a:custGeom>
              <a:avLst/>
              <a:gdLst/>
              <a:ahLst/>
              <a:rect l="l" t="t" r="r" b="b"/>
              <a:pathLst>
                <a:path w="266" h="181">
                  <a:moveTo>
                    <a:pt x="0" y="180"/>
                  </a:moveTo>
                  <a:lnTo>
                    <a:pt x="0" y="0"/>
                  </a:lnTo>
                  <a:lnTo>
                    <a:pt x="265" y="0"/>
                  </a:lnTo>
                  <a:lnTo>
                    <a:pt x="265" y="180"/>
                  </a:lnTo>
                  <a:lnTo>
                    <a:pt x="0" y="180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718520" y="3662640"/>
              <a:ext cx="401760" cy="270360"/>
            </a:xfrm>
            <a:custGeom>
              <a:avLst/>
              <a:gdLst/>
              <a:ahLst/>
              <a:rect l="l" t="t" r="r" b="b"/>
              <a:pathLst>
                <a:path w="266" h="181">
                  <a:moveTo>
                    <a:pt x="0" y="180"/>
                  </a:moveTo>
                  <a:lnTo>
                    <a:pt x="0" y="0"/>
                  </a:lnTo>
                  <a:lnTo>
                    <a:pt x="265" y="0"/>
                  </a:lnTo>
                  <a:lnTo>
                    <a:pt x="265" y="180"/>
                  </a:lnTo>
                  <a:lnTo>
                    <a:pt x="0" y="180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1509480" y="36194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509480" y="41529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144800" y="48736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(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1EA8-4ABF-4AF9-8DBB-72989DD4A16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sh Based Algorithms for 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all: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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plicate elimin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 1. Partition R into buck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 2. Apply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each bucket (may read in main memor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: 3B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ption:B(R) &lt;= 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563D-73DB-4707-B728-1FF6A168FFE6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sh Based Algorithms for 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all: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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uping and aggreg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 1. Partition R into buck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 2. Apply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each bucket (may read in main memor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: 3B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ption:B(R) &lt;= 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B73B-479B-40DA-8DA8-BA09231FBAF4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Algebra for Que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gical opera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a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y 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ysical opera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ho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y do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7794-95AF-4466-B1C5-F5F2EAC596D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gical Operators in the Algeb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on, intersection, differ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ection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jectio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i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plicate eliminatio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uping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rting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181480" y="1981080"/>
            <a:ext cx="1828800" cy="2286000"/>
          </a:xfrm>
          <a:custGeom>
            <a:avLst/>
            <a:gdLst>
              <a:gd name="textAreaLeft" fmla="*/ 0 w 1828800"/>
              <a:gd name="textAreaRight" fmla="*/ 660240 w 1828800"/>
              <a:gd name="textAreaTop" fmla="*/ 47880 h 2286000"/>
              <a:gd name="textAreaBottom" fmla="*/ 223812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28"/>
                  <a:pt x="10800" y="1455"/>
                </a:cubicBezTo>
                <a:lnTo>
                  <a:pt x="10800" y="9345"/>
                </a:lnTo>
                <a:cubicBezTo>
                  <a:pt x="10800" y="10073"/>
                  <a:pt x="16200" y="10800"/>
                  <a:pt x="21600" y="10800"/>
                </a:cubicBezTo>
                <a:cubicBezTo>
                  <a:pt x="16200" y="10800"/>
                  <a:pt x="10800" y="11528"/>
                  <a:pt x="10800" y="12255"/>
                </a:cubicBezTo>
                <a:lnTo>
                  <a:pt x="10800" y="20145"/>
                </a:lnTo>
                <a:cubicBezTo>
                  <a:pt x="10800" y="20873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geb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8098-395A-433D-9D2E-10992B60089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81000" y="2251080"/>
            <a:ext cx="356256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ity, count(*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ROUP 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V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um(price) &gt;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699520" y="5527800"/>
            <a:ext cx="77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952880" y="4519440"/>
            <a:ext cx="3246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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ity, sum(price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→p, count(*) → 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71240" y="3452760"/>
            <a:ext cx="1058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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p &gt;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786280" y="2438280"/>
            <a:ext cx="1002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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ity,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095880" y="5105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6095880" y="39621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6095880" y="28954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FE50-F9E9-4CD9-8338-A9453A90BDC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hysical Opera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55240" y="1295280"/>
            <a:ext cx="3734640" cy="1799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Book Antiqua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 S.bu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Book Antiqua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Purchase P, Person 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Book Antiqua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P.buyer=Q.name 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Q.city=‘seattle’ AND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Q.phone &gt; ‘5430000’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0" y="3200400"/>
            <a:ext cx="32925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Query Pla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gical 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lementation choice at every n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heduling of oper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4105080" y="1447920"/>
            <a:ext cx="5040720" cy="3802320"/>
            <a:chOff x="4105080" y="1447920"/>
            <a:chExt cx="5040720" cy="3802320"/>
          </a:xfrm>
        </p:grpSpPr>
        <p:sp>
          <p:nvSpPr>
            <p:cNvPr id="79" name=""/>
            <p:cNvSpPr/>
            <p:nvPr/>
          </p:nvSpPr>
          <p:spPr>
            <a:xfrm>
              <a:off x="5421240" y="1536840"/>
              <a:ext cx="1440" cy="173160"/>
            </a:xfrm>
            <a:custGeom>
              <a:avLst/>
              <a:gdLst/>
              <a:ahLst/>
              <a:rect l="l" t="t" r="r" b="b"/>
              <a:pathLst>
                <a:path w="1" h="109">
                  <a:moveTo>
                    <a:pt x="0" y="0"/>
                  </a:moveTo>
                  <a:lnTo>
                    <a:pt x="0" y="108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508360" y="1536840"/>
              <a:ext cx="1800" cy="173160"/>
            </a:xfrm>
            <a:custGeom>
              <a:avLst/>
              <a:gdLst/>
              <a:ahLst/>
              <a:rect l="l" t="t" r="r" b="b"/>
              <a:pathLst>
                <a:path w="1" h="109">
                  <a:moveTo>
                    <a:pt x="0" y="0"/>
                  </a:moveTo>
                  <a:lnTo>
                    <a:pt x="0" y="108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379840" y="1521000"/>
              <a:ext cx="174600" cy="1800"/>
            </a:xfrm>
            <a:custGeom>
              <a:avLst/>
              <a:gdLst/>
              <a:ahLst/>
              <a:rect l="l" t="t" r="r" b="b"/>
              <a:pathLst>
                <a:path w="110" h="1">
                  <a:moveTo>
                    <a:pt x="0" y="0"/>
                  </a:moveTo>
                  <a:lnTo>
                    <a:pt x="109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5538600" y="3534120"/>
              <a:ext cx="349200" cy="123840"/>
              <a:chOff x="5538600" y="3534120"/>
              <a:chExt cx="349200" cy="123840"/>
            </a:xfrm>
          </p:grpSpPr>
          <p:sp>
            <p:nvSpPr>
              <p:cNvPr id="83" name=""/>
              <p:cNvSpPr/>
              <p:nvPr/>
            </p:nvSpPr>
            <p:spPr>
              <a:xfrm>
                <a:off x="5538600" y="3534120"/>
                <a:ext cx="1440" cy="123840"/>
              </a:xfrm>
              <a:custGeom>
                <a:avLst/>
                <a:gdLst/>
                <a:ahLst/>
                <a:rect l="l" t="t" r="r" b="b"/>
                <a:pathLst>
                  <a:path w="1" h="78">
                    <a:moveTo>
                      <a:pt x="0" y="0"/>
                    </a:moveTo>
                    <a:lnTo>
                      <a:pt x="0" y="77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5886360" y="3534120"/>
                <a:ext cx="1440" cy="123840"/>
              </a:xfrm>
              <a:custGeom>
                <a:avLst/>
                <a:gdLst/>
                <a:ahLst/>
                <a:rect l="l" t="t" r="r" b="b"/>
                <a:pathLst>
                  <a:path w="1" h="78">
                    <a:moveTo>
                      <a:pt x="0" y="0"/>
                    </a:moveTo>
                    <a:lnTo>
                      <a:pt x="0" y="77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538600" y="3534120"/>
                <a:ext cx="349200" cy="123840"/>
              </a:xfrm>
              <a:custGeom>
                <a:avLst/>
                <a:gdLst/>
                <a:ahLst/>
                <a:rect l="l" t="t" r="r" b="b"/>
                <a:pathLst>
                  <a:path w="220" h="78">
                    <a:moveTo>
                      <a:pt x="0" y="0"/>
                    </a:moveTo>
                    <a:lnTo>
                      <a:pt x="219" y="77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538600" y="3534120"/>
                <a:ext cx="349200" cy="123840"/>
              </a:xfrm>
              <a:custGeom>
                <a:avLst/>
                <a:gdLst/>
                <a:ahLst/>
                <a:rect l="l" t="t" r="r" b="b"/>
                <a:pathLst>
                  <a:path w="220" h="78">
                    <a:moveTo>
                      <a:pt x="0" y="77"/>
                    </a:moveTo>
                    <a:lnTo>
                      <a:pt x="219" y="0"/>
                    </a:lnTo>
                    <a:lnTo>
                      <a:pt x="0" y="7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" name=""/>
            <p:cNvSpPr/>
            <p:nvPr/>
          </p:nvSpPr>
          <p:spPr>
            <a:xfrm>
              <a:off x="4943160" y="4045320"/>
              <a:ext cx="669960" cy="357120"/>
            </a:xfrm>
            <a:custGeom>
              <a:avLst/>
              <a:gdLst/>
              <a:ahLst/>
              <a:rect l="l" t="t" r="r" b="b"/>
              <a:pathLst>
                <a:path w="422" h="225">
                  <a:moveTo>
                    <a:pt x="0" y="224"/>
                  </a:moveTo>
                  <a:lnTo>
                    <a:pt x="421" y="0"/>
                  </a:lnTo>
                  <a:lnTo>
                    <a:pt x="0" y="22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859360" y="4045320"/>
              <a:ext cx="684000" cy="357120"/>
            </a:xfrm>
            <a:custGeom>
              <a:avLst/>
              <a:gdLst/>
              <a:ahLst/>
              <a:rect l="l" t="t" r="r" b="b"/>
              <a:pathLst>
                <a:path w="431" h="225">
                  <a:moveTo>
                    <a:pt x="0" y="0"/>
                  </a:moveTo>
                  <a:lnTo>
                    <a:pt x="430" y="22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15000" y="2821320"/>
              <a:ext cx="1440" cy="560160"/>
            </a:xfrm>
            <a:custGeom>
              <a:avLst/>
              <a:gdLst/>
              <a:ahLst/>
              <a:rect l="l" t="t" r="r" b="b"/>
              <a:pathLst>
                <a:path w="1" h="353">
                  <a:moveTo>
                    <a:pt x="0" y="0"/>
                  </a:moveTo>
                  <a:lnTo>
                    <a:pt x="0" y="352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715000" y="1894320"/>
              <a:ext cx="1440" cy="512640"/>
            </a:xfrm>
            <a:custGeom>
              <a:avLst/>
              <a:gdLst/>
              <a:ahLst/>
              <a:rect l="l" t="t" r="r" b="b"/>
              <a:pathLst>
                <a:path w="1" h="323">
                  <a:moveTo>
                    <a:pt x="0" y="0"/>
                  </a:moveTo>
                  <a:lnTo>
                    <a:pt x="0" y="322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670360" y="2534040"/>
              <a:ext cx="87480" cy="158760"/>
            </a:xfrm>
            <a:custGeom>
              <a:avLst/>
              <a:gdLst/>
              <a:ahLst/>
              <a:rect l="l" t="t" r="r" b="b"/>
              <a:pathLst>
                <a:path w="55" h="100">
                  <a:moveTo>
                    <a:pt x="0" y="99"/>
                  </a:moveTo>
                  <a:lnTo>
                    <a:pt x="54" y="0"/>
                  </a:lnTo>
                  <a:lnTo>
                    <a:pt x="0" y="9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756040" y="2546640"/>
              <a:ext cx="76320" cy="146160"/>
            </a:xfrm>
            <a:custGeom>
              <a:avLst/>
              <a:gdLst/>
              <a:ahLst/>
              <a:rect l="l" t="t" r="r" b="b"/>
              <a:pathLst>
                <a:path w="48" h="92">
                  <a:moveTo>
                    <a:pt x="0" y="0"/>
                  </a:moveTo>
                  <a:lnTo>
                    <a:pt x="47" y="9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385520" y="4484880"/>
              <a:ext cx="116028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Purchas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171120" y="4469040"/>
              <a:ext cx="91944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Person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168520" y="3738960"/>
              <a:ext cx="12578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uyer=na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457160" y="2514960"/>
              <a:ext cx="12913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ity=‘seattle’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752080" y="2514960"/>
              <a:ext cx="1715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hone&gt;’5430000’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473800" y="1605240"/>
              <a:ext cx="669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uy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616800" y="3738960"/>
              <a:ext cx="252900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(Simple Nested Loops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902280" y="2454480"/>
              <a:ext cx="184320" cy="35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870600" y="1447920"/>
              <a:ext cx="183960" cy="35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311360" y="221004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105080" y="4881960"/>
              <a:ext cx="1514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(Table scan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010200" y="4881960"/>
              <a:ext cx="1514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(Index scan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3414240" y="5602320"/>
            <a:ext cx="536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Some operators are from relat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algebra, and others (e.g., scan, grou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are n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5E9E-6658-44B3-8749-C5B90FCA4B5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 in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gical operato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duct(pname, cname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 Company(cname, cit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Propose three physical operators for the join, assuming the tables are in main memor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A682-FB7A-400D-98E3-CDD680CB843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 in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(pname, cname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 Company(cname, c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1000000 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1000 compan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much time do the following physical operators take if the data i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 main mem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Nested loop jo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ime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ort and merge = merge-jo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ime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Hash jo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ime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581A-3F2C-4F6B-B9D3-879EB9D0793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6T03:41:53Z</dcterms:created>
  <dc:creator>Dan</dc:creator>
  <dc:description/>
  <dc:language>en-US</dc:language>
  <cp:lastModifiedBy>Administrator</cp:lastModifiedBy>
  <dcterms:modified xsi:type="dcterms:W3CDTF">2002-11-18T17:29:32Z</dcterms:modified>
  <cp:revision>285</cp:revision>
  <dc:subject/>
  <dc:title>Lecture 09:</dc:title>
</cp:coreProperties>
</file>