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045A-7D71-4B2B-B905-30A1444B9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3D47-46E6-4BD2-9318-10176C54B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8CD9-F3FC-42E5-8438-D138641E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57CF-AF08-42A8-8E2D-1EC944A4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4551-CB58-4F91-BDDD-9C1B2698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7804-6560-430F-9FB6-F6655B810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44E3-D7C0-455A-91BA-CD4D68C7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37E9-DD17-44E0-B6B3-486A140E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896A-A3A0-4598-8E1C-DF863A49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C50B-5DE7-4853-8AAD-AED25549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555F-5BDF-40CC-9666-C9E8FDF5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C0DF-BC01-4C6E-90AF-A779D064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21B9-FD16-4617-A67E-91FF2108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87DE-44BB-4DD0-B3AF-C941DE24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E07C-BFE0-4136-8D4A-88238989F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9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-trees and Hash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November 15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8D56-C31F-48BC-A816-9DA849A3B6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81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91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28564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98920" y="164160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K=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06CA-7541-4B18-B4E3-2DFFF2F90F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44840" y="171756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in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0236-5802-4400-AD2F-0157364913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1040" y="156528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nsert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FB7F-CF78-4009-BFDE-AA518A0510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2438280" y="4572000"/>
          <a:ext cx="192420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9200"/>
                <a:gridCol w="169200"/>
                <a:gridCol w="204120"/>
                <a:gridCol w="169200"/>
                <a:gridCol w="169200"/>
                <a:gridCol w="166680"/>
                <a:gridCol w="16668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45720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6324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14600" y="365760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105520" y="3657600"/>
            <a:ext cx="1218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434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152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729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186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644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77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71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242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5288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5638320" y="510552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617184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670572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68520" y="156528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in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2724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62520" y="510552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9D6D-CCAD-411C-B4D1-932075F7CC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2438280" y="4572000"/>
          <a:ext cx="192420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9200"/>
                <a:gridCol w="169200"/>
                <a:gridCol w="204120"/>
                <a:gridCol w="169200"/>
                <a:gridCol w="169200"/>
                <a:gridCol w="166680"/>
                <a:gridCol w="16668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45720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6324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14600" y="365760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3657600"/>
            <a:ext cx="1218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34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152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729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186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644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77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1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7242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5288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5638320" y="510552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617184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670572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68880" y="156528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w have to spli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724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962520" y="510552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1469-9510-49A4-AFCE-39BED60309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9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2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160"/>
                <a:gridCol w="164160"/>
                <a:gridCol w="1641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5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24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819520" y="51055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335232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68160" y="156528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he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34340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8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AD83-FB69-4FFF-900B-CD6A83DCC1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2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5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160"/>
                <a:gridCol w="164160"/>
                <a:gridCol w="1641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6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2492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2819520" y="51055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335232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69960" y="15652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34340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1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7B71-3734-48F0-9C04-774FEDE0C8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5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7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160"/>
                <a:gridCol w="164160"/>
                <a:gridCol w="1641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1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68520" y="156528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ng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2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52280" y="2133720"/>
            <a:ext cx="2210040" cy="761760"/>
          </a:xfrm>
          <a:prstGeom prst="wedgeEllipseCallout">
            <a:avLst>
              <a:gd name="adj1" fmla="val 45689"/>
              <a:gd name="adj2" fmla="val 793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change to 40, or 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50A9-2179-4E40-87C4-B1762B9171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1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2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3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0680" y="1565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delete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4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0F84-97E5-4605-9D64-1BBD253C32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8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2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3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4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68520" y="1565280"/>
            <a:ext cx="238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ng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re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o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3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371600" y="3886200"/>
            <a:ext cx="1062000" cy="685800"/>
          </a:xfrm>
          <a:custGeom>
            <a:avLst/>
            <a:gdLst>
              <a:gd name="textAreaLeft" fmla="*/ 194400 w 1062000"/>
              <a:gd name="textAreaRight" fmla="*/ 730440 w 106200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06" hR="21600" stAng="10800000" swAng="5400000"/>
                <a:lnTo>
                  <a:pt x="10900" y="0"/>
                </a:lnTo>
                <a:arcTo wR="7906" hR="21600" stAng="-5400000" swAng="2321647"/>
                <a:lnTo>
                  <a:pt x="20885" y="12623"/>
                </a:lnTo>
                <a:lnTo>
                  <a:pt x="17308" y="21600"/>
                </a:lnTo>
                <a:lnTo>
                  <a:pt x="12301" y="12623"/>
                </a:lnTo>
                <a:lnTo>
                  <a:pt x="15096" y="12623"/>
                </a:lnTo>
                <a:arcTo wR="7906" hR="21600" stAng="-3078353" swAng="-2079404"/>
                <a:lnTo>
                  <a:pt x="9403" y="391"/>
                </a:lnTo>
                <a:arcTo wR="7906" hR="21600" stAng="-5642243" swAng="-5157757"/>
                <a:close/>
              </a:path>
              <a:path fill="darkenLess" w="21600" h="21600">
                <a:moveTo>
                  <a:pt x="0" y="21600"/>
                </a:moveTo>
                <a:arcTo wR="7906" hR="21600" stAng="10800000" swAng="5400000"/>
                <a:lnTo>
                  <a:pt x="7906" y="0"/>
                </a:lnTo>
                <a:arcTo wR="7906" hR="21600" stAng="-5400000" swAng="242243"/>
                <a:lnTo>
                  <a:pt x="9403" y="391"/>
                </a:lnTo>
                <a:arcTo wR="7906" hR="21600" stAng="-5642243" swAng="-5157757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7CD5-8D26-4E1E-868F-3DB28C668D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-trees (13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-tables (13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199E-5C9B-4CCB-8E6A-E9D8BCE203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1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3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4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70680" y="1565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delete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3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66BD-D9B6-4F3A-8F21-327B6D8B6F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7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8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9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0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1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2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3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67800" y="1565280"/>
            <a:ext cx="277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ng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 not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r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733920" y="5105520"/>
            <a:ext cx="1295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0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828800" y="4267080"/>
            <a:ext cx="3352680" cy="1295640"/>
          </a:xfrm>
          <a:custGeom>
            <a:avLst/>
            <a:gdLst/>
            <a:ahLst/>
            <a:rect l="l" t="t" r="r" b="b"/>
            <a:pathLst>
              <a:path w="2112" h="816">
                <a:moveTo>
                  <a:pt x="17" y="114"/>
                </a:moveTo>
                <a:cubicBezTo>
                  <a:pt x="39" y="106"/>
                  <a:pt x="28" y="108"/>
                  <a:pt x="50" y="108"/>
                </a:cubicBezTo>
                <a:lnTo>
                  <a:pt x="720" y="0"/>
                </a:lnTo>
                <a:lnTo>
                  <a:pt x="1680" y="0"/>
                </a:lnTo>
                <a:lnTo>
                  <a:pt x="2112" y="144"/>
                </a:lnTo>
                <a:lnTo>
                  <a:pt x="2112" y="720"/>
                </a:lnTo>
                <a:lnTo>
                  <a:pt x="1728" y="816"/>
                </a:lnTo>
                <a:lnTo>
                  <a:pt x="624" y="768"/>
                </a:lnTo>
                <a:lnTo>
                  <a:pt x="48" y="720"/>
                </a:lnTo>
                <a:lnTo>
                  <a:pt x="0" y="384"/>
                </a:lnTo>
                <a:lnTo>
                  <a:pt x="17" y="11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A5E5-E547-48A2-A485-3103311033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5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6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7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8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9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1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590920" y="3657600"/>
            <a:ext cx="2590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352680" y="5105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68880" y="156528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666880" y="51055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9BA7-DDD2-405E-8656-0B07A64B8B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storage hash tables are much like main memory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bas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u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hash function f(k) maps a key k to {0, 1, …, n-1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in bucket f(k) a pointer to record with key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storage: bucket = block, use overflow blocks when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0F1F-0869-49C0-82F9-98852F3C8E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1 bucket (block) stores 2 keys + poi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e)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b)=h(f)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g)=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a)=h(c)=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Tab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1" name=""/>
          <p:cNvGraphicFramePr/>
          <p:nvPr/>
        </p:nvGraphicFramePr>
        <p:xfrm>
          <a:off x="5486400" y="2971800"/>
          <a:ext cx="2057400" cy="30322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2" name=""/>
          <p:cNvSpPr/>
          <p:nvPr/>
        </p:nvSpPr>
        <p:spPr>
          <a:xfrm>
            <a:off x="471024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710240" y="3848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710240" y="457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71024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AEFF-DE90-425E-90DB-5B52F22013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h(a)=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bucket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disk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ing in a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5486400" y="2971800"/>
          <a:ext cx="2057400" cy="30322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9" name=""/>
          <p:cNvSpPr/>
          <p:nvPr/>
        </p:nvSpPr>
        <p:spPr>
          <a:xfrm>
            <a:off x="471024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710240" y="3848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710240" y="457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71024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0B8F-6E89-47C5-8A65-6796EBB2012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 in right bucket, if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h(d)=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5486400" y="2971800"/>
          <a:ext cx="2057400" cy="30322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6" name=""/>
          <p:cNvSpPr/>
          <p:nvPr/>
        </p:nvSpPr>
        <p:spPr>
          <a:xfrm>
            <a:off x="471024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710240" y="3848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710240" y="457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71024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DE08-8898-43ED-9137-49904776451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overflow block, if no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h(k)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ver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w block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2" name=""/>
          <p:cNvGraphicFramePr/>
          <p:nvPr/>
        </p:nvGraphicFramePr>
        <p:xfrm>
          <a:off x="3962520" y="3048120"/>
          <a:ext cx="2057400" cy="303192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3" name=""/>
          <p:cNvSpPr/>
          <p:nvPr/>
        </p:nvSpPr>
        <p:spPr>
          <a:xfrm>
            <a:off x="318636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186360" y="39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186360" y="4649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186360" y="537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019920" y="3809880"/>
            <a:ext cx="309600" cy="30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8" name=""/>
          <p:cNvGraphicFramePr/>
          <p:nvPr/>
        </p:nvGraphicFramePr>
        <p:xfrm>
          <a:off x="6705720" y="3809880"/>
          <a:ext cx="2057400" cy="7574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9" name=""/>
          <p:cNvSpPr/>
          <p:nvPr/>
        </p:nvSpPr>
        <p:spPr>
          <a:xfrm>
            <a:off x="617220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EE44-0307-4855-B958-F1CF8077C2D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Table 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llent, if no overflow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grades considerably when number of keys exceeds the number of buckets (I.e. many overflow block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2B59-C0A7-4FDE-8AFD-C122A606B27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has table to grow, to avoid performance degra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a hash function h that returns numbers in {0, …,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n =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&lt;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, only look at first i most significant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85D3-7B28-4A9D-9867-5FEDA990305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in B   Tre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1 node = 1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in B+ Tre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leaves into a linked list (range queries are easi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B1AA-86FB-45AA-94BD-287F2569E2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i=1, n=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2, k=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we only look at the first bit (0 or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6" name=""/>
          <p:cNvGraphicFramePr/>
          <p:nvPr/>
        </p:nvGraphicFramePr>
        <p:xfrm>
          <a:off x="5791320" y="26668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7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0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8" name=""/>
          <p:cNvGraphicFramePr/>
          <p:nvPr/>
        </p:nvGraphicFramePr>
        <p:xfrm>
          <a:off x="3809880" y="3581280"/>
          <a:ext cx="914400" cy="757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9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0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267080" y="4114800"/>
            <a:ext cx="1524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26232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2785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748F-08BC-47F4-ABBB-48B55EBED6E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11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8" name=""/>
          <p:cNvGraphicFramePr/>
          <p:nvPr/>
        </p:nvGraphicFramePr>
        <p:xfrm>
          <a:off x="5791320" y="26668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9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0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(1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40" name=""/>
          <p:cNvGraphicFramePr/>
          <p:nvPr/>
        </p:nvGraphicFramePr>
        <p:xfrm>
          <a:off x="3809880" y="3581280"/>
          <a:ext cx="914400" cy="757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1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2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267080" y="4114800"/>
            <a:ext cx="1524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26232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2785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A65B-F54F-467C-A548-0A169929F12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nsert 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extend table, split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becomes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0" name=""/>
          <p:cNvGraphicFramePr/>
          <p:nvPr/>
        </p:nvGraphicFramePr>
        <p:xfrm>
          <a:off x="5791320" y="26668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1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0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110), 1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2" name=""/>
          <p:cNvGraphicFramePr/>
          <p:nvPr/>
        </p:nvGraphicFramePr>
        <p:xfrm>
          <a:off x="3809880" y="3581280"/>
          <a:ext cx="914400" cy="757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3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4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267080" y="4114800"/>
            <a:ext cx="1524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26232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2785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23FC-A7BA-4DEF-9F87-78874CB4C49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nsert 11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5791320" y="26668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3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64" name=""/>
          <p:cNvGraphicFramePr/>
          <p:nvPr/>
        </p:nvGraphicFramePr>
        <p:xfrm>
          <a:off x="3809880" y="3581280"/>
          <a:ext cx="914400" cy="1513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5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6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2670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262320" y="347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26232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6232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262320" y="461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4" name=""/>
          <p:cNvGraphicFramePr/>
          <p:nvPr/>
        </p:nvGraphicFramePr>
        <p:xfrm>
          <a:off x="5791320" y="50292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5" name=""/>
          <p:cNvSpPr/>
          <p:nvPr/>
        </p:nvSpPr>
        <p:spPr>
          <a:xfrm>
            <a:off x="7848720" y="5029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267080" y="4876920"/>
            <a:ext cx="1524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V="1">
            <a:off x="4343400" y="2895120"/>
            <a:ext cx="1447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9224-CC18-4867-A08C-D5CBF7318BF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nsert 0000, then 0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split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0" name=""/>
          <p:cNvGraphicFramePr/>
          <p:nvPr/>
        </p:nvGraphicFramePr>
        <p:xfrm>
          <a:off x="5791320" y="2666880"/>
          <a:ext cx="2057400" cy="7574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(000), 0(1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1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2" name=""/>
          <p:cNvGraphicFramePr/>
          <p:nvPr/>
        </p:nvGraphicFramePr>
        <p:xfrm>
          <a:off x="3809880" y="3581280"/>
          <a:ext cx="914400" cy="1513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3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4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2670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262320" y="347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26232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26232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262320" y="461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2" name=""/>
          <p:cNvGraphicFramePr/>
          <p:nvPr/>
        </p:nvGraphicFramePr>
        <p:xfrm>
          <a:off x="5791320" y="50292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3" name=""/>
          <p:cNvSpPr/>
          <p:nvPr/>
        </p:nvSpPr>
        <p:spPr>
          <a:xfrm>
            <a:off x="7848720" y="5029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267080" y="4876920"/>
            <a:ext cx="1524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4343400" y="2895120"/>
            <a:ext cx="1447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4EA3-9D4E-4773-8FC6-856BAC858B9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plitting the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8" name=""/>
          <p:cNvGraphicFramePr/>
          <p:nvPr/>
        </p:nvGraphicFramePr>
        <p:xfrm>
          <a:off x="5791320" y="23623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(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9" name=""/>
          <p:cNvGraphicFramePr/>
          <p:nvPr/>
        </p:nvGraphicFramePr>
        <p:xfrm>
          <a:off x="5791320" y="40384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0" name=""/>
          <p:cNvGraphicFramePr/>
          <p:nvPr/>
        </p:nvGraphicFramePr>
        <p:xfrm>
          <a:off x="3809880" y="3581280"/>
          <a:ext cx="914400" cy="1513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1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2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2670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848720" y="23623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848720" y="4038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62320" y="347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26232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26232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62320" y="461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0" name=""/>
          <p:cNvGraphicFramePr/>
          <p:nvPr/>
        </p:nvGraphicFramePr>
        <p:xfrm>
          <a:off x="5791320" y="50292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1" name=""/>
          <p:cNvSpPr/>
          <p:nvPr/>
        </p:nvSpPr>
        <p:spPr>
          <a:xfrm>
            <a:off x="7848720" y="5029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267080" y="4876920"/>
            <a:ext cx="1524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4343400" y="3352320"/>
            <a:ext cx="14479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4" name=""/>
          <p:cNvGraphicFramePr/>
          <p:nvPr/>
        </p:nvGraphicFramePr>
        <p:xfrm>
          <a:off x="5791320" y="3200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(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5" name=""/>
          <p:cNvSpPr/>
          <p:nvPr/>
        </p:nvSpPr>
        <p:spPr>
          <a:xfrm>
            <a:off x="7848720" y="32004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820F-43AE-4EC0-B4A1-5793B125DBC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overflow blocks: access always one 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ons can be costly and disrup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an extension table may no longer fit 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7BD2-9E82-4CF1-841E-868DE9629B6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: extend only one entry at a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n= no longer a power of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i be such that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= n &lt;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+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computing h(k), use last i bi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last i bits represent a number &gt; n, change msb from 1 to 0 (get a number &lt;= 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3815-2F5F-4FFA-91C7-5D5E6033BFF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=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2" name=""/>
          <p:cNvGraphicFramePr/>
          <p:nvPr/>
        </p:nvGraphicFramePr>
        <p:xfrm>
          <a:off x="5791320" y="23623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3" name=""/>
          <p:cNvGraphicFramePr/>
          <p:nvPr/>
        </p:nvGraphicFramePr>
        <p:xfrm>
          <a:off x="5791320" y="40384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4" name=""/>
          <p:cNvGraphicFramePr/>
          <p:nvPr/>
        </p:nvGraphicFramePr>
        <p:xfrm>
          <a:off x="3809880" y="3581280"/>
          <a:ext cx="914400" cy="1135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5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6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2670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848720" y="23623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848720" y="4038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262320" y="347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26232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26232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4343400" y="3352320"/>
            <a:ext cx="14479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4" name=""/>
          <p:cNvGraphicFramePr/>
          <p:nvPr/>
        </p:nvGraphicFramePr>
        <p:xfrm>
          <a:off x="5791320" y="3200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(01)1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BIT FL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5" name=""/>
          <p:cNvSpPr/>
          <p:nvPr/>
        </p:nvSpPr>
        <p:spPr>
          <a:xfrm>
            <a:off x="7848720" y="32004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3843-33FF-4841-B466-4A842FA51CC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1000: overflow block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8" name=""/>
          <p:cNvGraphicFramePr/>
          <p:nvPr/>
        </p:nvGraphicFramePr>
        <p:xfrm>
          <a:off x="3657600" y="3200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9" name=""/>
          <p:cNvGraphicFramePr/>
          <p:nvPr/>
        </p:nvGraphicFramePr>
        <p:xfrm>
          <a:off x="3657600" y="48769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0" name=""/>
          <p:cNvGraphicFramePr/>
          <p:nvPr/>
        </p:nvGraphicFramePr>
        <p:xfrm>
          <a:off x="1676520" y="4419720"/>
          <a:ext cx="914400" cy="1135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1" name=""/>
          <p:cNvGraphicFramePr/>
          <p:nvPr/>
        </p:nvGraphicFramePr>
        <p:xfrm>
          <a:off x="1676520" y="350532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2" name=""/>
          <p:cNvSpPr/>
          <p:nvPr/>
        </p:nvSpPr>
        <p:spPr>
          <a:xfrm flipV="1">
            <a:off x="2133720" y="3657600"/>
            <a:ext cx="1523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133720" y="5410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715000" y="3200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715000" y="4876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128600" y="430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28600" y="4689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128600" y="507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2209680" y="4191120"/>
            <a:ext cx="1447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0" name=""/>
          <p:cNvGraphicFramePr/>
          <p:nvPr/>
        </p:nvGraphicFramePr>
        <p:xfrm>
          <a:off x="3657600" y="40384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1" name=""/>
          <p:cNvSpPr/>
          <p:nvPr/>
        </p:nvSpPr>
        <p:spPr>
          <a:xfrm>
            <a:off x="5715000" y="4038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6400800" y="3200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3" name=""/>
          <p:cNvSpPr/>
          <p:nvPr/>
        </p:nvSpPr>
        <p:spPr>
          <a:xfrm>
            <a:off x="8458200" y="3200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86728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785B-660C-4AEA-8D78-1B0565D9657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d = 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g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node has &gt;= d and &lt;= 2d keys (except roo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leaf has &gt;=d and &lt;= 2d ke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s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200400" y="3079800"/>
          <a:ext cx="1828800" cy="685800"/>
        </p:xfrm>
        <a:graphic>
          <a:graphicData uri="http://schemas.openxmlformats.org/drawingml/2006/table">
            <a:tbl>
              <a:tblPr/>
              <a:tblGrid>
                <a:gridCol w="431640"/>
                <a:gridCol w="216000"/>
                <a:gridCol w="322200"/>
                <a:gridCol w="236160"/>
                <a:gridCol w="237600"/>
                <a:gridCol w="385200"/>
              </a:tblGrid>
              <a:tr h="342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 flipH="1">
            <a:off x="2666520" y="36133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3613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36133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3613320"/>
            <a:ext cx="1295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401940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k &lt; 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69640" y="4172040"/>
            <a:ext cx="14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30&lt;=k&lt;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2800" y="4146480"/>
            <a:ext cx="152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120&lt;=k&lt;2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47440" y="414648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240&lt;=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276720" y="5079960"/>
          <a:ext cx="1828800" cy="685800"/>
        </p:xfrm>
        <a:graphic>
          <a:graphicData uri="http://schemas.openxmlformats.org/drawingml/2006/table">
            <a:tbl>
              <a:tblPr/>
              <a:tblGrid>
                <a:gridCol w="431640"/>
                <a:gridCol w="216000"/>
                <a:gridCol w="322200"/>
                <a:gridCol w="236160"/>
                <a:gridCol w="237600"/>
                <a:gridCol w="385200"/>
              </a:tblGrid>
              <a:tr h="342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 flipH="1">
            <a:off x="2742840" y="561348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5613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561348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5613480"/>
            <a:ext cx="1295640" cy="2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7720" y="602352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63000" y="609948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7400" y="609948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84960" y="544824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 le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9AD6-63E9-4656-A6DA-7B6DB80CA4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: independent on overflow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 n:=n+1 when average number of records per block exceeds (say) 8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4F70-6FF9-4626-99AD-04F2E7CA005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 Ext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n=3 to n=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need to tou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block (which one 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9" name=""/>
          <p:cNvGraphicFramePr/>
          <p:nvPr/>
        </p:nvGraphicFramePr>
        <p:xfrm>
          <a:off x="2530440" y="27432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0" name=""/>
          <p:cNvGraphicFramePr/>
          <p:nvPr/>
        </p:nvGraphicFramePr>
        <p:xfrm>
          <a:off x="2530440" y="44197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1" name=""/>
          <p:cNvGraphicFramePr/>
          <p:nvPr/>
        </p:nvGraphicFramePr>
        <p:xfrm>
          <a:off x="549360" y="3962520"/>
          <a:ext cx="914400" cy="1135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2" name=""/>
          <p:cNvGraphicFramePr/>
          <p:nvPr/>
        </p:nvGraphicFramePr>
        <p:xfrm>
          <a:off x="549360" y="304812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3" name=""/>
          <p:cNvSpPr/>
          <p:nvPr/>
        </p:nvSpPr>
        <p:spPr>
          <a:xfrm flipV="1">
            <a:off x="1006560" y="3200400"/>
            <a:ext cx="1523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00656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587840" y="2743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572000" y="4419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44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44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440" y="461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1082520" y="3733920"/>
            <a:ext cx="1447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1" name=""/>
          <p:cNvGraphicFramePr/>
          <p:nvPr/>
        </p:nvGraphicFramePr>
        <p:xfrm>
          <a:off x="2530440" y="35812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2" name=""/>
          <p:cNvSpPr/>
          <p:nvPr/>
        </p:nvSpPr>
        <p:spPr>
          <a:xfrm>
            <a:off x="458784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3" name=""/>
          <p:cNvGraphicFramePr/>
          <p:nvPr/>
        </p:nvGraphicFramePr>
        <p:xfrm>
          <a:off x="6629400" y="3809880"/>
          <a:ext cx="2057400" cy="7574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4" name=""/>
          <p:cNvGraphicFramePr/>
          <p:nvPr/>
        </p:nvGraphicFramePr>
        <p:xfrm>
          <a:off x="6629400" y="5486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5" name=""/>
          <p:cNvGraphicFramePr/>
          <p:nvPr/>
        </p:nvGraphicFramePr>
        <p:xfrm>
          <a:off x="5257800" y="5029200"/>
          <a:ext cx="914400" cy="151272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6" name=""/>
          <p:cNvGraphicFramePr/>
          <p:nvPr/>
        </p:nvGraphicFramePr>
        <p:xfrm>
          <a:off x="5257800" y="411480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7" name=""/>
          <p:cNvSpPr/>
          <p:nvPr/>
        </p:nvSpPr>
        <p:spPr>
          <a:xfrm>
            <a:off x="8686800" y="3809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868680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709880" y="4917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709880" y="529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709880" y="5680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2" name=""/>
          <p:cNvGraphicFramePr/>
          <p:nvPr/>
        </p:nvGraphicFramePr>
        <p:xfrm>
          <a:off x="6629400" y="46483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3" name=""/>
          <p:cNvSpPr/>
          <p:nvPr/>
        </p:nvSpPr>
        <p:spPr>
          <a:xfrm>
            <a:off x="8686800" y="4648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4" name=""/>
          <p:cNvGraphicFramePr/>
          <p:nvPr/>
        </p:nvGraphicFramePr>
        <p:xfrm>
          <a:off x="6629400" y="2819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5" name=""/>
          <p:cNvSpPr/>
          <p:nvPr/>
        </p:nvSpPr>
        <p:spPr>
          <a:xfrm>
            <a:off x="8686800" y="2819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402080" y="609588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=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5715000" y="2971800"/>
            <a:ext cx="9144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5715000" y="4114440"/>
            <a:ext cx="914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5715000" y="480024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5791320" y="579096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rot="5400000">
            <a:off x="7002720" y="4426560"/>
            <a:ext cx="1828800" cy="9003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900360"/>
              <a:gd name="textAreaBottom" fmla="*/ 900720 h 900360"/>
            </a:gdLst>
            <a:ahLst/>
            <a:rect l="textAreaLeft" t="textAreaTop" r="textAreaRight" b="textAreaBottom"/>
            <a:pathLst>
              <a:path w="21600" h="21600">
                <a:moveTo>
                  <a:pt x="2701" y="11029"/>
                </a:moveTo>
                <a:arcTo wR="-8102" hR="-8102" stAng="10702823" swAng="-10702823"/>
                <a:lnTo>
                  <a:pt x="0" y="10800"/>
                </a:lnTo>
                <a:arcTo wR="10800" hR="10800" stAng="10800000" swAng="10702823"/>
                <a:lnTo>
                  <a:pt x="24295" y="10418"/>
                </a:lnTo>
                <a:lnTo>
                  <a:pt x="20362" y="14580"/>
                </a:lnTo>
                <a:lnTo>
                  <a:pt x="16200" y="1064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8858-7D63-4612-A545-FA1EDEDC91E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 Ext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n=3 to n=4 fin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 from n=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n=5 (new b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touch eve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block (why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4" name=""/>
          <p:cNvGraphicFramePr/>
          <p:nvPr/>
        </p:nvGraphicFramePr>
        <p:xfrm>
          <a:off x="6629400" y="3809880"/>
          <a:ext cx="2057400" cy="7574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5" name=""/>
          <p:cNvGraphicFramePr/>
          <p:nvPr/>
        </p:nvGraphicFramePr>
        <p:xfrm>
          <a:off x="6629400" y="5486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6" name=""/>
          <p:cNvGraphicFramePr/>
          <p:nvPr/>
        </p:nvGraphicFramePr>
        <p:xfrm>
          <a:off x="5257800" y="5029200"/>
          <a:ext cx="914400" cy="151272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7" name=""/>
          <p:cNvGraphicFramePr/>
          <p:nvPr/>
        </p:nvGraphicFramePr>
        <p:xfrm>
          <a:off x="5257800" y="411480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8" name=""/>
          <p:cNvSpPr/>
          <p:nvPr/>
        </p:nvSpPr>
        <p:spPr>
          <a:xfrm>
            <a:off x="8686800" y="3809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868680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709880" y="4917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709880" y="529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709880" y="5680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3" name=""/>
          <p:cNvGraphicFramePr/>
          <p:nvPr/>
        </p:nvGraphicFramePr>
        <p:xfrm>
          <a:off x="6629400" y="46483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4" name=""/>
          <p:cNvSpPr/>
          <p:nvPr/>
        </p:nvSpPr>
        <p:spPr>
          <a:xfrm>
            <a:off x="8686800" y="4648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6629400" y="2819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6" name=""/>
          <p:cNvSpPr/>
          <p:nvPr/>
        </p:nvSpPr>
        <p:spPr>
          <a:xfrm>
            <a:off x="8686800" y="2819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726080" y="6095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5715000" y="2971800"/>
            <a:ext cx="9144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5715000" y="4114440"/>
            <a:ext cx="914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5715000" y="480024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5791320" y="579096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5BE5-DADB-44A6-B488-EA55EFB1440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81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91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8564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164160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63440" y="1865160"/>
            <a:ext cx="113328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Find the key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55400" y="2581200"/>
            <a:ext cx="68184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 </a:t>
            </a:r>
            <a:r>
              <a:rPr b="0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88920" y="3957480"/>
            <a:ext cx="99576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20 &lt;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 </a:t>
            </a:r>
            <a:r>
              <a:rPr b="0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79640" y="5329080"/>
            <a:ext cx="99576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30 &lt;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 </a:t>
            </a:r>
            <a:r>
              <a:rPr b="0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C4D9-BEF9-418C-80C9-EA6756BB85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large 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size = 4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size = 8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size = 4096 b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d x 4  + (2d+1) x 8  &lt;=  40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= 1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3E35-B544-40BC-8DED-DFD6FC7CDB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ing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ct key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at the 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ed down, to the l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 que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quential traver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23880" y="2286000"/>
            <a:ext cx="2124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 =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9480" y="4191120"/>
            <a:ext cx="2296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 &lt;=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age &lt;=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CEFC-C483-46F1-8BCC-565C887E9A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s in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order: 100.  Typical fill-factor: 67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fanout = 1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capac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ight 4: 13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12,900,700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ight 3: 13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   2,352,637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often hold top levels in buffer poo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1 =           1 page  =     8 K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2 =      133 pages =     1 M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3 = 17,689 pages = 133 MBytes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(K, 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leaf where K belongs, in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overflow (2d keys or less), h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overflow (2d+1 keys), split node, insert in par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leaf, keep K3 too in right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root splits, new root has 1 key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28600" y="4572000"/>
          <a:ext cx="2895480" cy="685800"/>
        </p:xfrm>
        <a:graphic>
          <a:graphicData uri="http://schemas.openxmlformats.org/drawingml/2006/table">
            <a:tbl>
              <a:tblPr/>
              <a:tblGrid>
                <a:gridCol w="399960"/>
                <a:gridCol w="216000"/>
                <a:gridCol w="241200"/>
                <a:gridCol w="261360"/>
                <a:gridCol w="313200"/>
                <a:gridCol w="261360"/>
                <a:gridCol w="258840"/>
                <a:gridCol w="313200"/>
                <a:gridCol w="192240"/>
                <a:gridCol w="438120"/>
              </a:tblGrid>
              <a:tr h="342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114800" y="4572000"/>
          <a:ext cx="2286000" cy="685800"/>
        </p:xfrm>
        <a:graphic>
          <a:graphicData uri="http://schemas.openxmlformats.org/drawingml/2006/table">
            <a:tbl>
              <a:tblPr/>
              <a:tblGrid>
                <a:gridCol w="45072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553080" y="4572000"/>
          <a:ext cx="2286000" cy="685800"/>
        </p:xfrm>
        <a:graphic>
          <a:graphicData uri="http://schemas.openxmlformats.org/drawingml/2006/table">
            <a:tbl>
              <a:tblPr/>
              <a:tblGrid>
                <a:gridCol w="45072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5408280" y="3657600"/>
            <a:ext cx="10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ent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3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41911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49528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28600" y="40384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74880" y="36720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114440" y="41911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B38A-FB7F-4344-A260-E743E4E525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Yana K</cp:lastModifiedBy>
  <dcterms:modified xsi:type="dcterms:W3CDTF">2002-11-15T16:17:32Z</dcterms:modified>
  <cp:revision>247</cp:revision>
  <dc:subject/>
  <dc:title>Lecture 09:</dc:title>
</cp:coreProperties>
</file>