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BB49-9F52-4826-BD45-645A9817F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B824-FDEA-4A36-BDAE-B41738EF6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39C5-D352-4E64-82C2-BB080E74B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7B18-3928-4C71-BEE9-142C41ECC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12A1-DE3E-498D-8773-7FE5232A8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6559-E002-4FF0-BC3B-69434553F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3813-6047-4BDF-9671-A3D8222DB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605D-4BA0-49A0-B33E-8E69616E9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598-639A-412E-92F1-C41D9792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C7D7-4ED9-46BF-A55D-A2333B4D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2C5-F97A-48D1-9F33-46020E44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720-5C01-4606-9D1F-EB794B70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31D-872C-4495-850B-4868E626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3C0-70C2-48F6-B994-ABEEBB9C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CFB-326D-43BA-B14B-94D6D13F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ED4-C1AB-474A-9DC9-2E7E6787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11E4-C43E-4086-BED0-18B7485F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DC2-7494-48F8-810F-0DF0DC4E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575-3DE8-4FA9-A3B7-61245BFF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F33-CDB9-4559-A2B3-862E08E8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441C-5647-480B-9BD4-4FC9EC320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7: Data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8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98F-C807-4284-8931-14B696303C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larg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ed by modern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mages, s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: attempt to cluster block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B = character large obj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only restricted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C5A-42B5-480F-A651-0A4265B58D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In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unsorted: add it to the end (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the right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: we are lucky, store it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a neighboring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1-2 blocks to the left/right, shift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ything else fails, creat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flow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37A-F5E0-401D-BAF9-56BF8183DC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flow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while the file starts being dominated by overflow blocks: time to reorgan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3809880"/>
            <a:ext cx="16761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EB3-CBF4-4635-982C-BA627B9EA3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in block, shift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 be able to eliminate an overflow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never really eliminate the record, because others may point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a tombstone instead (a NULL rec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37A-FB5C-4233-BA01-8D1C93AA09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w record is shorter than previous, 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is longer, need to shift records, create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1F2-406F-4070-920A-0C205D0F95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lock and each record have a physical address that consist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ylind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ck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ck within the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ecords: an offset in the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this is in the block’s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707-1A0F-44C6-9641-0825CF9B55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address: a string of bytes (10-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le: can blocks/records a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need translation t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523880" y="3962520"/>
          <a:ext cx="5715000" cy="207000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cal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EC6-21C7-4718-9AC1-9B25F8940A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 Ad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block is read in main memory, it receives a main memory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nother transl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523880" y="4114800"/>
          <a:ext cx="5715000" cy="207000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y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cal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D180-2CBA-4CEC-9A46-07C8F88770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: 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the process of replacing a physical/logical pointer with a main memory poi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need translation table, but subsequent references are f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079-78EB-4858-BF85-F02AB5B7FB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2590920"/>
            <a:ext cx="1752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2590920"/>
            <a:ext cx="1752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72120" y="2705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0000" y="2705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05240" y="2705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6840" y="2708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65960" y="20224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56880" y="194616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3000" y="51055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67080" y="480060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48440" y="491508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86320" y="491508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3657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78600" y="38512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49840" y="2502000"/>
            <a:ext cx="584280" cy="317520"/>
          </a:xfrm>
          <a:custGeom>
            <a:avLst/>
            <a:gdLst/>
            <a:ahLst/>
            <a:rect l="l" t="t" r="r" b="b"/>
            <a:pathLst>
              <a:path w="368" h="200">
                <a:moveTo>
                  <a:pt x="368" y="200"/>
                </a:moveTo>
                <a:cubicBezTo>
                  <a:pt x="324" y="108"/>
                  <a:pt x="280" y="16"/>
                  <a:pt x="224" y="8"/>
                </a:cubicBezTo>
                <a:cubicBezTo>
                  <a:pt x="168" y="0"/>
                  <a:pt x="64" y="120"/>
                  <a:pt x="32" y="152"/>
                </a:cubicBezTo>
                <a:cubicBezTo>
                  <a:pt x="0" y="184"/>
                  <a:pt x="16" y="192"/>
                  <a:pt x="32" y="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4600" y="3276720"/>
            <a:ext cx="2819520" cy="533160"/>
          </a:xfrm>
          <a:custGeom>
            <a:avLst/>
            <a:gdLst/>
            <a:ahLst/>
            <a:rect l="l" t="t" r="r" b="b"/>
            <a:pathLst>
              <a:path w="1776" h="336">
                <a:moveTo>
                  <a:pt x="1776" y="0"/>
                </a:moveTo>
                <a:cubicBezTo>
                  <a:pt x="1704" y="120"/>
                  <a:pt x="1632" y="240"/>
                  <a:pt x="1392" y="288"/>
                </a:cubicBezTo>
                <a:cubicBezTo>
                  <a:pt x="1152" y="336"/>
                  <a:pt x="568" y="328"/>
                  <a:pt x="336" y="288"/>
                </a:cubicBezTo>
                <a:cubicBezTo>
                  <a:pt x="104" y="248"/>
                  <a:pt x="52" y="1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4724280"/>
            <a:ext cx="583920" cy="317520"/>
          </a:xfrm>
          <a:custGeom>
            <a:avLst/>
            <a:gdLst/>
            <a:ahLst/>
            <a:rect l="l" t="t" r="r" b="b"/>
            <a:pathLst>
              <a:path w="368" h="200">
                <a:moveTo>
                  <a:pt x="368" y="200"/>
                </a:moveTo>
                <a:cubicBezTo>
                  <a:pt x="324" y="108"/>
                  <a:pt x="280" y="16"/>
                  <a:pt x="224" y="8"/>
                </a:cubicBezTo>
                <a:cubicBezTo>
                  <a:pt x="168" y="0"/>
                  <a:pt x="64" y="120"/>
                  <a:pt x="32" y="152"/>
                </a:cubicBezTo>
                <a:cubicBezTo>
                  <a:pt x="0" y="184"/>
                  <a:pt x="16" y="192"/>
                  <a:pt x="32" y="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3429000"/>
            <a:ext cx="2819520" cy="2171880"/>
          </a:xfrm>
          <a:custGeom>
            <a:avLst/>
            <a:gdLst/>
            <a:ahLst/>
            <a:rect l="l" t="t" r="r" b="b"/>
            <a:pathLst>
              <a:path w="1776" h="1368">
                <a:moveTo>
                  <a:pt x="1776" y="1296"/>
                </a:moveTo>
                <a:cubicBezTo>
                  <a:pt x="1348" y="1332"/>
                  <a:pt x="920" y="1368"/>
                  <a:pt x="624" y="1152"/>
                </a:cubicBezTo>
                <a:cubicBezTo>
                  <a:pt x="328" y="936"/>
                  <a:pt x="164" y="46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4267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zz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90920" y="53341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wizz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1905120"/>
            <a:ext cx="5867280" cy="1981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4343400"/>
            <a:ext cx="5867280" cy="1981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66A-37E1-4CD1-AF34-51504ABCCC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 (chapter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structures (13.1, 13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7E1-7951-4033-BA60-7877F45D68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tom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en block is read in main memory, swizzle all pointers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 dem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wizzle only when user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 swizz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lways use transl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F85-30EE-47A8-94F5-781688C757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blocks return to disk: pointers need unswizz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ger: someone else may point to this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nned blocks: we don’t allow it to return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a list of references to this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050-8750-46BC-BF20-2E5AA542FF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d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file speeds up selections on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arch key fiel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arch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ame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 set of fields that uniquely identify a record in a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contains a col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ata ent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upports efficient retrieval of all data entries with a given key val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/seco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/sp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+ tree / Hash table /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334-2313-457D-915A-BEF2EFD8EC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 on the index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: sequence of (key,pointer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44792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144792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6252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396252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96252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396252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 flipV="1">
            <a:off x="213372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3372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42670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33720" y="50292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33720" y="5181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33720" y="54864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33720" y="571500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AA5-8331-4E01-B928-7591ED1DA6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a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752480" y="31240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1752480" y="43434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4267080" y="3048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267080" y="38098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4267080" y="46483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267080" y="5486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 flipV="1">
            <a:off x="2438280" y="32004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35053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8280" y="373392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3962520"/>
            <a:ext cx="1828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4495680"/>
            <a:ext cx="1752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67E-C54C-4E8F-8B47-3DF7305DA2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 ind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905120" y="33526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1905120" y="45720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4419720" y="3276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419720" y="4038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419720" y="4876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4419720" y="5715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 flipV="1">
            <a:off x="259092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37339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3962520"/>
            <a:ext cx="18288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419112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32C-853C-48AC-8D08-EE4BF4D392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e index: pointer to lowest search key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457200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 flipV="1">
            <a:off x="274320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4038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3200" y="4267080"/>
            <a:ext cx="1828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18402"/>
              <a:gd name="adj2" fmla="val -320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48720" y="2666880"/>
            <a:ext cx="1066680" cy="1143000"/>
          </a:xfrm>
          <a:prstGeom prst="wedgeRoundRectCallout">
            <a:avLst>
              <a:gd name="adj1" fmla="val -88986"/>
              <a:gd name="adj2" fmla="val 965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but need to search here t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40E-5C14-4B8A-B11A-28ECCDB3B1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pointer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west new search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15 ? 35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205740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572000" y="28195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572000" y="4419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 flipV="1">
            <a:off x="2743200" y="2819160"/>
            <a:ext cx="1828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743200" y="3581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43200" y="42670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27259"/>
              <a:gd name="adj2" fmla="val -58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848720" y="4191120"/>
            <a:ext cx="1066680" cy="838080"/>
          </a:xfrm>
          <a:prstGeom prst="wedgeRoundRectCallout">
            <a:avLst>
              <a:gd name="adj1" fmla="val -88986"/>
              <a:gd name="adj2" fmla="val -122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ok to search from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414-01B1-439C-921A-13B3497160A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dex other attributes than 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dense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828800" y="35053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1828800" y="47242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343400" y="3429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4343400" y="4191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343400" y="50292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4343400" y="5867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514600" y="365760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14600" y="388620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35812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4343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4876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14600" y="388584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514600" y="434304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5562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EB4-F810-4B33-847F-038E3B6538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uple is represented as a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8920" y="2819520"/>
            <a:ext cx="7858800" cy="23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 INT PRIMARY 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VARCHAR(20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r CHAR(10) REFERENCES Company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39A-8D81-47AE-A3F1-1174DE0A75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indexes = usually 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indexes = usually 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890-C974-4231-A429-6DB71BF986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576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1424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41280" y="3670200"/>
            <a:ext cx="40032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7156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0400" y="36702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2744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5592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46080" y="258912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46080" y="16146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54360" y="16146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1000" y="15289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57520" y="156672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848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9540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5400" y="2986200"/>
            <a:ext cx="28080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0024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7476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4132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41320" y="2986200"/>
            <a:ext cx="23364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9864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5392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53920" y="27748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06600" y="25700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88960" y="27734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33680" y="28479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0184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01840" y="29862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5916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7976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09720" y="2774880"/>
            <a:ext cx="5904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1600" y="317016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01600" y="360828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3080" y="317016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3080" y="360504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0960" y="3170160"/>
            <a:ext cx="18900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0960" y="3603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040" y="317016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6560" y="360360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22280" y="3170160"/>
            <a:ext cx="180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03200" y="360504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66920" y="3170160"/>
            <a:ext cx="4896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89240" y="360360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14440" y="3170160"/>
            <a:ext cx="9360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76360" y="360216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60520" y="3170160"/>
            <a:ext cx="14112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62040" y="360216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79760" y="317016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81160" y="3611520"/>
            <a:ext cx="6696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73360" y="317016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19400" y="3613320"/>
            <a:ext cx="6840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4480" y="3170160"/>
            <a:ext cx="55908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05160" y="361476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952720" y="317016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90920" y="361620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42440" y="284328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662360" y="1612800"/>
            <a:ext cx="169920" cy="148140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62360" y="3689280"/>
            <a:ext cx="169920" cy="557280"/>
          </a:xfrm>
          <a:custGeom>
            <a:avLst/>
            <a:gdLst/>
            <a:ahLst/>
            <a:rect l="l" t="t" r="r" b="b"/>
            <a:pathLst>
              <a:path w="107" h="351">
                <a:moveTo>
                  <a:pt x="0" y="0"/>
                </a:moveTo>
                <a:lnTo>
                  <a:pt x="106" y="0"/>
                </a:lnTo>
                <a:lnTo>
                  <a:pt x="106" y="350"/>
                </a:lnTo>
                <a:lnTo>
                  <a:pt x="0" y="3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68880" y="312408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5200" y="336708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98040" y="407196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42000" y="369108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97760" y="3691080"/>
            <a:ext cx="34416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56400" y="3691080"/>
            <a:ext cx="33804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12160" y="3691080"/>
            <a:ext cx="33948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66120" y="3691080"/>
            <a:ext cx="34596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0215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4787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397560" y="2522520"/>
            <a:ext cx="149076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397560" y="14763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4763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91480" y="1384200"/>
            <a:ext cx="29196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01000" y="1425600"/>
            <a:ext cx="8244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39000" y="2803680"/>
            <a:ext cx="40464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42200" y="2930400"/>
            <a:ext cx="6336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42200" y="2954160"/>
            <a:ext cx="24120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1824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8196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833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833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23040" y="29304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21600" y="2506680"/>
            <a:ext cx="15840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21600" y="27273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81760" y="2506680"/>
            <a:ext cx="180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67360" y="27255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6772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6756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675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025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10560" y="25066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920000" y="27273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78600" y="314964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35560" y="3568680"/>
            <a:ext cx="4464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794200" y="314964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94200" y="362412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97760" y="314964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699240" y="363384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97600" y="314964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97600" y="35733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321600" y="314964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61160" y="3605040"/>
            <a:ext cx="68400" cy="4320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78600" y="314964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78600" y="358920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99320" y="314964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507520" y="36082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99320" y="3149640"/>
            <a:ext cx="16488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99320" y="361620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924600" y="314964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89920" y="3575160"/>
            <a:ext cx="5688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26360" y="314964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3384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929720" y="314964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201160" y="36226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810560" y="3149640"/>
            <a:ext cx="24120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10560" y="3571920"/>
            <a:ext cx="4752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89920" y="3149640"/>
            <a:ext cx="144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072280" y="3619440"/>
            <a:ext cx="3672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240" y="336564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83680" y="24717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22120" y="4148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41960" y="4605480"/>
            <a:ext cx="189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55920" y="468144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5638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other attributes than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unsorted files (heap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cluste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1BB-9C56-4B1C-85CD-73993DBDED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uste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any(name, city), Product(pid, mak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0600" y="3241800"/>
            <a:ext cx="3205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=mak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id=“p045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52640" y="3200400"/>
            <a:ext cx="3205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=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ity=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5715000"/>
            <a:ext cx="7924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90720" y="5715000"/>
            <a:ext cx="1523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5715000"/>
            <a:ext cx="1523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553080" y="5715000"/>
            <a:ext cx="15242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8954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767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812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913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7220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3059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6104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5400000">
            <a:off x="312408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rot="5400000">
            <a:off x="5905080" y="499104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5400000">
            <a:off x="8381880" y="510516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36960" y="51055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80160" y="502920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80480" y="502920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1A6-C339-4ED9-8215-78460DBB6FB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te Search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mposite Search Key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on a combination of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 query: Every field value is equal to a constant value. E.g. wrt &lt;sal,age&gt; ind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=20 and sal =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query: Some field value is not a constant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=20; or age=20 and sal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79880" y="4237200"/>
            <a:ext cx="723960" cy="1201680"/>
          </a:xfrm>
          <a:custGeom>
            <a:avLst/>
            <a:gdLst/>
            <a:ahLst/>
            <a:rect l="l" t="t" r="r" b="b"/>
            <a:pathLst>
              <a:path w="456" h="757">
                <a:moveTo>
                  <a:pt x="0" y="0"/>
                </a:moveTo>
                <a:lnTo>
                  <a:pt x="455" y="0"/>
                </a:lnTo>
                <a:lnTo>
                  <a:pt x="455" y="756"/>
                </a:ln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79880" y="453708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79880" y="483876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79880" y="5135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79880" y="2438280"/>
            <a:ext cx="723960" cy="1200240"/>
          </a:xfrm>
          <a:custGeom>
            <a:avLst/>
            <a:gdLst/>
            <a:ahLst/>
            <a:rect l="l" t="t" r="r" b="b"/>
            <a:pathLst>
              <a:path w="456" h="756">
                <a:moveTo>
                  <a:pt x="0" y="0"/>
                </a:moveTo>
                <a:lnTo>
                  <a:pt x="455" y="0"/>
                </a:lnTo>
                <a:lnTo>
                  <a:pt x="455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79880" y="273996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79880" y="3038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979880" y="333864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335800" y="2438280"/>
            <a:ext cx="723960" cy="1200240"/>
          </a:xfrm>
          <a:custGeom>
            <a:avLst/>
            <a:gdLst/>
            <a:ahLst/>
            <a:rect l="l" t="t" r="r" b="b"/>
            <a:pathLst>
              <a:path w="456" h="756">
                <a:moveTo>
                  <a:pt x="0" y="0"/>
                </a:moveTo>
                <a:lnTo>
                  <a:pt x="455" y="0"/>
                </a:lnTo>
                <a:lnTo>
                  <a:pt x="455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335800" y="273996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335800" y="3038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35800" y="333864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46960" y="4237200"/>
            <a:ext cx="723960" cy="1201680"/>
          </a:xfrm>
          <a:custGeom>
            <a:avLst/>
            <a:gdLst/>
            <a:ahLst/>
            <a:rect l="l" t="t" r="r" b="b"/>
            <a:pathLst>
              <a:path w="456" h="757">
                <a:moveTo>
                  <a:pt x="0" y="0"/>
                </a:moveTo>
                <a:lnTo>
                  <a:pt x="455" y="0"/>
                </a:lnTo>
                <a:lnTo>
                  <a:pt x="455" y="756"/>
                </a:ln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346960" y="453708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346960" y="483876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346960" y="5135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80000" y="2589120"/>
            <a:ext cx="844560" cy="1127160"/>
          </a:xfrm>
          <a:custGeom>
            <a:avLst/>
            <a:gdLst/>
            <a:ahLst/>
            <a:rect l="l" t="t" r="r" b="b"/>
            <a:pathLst>
              <a:path w="532" h="710">
                <a:moveTo>
                  <a:pt x="0" y="0"/>
                </a:moveTo>
                <a:lnTo>
                  <a:pt x="531" y="70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40320" y="3605040"/>
            <a:ext cx="84240" cy="111240"/>
          </a:xfrm>
          <a:custGeom>
            <a:avLst/>
            <a:gdLst/>
            <a:ahLst/>
            <a:rect l="l" t="t" r="r" b="b"/>
            <a:pathLst>
              <a:path w="53" h="70">
                <a:moveTo>
                  <a:pt x="22" y="0"/>
                </a:moveTo>
                <a:lnTo>
                  <a:pt x="52" y="69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80000" y="2887560"/>
            <a:ext cx="844560" cy="528840"/>
          </a:xfrm>
          <a:custGeom>
            <a:avLst/>
            <a:gdLst/>
            <a:ahLst/>
            <a:rect l="l" t="t" r="r" b="b"/>
            <a:pathLst>
              <a:path w="532" h="333">
                <a:moveTo>
                  <a:pt x="0" y="0"/>
                </a:moveTo>
                <a:lnTo>
                  <a:pt x="531" y="3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26280" y="3332160"/>
            <a:ext cx="98280" cy="84240"/>
          </a:xfrm>
          <a:custGeom>
            <a:avLst/>
            <a:gdLst/>
            <a:ahLst/>
            <a:rect l="l" t="t" r="r" b="b"/>
            <a:pathLst>
              <a:path w="62" h="53">
                <a:moveTo>
                  <a:pt x="14" y="0"/>
                </a:moveTo>
                <a:lnTo>
                  <a:pt x="61" y="52"/>
                </a:lnTo>
                <a:lnTo>
                  <a:pt x="0" y="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580000" y="3191040"/>
            <a:ext cx="844560" cy="822240"/>
          </a:xfrm>
          <a:custGeom>
            <a:avLst/>
            <a:gdLst/>
            <a:ahLst/>
            <a:rect l="l" t="t" r="r" b="b"/>
            <a:pathLst>
              <a:path w="532" h="518">
                <a:moveTo>
                  <a:pt x="0" y="0"/>
                </a:moveTo>
                <a:lnTo>
                  <a:pt x="531" y="5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32400" y="3914640"/>
            <a:ext cx="92160" cy="98640"/>
          </a:xfrm>
          <a:custGeom>
            <a:avLst/>
            <a:gdLst/>
            <a:ahLst/>
            <a:rect l="l" t="t" r="r" b="b"/>
            <a:pathLst>
              <a:path w="58" h="62">
                <a:moveTo>
                  <a:pt x="18" y="0"/>
                </a:moveTo>
                <a:lnTo>
                  <a:pt x="57" y="61"/>
                </a:lnTo>
                <a:lnTo>
                  <a:pt x="0" y="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80000" y="3490920"/>
            <a:ext cx="844560" cy="822240"/>
          </a:xfrm>
          <a:custGeom>
            <a:avLst/>
            <a:gdLst/>
            <a:ahLst/>
            <a:rect l="l" t="t" r="r" b="b"/>
            <a:pathLst>
              <a:path w="532" h="518">
                <a:moveTo>
                  <a:pt x="0" y="0"/>
                </a:moveTo>
                <a:lnTo>
                  <a:pt x="531" y="5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332400" y="4218120"/>
            <a:ext cx="92160" cy="95040"/>
          </a:xfrm>
          <a:custGeom>
            <a:avLst/>
            <a:gdLst/>
            <a:ahLst/>
            <a:rect l="l" t="t" r="r" b="b"/>
            <a:pathLst>
              <a:path w="58" h="60">
                <a:moveTo>
                  <a:pt x="18" y="0"/>
                </a:moveTo>
                <a:lnTo>
                  <a:pt x="57" y="59"/>
                </a:lnTo>
                <a:lnTo>
                  <a:pt x="0" y="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580000" y="4089240"/>
            <a:ext cx="844560" cy="601920"/>
          </a:xfrm>
          <a:custGeom>
            <a:avLst/>
            <a:gdLst/>
            <a:ahLst/>
            <a:rect l="l" t="t" r="r" b="b"/>
            <a:pathLst>
              <a:path w="532" h="379">
                <a:moveTo>
                  <a:pt x="0" y="378"/>
                </a:moveTo>
                <a:lnTo>
                  <a:pt x="531" y="0"/>
                </a:lnTo>
                <a:lnTo>
                  <a:pt x="0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27720" y="4089240"/>
            <a:ext cx="96840" cy="88920"/>
          </a:xfrm>
          <a:custGeom>
            <a:avLst/>
            <a:gdLst/>
            <a:ahLst/>
            <a:rect l="l" t="t" r="r" b="b"/>
            <a:pathLst>
              <a:path w="61" h="56">
                <a:moveTo>
                  <a:pt x="0" y="22"/>
                </a:moveTo>
                <a:lnTo>
                  <a:pt x="60" y="0"/>
                </a:lnTo>
                <a:lnTo>
                  <a:pt x="15" y="5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580000" y="4464000"/>
            <a:ext cx="844560" cy="523800"/>
          </a:xfrm>
          <a:custGeom>
            <a:avLst/>
            <a:gdLst/>
            <a:ahLst/>
            <a:rect l="l" t="t" r="r" b="b"/>
            <a:pathLst>
              <a:path w="532" h="330">
                <a:moveTo>
                  <a:pt x="0" y="329"/>
                </a:moveTo>
                <a:lnTo>
                  <a:pt x="531" y="0"/>
                </a:lnTo>
                <a:lnTo>
                  <a:pt x="0" y="3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326280" y="4464000"/>
            <a:ext cx="98280" cy="81000"/>
          </a:xfrm>
          <a:custGeom>
            <a:avLst/>
            <a:gdLst/>
            <a:ahLst/>
            <a:rect l="l" t="t" r="r" b="b"/>
            <a:pathLst>
              <a:path w="62" h="51">
                <a:moveTo>
                  <a:pt x="0" y="17"/>
                </a:moveTo>
                <a:lnTo>
                  <a:pt x="61" y="0"/>
                </a:lnTo>
                <a:lnTo>
                  <a:pt x="14" y="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80000" y="3714840"/>
            <a:ext cx="844560" cy="1573200"/>
          </a:xfrm>
          <a:custGeom>
            <a:avLst/>
            <a:gdLst/>
            <a:ahLst/>
            <a:rect l="l" t="t" r="r" b="b"/>
            <a:pathLst>
              <a:path w="532" h="991">
                <a:moveTo>
                  <a:pt x="0" y="990"/>
                </a:moveTo>
                <a:lnTo>
                  <a:pt x="531" y="0"/>
                </a:lnTo>
                <a:lnTo>
                  <a:pt x="0" y="99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50040" y="3714840"/>
            <a:ext cx="74520" cy="118800"/>
          </a:xfrm>
          <a:custGeom>
            <a:avLst/>
            <a:gdLst/>
            <a:ahLst/>
            <a:rect l="l" t="t" r="r" b="b"/>
            <a:pathLst>
              <a:path w="47" h="75">
                <a:moveTo>
                  <a:pt x="0" y="52"/>
                </a:moveTo>
                <a:lnTo>
                  <a:pt x="46" y="0"/>
                </a:lnTo>
                <a:lnTo>
                  <a:pt x="25" y="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80000" y="3414600"/>
            <a:ext cx="844560" cy="973080"/>
          </a:xfrm>
          <a:custGeom>
            <a:avLst/>
            <a:gdLst/>
            <a:ahLst/>
            <a:rect l="l" t="t" r="r" b="b"/>
            <a:pathLst>
              <a:path w="532" h="613">
                <a:moveTo>
                  <a:pt x="0" y="612"/>
                </a:moveTo>
                <a:lnTo>
                  <a:pt x="531" y="0"/>
                </a:lnTo>
                <a:lnTo>
                  <a:pt x="0" y="6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37440" y="3414600"/>
            <a:ext cx="87120" cy="103320"/>
          </a:xfrm>
          <a:custGeom>
            <a:avLst/>
            <a:gdLst/>
            <a:ahLst/>
            <a:rect l="l" t="t" r="r" b="b"/>
            <a:pathLst>
              <a:path w="55" h="65">
                <a:moveTo>
                  <a:pt x="0" y="36"/>
                </a:moveTo>
                <a:lnTo>
                  <a:pt x="54" y="0"/>
                </a:lnTo>
                <a:lnTo>
                  <a:pt x="20" y="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28040" y="2589120"/>
            <a:ext cx="841320" cy="1127160"/>
          </a:xfrm>
          <a:custGeom>
            <a:avLst/>
            <a:gdLst/>
            <a:ahLst/>
            <a:rect l="l" t="t" r="r" b="b"/>
            <a:pathLst>
              <a:path w="530" h="710">
                <a:moveTo>
                  <a:pt x="529" y="0"/>
                </a:moveTo>
                <a:lnTo>
                  <a:pt x="0" y="709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28040" y="3605040"/>
            <a:ext cx="82440" cy="111240"/>
          </a:xfrm>
          <a:custGeom>
            <a:avLst/>
            <a:gdLst/>
            <a:ahLst/>
            <a:rect l="l" t="t" r="r" b="b"/>
            <a:pathLst>
              <a:path w="52" h="70">
                <a:moveTo>
                  <a:pt x="51" y="26"/>
                </a:moveTo>
                <a:lnTo>
                  <a:pt x="0" y="69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28040" y="2887560"/>
            <a:ext cx="841320" cy="528840"/>
          </a:xfrm>
          <a:custGeom>
            <a:avLst/>
            <a:gdLst/>
            <a:ahLst/>
            <a:rect l="l" t="t" r="r" b="b"/>
            <a:pathLst>
              <a:path w="530" h="333">
                <a:moveTo>
                  <a:pt x="529" y="0"/>
                </a:moveTo>
                <a:lnTo>
                  <a:pt x="0" y="332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8040" y="333216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35"/>
                </a:moveTo>
                <a:lnTo>
                  <a:pt x="0" y="5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28040" y="3191040"/>
            <a:ext cx="841320" cy="822240"/>
          </a:xfrm>
          <a:custGeom>
            <a:avLst/>
            <a:gdLst/>
            <a:ahLst/>
            <a:rect l="l" t="t" r="r" b="b"/>
            <a:pathLst>
              <a:path w="530" h="518">
                <a:moveTo>
                  <a:pt x="529" y="0"/>
                </a:moveTo>
                <a:lnTo>
                  <a:pt x="0" y="517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28040" y="3914640"/>
            <a:ext cx="88920" cy="98640"/>
          </a:xfrm>
          <a:custGeom>
            <a:avLst/>
            <a:gdLst/>
            <a:ahLst/>
            <a:rect l="l" t="t" r="r" b="b"/>
            <a:pathLst>
              <a:path w="56" h="62">
                <a:moveTo>
                  <a:pt x="55" y="29"/>
                </a:moveTo>
                <a:lnTo>
                  <a:pt x="0" y="61"/>
                </a:lnTo>
                <a:lnTo>
                  <a:pt x="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628040" y="3490920"/>
            <a:ext cx="841320" cy="822240"/>
          </a:xfrm>
          <a:custGeom>
            <a:avLst/>
            <a:gdLst/>
            <a:ahLst/>
            <a:rect l="l" t="t" r="r" b="b"/>
            <a:pathLst>
              <a:path w="530" h="518">
                <a:moveTo>
                  <a:pt x="529" y="0"/>
                </a:moveTo>
                <a:lnTo>
                  <a:pt x="0" y="517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628040" y="4218120"/>
            <a:ext cx="88920" cy="95040"/>
          </a:xfrm>
          <a:custGeom>
            <a:avLst/>
            <a:gdLst/>
            <a:ahLst/>
            <a:rect l="l" t="t" r="r" b="b"/>
            <a:pathLst>
              <a:path w="56" h="60">
                <a:moveTo>
                  <a:pt x="55" y="29"/>
                </a:moveTo>
                <a:lnTo>
                  <a:pt x="0" y="59"/>
                </a:lnTo>
                <a:lnTo>
                  <a:pt x="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28040" y="3414600"/>
            <a:ext cx="841320" cy="973080"/>
          </a:xfrm>
          <a:custGeom>
            <a:avLst/>
            <a:gdLst/>
            <a:ahLst/>
            <a:rect l="l" t="t" r="r" b="b"/>
            <a:pathLst>
              <a:path w="530" h="613">
                <a:moveTo>
                  <a:pt x="529" y="612"/>
                </a:moveTo>
                <a:lnTo>
                  <a:pt x="0" y="0"/>
                </a:lnTo>
                <a:lnTo>
                  <a:pt x="529" y="6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28040" y="3414600"/>
            <a:ext cx="87120" cy="103320"/>
          </a:xfrm>
          <a:custGeom>
            <a:avLst/>
            <a:gdLst/>
            <a:ahLst/>
            <a:rect l="l" t="t" r="r" b="b"/>
            <a:pathLst>
              <a:path w="55" h="65">
                <a:moveTo>
                  <a:pt x="34" y="64"/>
                </a:moveTo>
                <a:lnTo>
                  <a:pt x="0" y="0"/>
                </a:lnTo>
                <a:lnTo>
                  <a:pt x="54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28040" y="4089240"/>
            <a:ext cx="841320" cy="601920"/>
          </a:xfrm>
          <a:custGeom>
            <a:avLst/>
            <a:gdLst/>
            <a:ahLst/>
            <a:rect l="l" t="t" r="r" b="b"/>
            <a:pathLst>
              <a:path w="530" h="379">
                <a:moveTo>
                  <a:pt x="529" y="378"/>
                </a:moveTo>
                <a:lnTo>
                  <a:pt x="0" y="0"/>
                </a:lnTo>
                <a:lnTo>
                  <a:pt x="529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628040" y="4089240"/>
            <a:ext cx="95040" cy="88920"/>
          </a:xfrm>
          <a:custGeom>
            <a:avLst/>
            <a:gdLst/>
            <a:ahLst/>
            <a:rect l="l" t="t" r="r" b="b"/>
            <a:pathLst>
              <a:path w="60" h="56">
                <a:moveTo>
                  <a:pt x="44" y="55"/>
                </a:moveTo>
                <a:lnTo>
                  <a:pt x="0" y="0"/>
                </a:lnTo>
                <a:lnTo>
                  <a:pt x="59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628040" y="4386240"/>
            <a:ext cx="841320" cy="601560"/>
          </a:xfrm>
          <a:custGeom>
            <a:avLst/>
            <a:gdLst/>
            <a:ahLst/>
            <a:rect l="l" t="t" r="r" b="b"/>
            <a:pathLst>
              <a:path w="530" h="379">
                <a:moveTo>
                  <a:pt x="529" y="378"/>
                </a:moveTo>
                <a:lnTo>
                  <a:pt x="0" y="0"/>
                </a:lnTo>
                <a:lnTo>
                  <a:pt x="529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628040" y="4386240"/>
            <a:ext cx="95040" cy="87480"/>
          </a:xfrm>
          <a:custGeom>
            <a:avLst/>
            <a:gdLst/>
            <a:ahLst/>
            <a:rect l="l" t="t" r="r" b="b"/>
            <a:pathLst>
              <a:path w="60" h="55">
                <a:moveTo>
                  <a:pt x="44" y="54"/>
                </a:moveTo>
                <a:lnTo>
                  <a:pt x="0" y="0"/>
                </a:lnTo>
                <a:lnTo>
                  <a:pt x="59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628040" y="3714840"/>
            <a:ext cx="841320" cy="1573200"/>
          </a:xfrm>
          <a:custGeom>
            <a:avLst/>
            <a:gdLst/>
            <a:ahLst/>
            <a:rect l="l" t="t" r="r" b="b"/>
            <a:pathLst>
              <a:path w="530" h="991">
                <a:moveTo>
                  <a:pt x="529" y="990"/>
                </a:moveTo>
                <a:lnTo>
                  <a:pt x="0" y="0"/>
                </a:lnTo>
                <a:lnTo>
                  <a:pt x="529" y="99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28040" y="3714840"/>
            <a:ext cx="73080" cy="118800"/>
          </a:xfrm>
          <a:custGeom>
            <a:avLst/>
            <a:gdLst/>
            <a:ahLst/>
            <a:rect l="l" t="t" r="r" b="b"/>
            <a:pathLst>
              <a:path w="46" h="75">
                <a:moveTo>
                  <a:pt x="21" y="74"/>
                </a:moveTo>
                <a:lnTo>
                  <a:pt x="0" y="0"/>
                </a:lnTo>
                <a:lnTo>
                  <a:pt x="45" y="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89280" y="43084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1336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3240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23120" y="3338640"/>
            <a:ext cx="1206360" cy="1199880"/>
          </a:xfrm>
          <a:custGeom>
            <a:avLst/>
            <a:gdLst/>
            <a:ahLst/>
            <a:rect l="l" t="t" r="r" b="b"/>
            <a:pathLst>
              <a:path w="760" h="756">
                <a:moveTo>
                  <a:pt x="0" y="0"/>
                </a:moveTo>
                <a:lnTo>
                  <a:pt x="759" y="0"/>
                </a:lnTo>
                <a:lnTo>
                  <a:pt x="759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23120" y="3637080"/>
            <a:ext cx="1206360" cy="144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23120" y="3936960"/>
            <a:ext cx="1206360" cy="180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23120" y="4237200"/>
            <a:ext cx="1206360" cy="144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389640" y="3408480"/>
            <a:ext cx="50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b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88920" y="37051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388560" y="4010040"/>
            <a:ext cx="44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j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13360" y="4010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23240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232400" y="4010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232400" y="37051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13360" y="37051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1336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311880" y="303228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11560" y="30322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229520" y="30322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868280" y="550692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&lt;sal, 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868280" y="370512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&lt;age, s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59920" y="3705120"/>
            <a:ext cx="698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&lt;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57760" y="550692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&lt;s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80240" y="31082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2,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92840" y="28256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2,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92840" y="250992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1,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81680" y="340848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3,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94640" y="462456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20,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94640" y="430848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10,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81680" y="490680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75,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981680" y="52070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80,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613720" y="25099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613720" y="280656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613720" y="31082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61516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61516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615160" y="460836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615160" y="490680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615160" y="5207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243480" y="4646520"/>
            <a:ext cx="1646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Book Antiqua"/>
              </a:rPr>
              <a:t>Data 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b2b2b2"/>
                </a:solidFill>
                <a:latin typeface="Book Antiqua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646160" y="5789520"/>
            <a:ext cx="215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Data entries in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&lt;sal,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466400" y="5789520"/>
            <a:ext cx="1622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34db"/>
                </a:solidFill>
                <a:latin typeface="Book Antiqua"/>
              </a:rPr>
              <a:t>Data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34db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9234db"/>
                </a:solidFill>
                <a:latin typeface="Book Antiqua"/>
              </a:rPr>
              <a:t>&lt;sa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55840" y="1576440"/>
            <a:ext cx="3876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Examples of composite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indexes using lexicographic or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Formats:  Fixed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47242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about field types same for all records in a file; stored i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atalo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’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requires scan of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te the importance of schema inform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60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 flipH="1" flipV="1">
            <a:off x="18284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80880" y="3863880"/>
            <a:ext cx="254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Base address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8100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5716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3862440"/>
            <a:ext cx="289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Address = B+L1+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7EE-D5E6-4077-BEAE-5BCDBC95BC8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H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80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8100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1430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44792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03480" y="13366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32080" y="17938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30280" y="35463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0120" y="4308480"/>
            <a:ext cx="57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he header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ma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while new+old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 from different relations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6160" y="32004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C99-A344-4059-982F-64B1CB69D01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 Length Rec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109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8100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9144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143000" y="2971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87480" y="1371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hea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733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88800" y="4800600"/>
            <a:ext cx="587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the fixed fields first:  F1, 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variable length fields: F3, 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 values take 2 byt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hey take 0 bytes (when at the 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657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8862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0080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61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44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3DA-1DC7-4539-B0F1-42460BE325F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s With Repeating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145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9144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2971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87480" y="1371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hea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733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3657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38862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40080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61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866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08624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39116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01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246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6201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724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108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18520" y="5375160"/>
            <a:ext cx="661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e.g. in Object Relational system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fancy representations of many-many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0C5-739C-4B9C-869E-E46E857076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Records in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s have fixed size (typically 4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3429000"/>
            <a:ext cx="7467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3429000"/>
            <a:ext cx="213336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4876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52578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56386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81532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257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8580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8153280" y="4343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139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7256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53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16400" y="286056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9784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2A0-9AF1-436E-A335-C634DCDA41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nning Records Across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records are very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even medium size: saves space in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3429000"/>
            <a:ext cx="3581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3429000"/>
            <a:ext cx="3505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34290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429000"/>
            <a:ext cx="9144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24680" y="3429000"/>
            <a:ext cx="38124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7000" y="27050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1320" y="27432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1476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5776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868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9168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34290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952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47242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486400" y="2438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743200" y="2438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864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898-9980-4C2E-8F18-7E3BA6C184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1-08T17:24:26Z</dcterms:modified>
  <cp:revision>230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22977770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16</vt:lpwstr>
  </property>
</Properties>
</file>