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C12F-AAD5-4F22-8B8A-61600E93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8192-795A-4E67-A3CA-4B50BCDF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7659-F103-41CC-BB96-E28BD896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E10A-60E4-4076-B872-C08C87021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20AB-9E12-4400-8731-254ADA34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3199-C3D5-49DE-B6F9-7AFB5D0DD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591-DA98-4A21-AB30-D8C588BA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638-E2CD-4F70-B1DC-CBF7FB68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6F3-C040-44EE-B669-CBACCD2A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0A1-F801-4CC1-8D7E-E9C1A996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D5B-F486-4891-97E8-1C87BCF7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F35-6797-48A5-B825-9B94866B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702-7505-40CC-BCBF-D4C0FD56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8F2-C132-4B6E-8983-7AD568C4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B6B-FD67-4DD7-BB00-E15631AC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F4A-2151-4A1F-B7DC-D08F613A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E25-1D7E-454D-8632-EF2D2405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52F-8B9F-4E7A-B95E-05970E7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7BE-AF87-437C-8574-6708E27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5A0-D028-45E6-A41D-A99D9632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8C73-4F36-4137-8966-023624D8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E0B-0496-476E-AE38-A35420DCD7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D0A-3CCB-4843-B7FA-594C1E39AA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FAC-E55A-4501-9741-B44C168881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93D-F7C7-4B28-987A-31F824C0AB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point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C3E-464B-4366-A29C-7B0CEA7BD0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52E-4612-45B2-888C-73FF10181F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and each record have a physical address that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ylind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ck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ck within th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cords: an offset in t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his is in the block’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E4E-A6A2-42D9-81F6-FA62705A7C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ddress: a string of bytes (10-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: can blocks/records 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eed translation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3880" y="396252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599-D0BA-411A-AF05-4940A48F9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block is read in main memory, it receives a main memory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nother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523880" y="411480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0D9-2533-4F5B-B1DC-96A80C04A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: 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the process of replacing a physical/logical pointer with a main memory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 translation table, but subsequent references are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4A1-01C7-4677-A2BF-44ABE3D60B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7212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000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0524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6840" y="270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65960" y="20224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56880" y="19461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000" y="5105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480060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4844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8632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3657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8600" y="3851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49840" y="2502000"/>
            <a:ext cx="58428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3276720"/>
            <a:ext cx="2819520" cy="533160"/>
          </a:xfrm>
          <a:custGeom>
            <a:avLst/>
            <a:gdLst/>
            <a:ahLst/>
            <a:rect l="l" t="t" r="r" b="b"/>
            <a:pathLst>
              <a:path w="1776" h="336">
                <a:moveTo>
                  <a:pt x="1776" y="0"/>
                </a:moveTo>
                <a:cubicBezTo>
                  <a:pt x="1704" y="120"/>
                  <a:pt x="1632" y="240"/>
                  <a:pt x="1392" y="288"/>
                </a:cubicBezTo>
                <a:cubicBezTo>
                  <a:pt x="1152" y="336"/>
                  <a:pt x="568" y="328"/>
                  <a:pt x="336" y="288"/>
                </a:cubicBezTo>
                <a:cubicBezTo>
                  <a:pt x="104" y="248"/>
                  <a:pt x="52" y="1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4724280"/>
            <a:ext cx="58392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3429000"/>
            <a:ext cx="2819520" cy="2171880"/>
          </a:xfrm>
          <a:custGeom>
            <a:avLst/>
            <a:gdLst/>
            <a:ahLst/>
            <a:rect l="l" t="t" r="r" b="b"/>
            <a:pathLst>
              <a:path w="1776" h="1368">
                <a:moveTo>
                  <a:pt x="1776" y="1296"/>
                </a:moveTo>
                <a:cubicBezTo>
                  <a:pt x="1348" y="1332"/>
                  <a:pt x="920" y="1368"/>
                  <a:pt x="624" y="1152"/>
                </a:cubicBezTo>
                <a:cubicBezTo>
                  <a:pt x="328" y="936"/>
                  <a:pt x="164" y="46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4267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53341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190512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34340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2B1-D86D-4DDF-A210-9CF1B84422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chapter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E4A-2957-4319-8B1C-A146E2D50E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block is read in main memory, swizzle all pointers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 dem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wizzle only when user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wizz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ways use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C03-AECC-4066-861F-82BD3B53E4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blocks return to disk: pointers need unswizz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: someone else may point to this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ned blocks: we don’t allow it to retur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 list of references to thi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780-6408-4672-866E-D035B6657F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137-51B3-47D6-8904-D8F157FDA7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EAF-842B-4BC5-B9AD-6D76571AEF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1BC-FE2E-485F-8BF0-4AFBA12E1B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5F9-61E3-4300-98E2-2792B86743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D38-8BF7-4BB6-9AD4-93C01C3B0A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8B0-CEF6-478B-92A7-4F43057A77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550-C806-45D6-8459-260C8A954A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920" y="281952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9D4-740C-4EE3-AF13-11510DC42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7CC-C207-41DB-B305-4CB0D6A670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4196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5592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CB5-94FE-4885-A812-0A63EDF999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uste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ny(name, city), Product(pid, ma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0600" y="32418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id=“p04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52640" y="32004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57150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53080" y="5715000"/>
            <a:ext cx="1524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95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913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220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059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610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312408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5905080" y="499104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8381880" y="51051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6960" y="51055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8016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8048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968-C787-42A2-B8D3-EF2B4C29AF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e Search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mposite Search Key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on a combination of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 query: Every field value is equal to a constant value. E.g. wrt &lt;sal,age&gt;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=20 and sal 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query: Some field value is not a constant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=20; or age=20 and sal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7988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7988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7988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7988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7988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7988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7988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97988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3580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33580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3580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3580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4696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4696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4696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34696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80000" y="2589120"/>
            <a:ext cx="844560" cy="1127160"/>
          </a:xfrm>
          <a:custGeom>
            <a:avLst/>
            <a:gdLst/>
            <a:ahLst/>
            <a:rect l="l" t="t" r="r" b="b"/>
            <a:pathLst>
              <a:path w="532" h="710">
                <a:moveTo>
                  <a:pt x="0" y="0"/>
                </a:moveTo>
                <a:lnTo>
                  <a:pt x="531" y="7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3605040"/>
            <a:ext cx="84240" cy="111240"/>
          </a:xfrm>
          <a:custGeom>
            <a:avLst/>
            <a:gdLst/>
            <a:ahLst/>
            <a:rect l="l" t="t" r="r" b="b"/>
            <a:pathLst>
              <a:path w="53" h="70">
                <a:moveTo>
                  <a:pt x="22" y="0"/>
                </a:moveTo>
                <a:lnTo>
                  <a:pt x="52" y="69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0000" y="2887560"/>
            <a:ext cx="844560" cy="528840"/>
          </a:xfrm>
          <a:custGeom>
            <a:avLst/>
            <a:gdLst/>
            <a:ahLst/>
            <a:rect l="l" t="t" r="r" b="b"/>
            <a:pathLst>
              <a:path w="532" h="333">
                <a:moveTo>
                  <a:pt x="0" y="0"/>
                </a:moveTo>
                <a:lnTo>
                  <a:pt x="531" y="3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3332160"/>
            <a:ext cx="98280" cy="84240"/>
          </a:xfrm>
          <a:custGeom>
            <a:avLst/>
            <a:gdLst/>
            <a:ahLst/>
            <a:rect l="l" t="t" r="r" b="b"/>
            <a:pathLst>
              <a:path w="62" h="53">
                <a:moveTo>
                  <a:pt x="14" y="0"/>
                </a:moveTo>
                <a:lnTo>
                  <a:pt x="61" y="52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80000" y="319104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2400" y="3914640"/>
            <a:ext cx="92160" cy="98640"/>
          </a:xfrm>
          <a:custGeom>
            <a:avLst/>
            <a:gdLst/>
            <a:ahLst/>
            <a:rect l="l" t="t" r="r" b="b"/>
            <a:pathLst>
              <a:path w="58" h="62">
                <a:moveTo>
                  <a:pt x="18" y="0"/>
                </a:moveTo>
                <a:lnTo>
                  <a:pt x="57" y="61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80000" y="349092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32400" y="4218120"/>
            <a:ext cx="92160" cy="95040"/>
          </a:xfrm>
          <a:custGeom>
            <a:avLst/>
            <a:gdLst/>
            <a:ahLst/>
            <a:rect l="l" t="t" r="r" b="b"/>
            <a:pathLst>
              <a:path w="58" h="60">
                <a:moveTo>
                  <a:pt x="18" y="0"/>
                </a:moveTo>
                <a:lnTo>
                  <a:pt x="57" y="59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80000" y="4089240"/>
            <a:ext cx="844560" cy="601920"/>
          </a:xfrm>
          <a:custGeom>
            <a:avLst/>
            <a:gdLst/>
            <a:ahLst/>
            <a:rect l="l" t="t" r="r" b="b"/>
            <a:pathLst>
              <a:path w="532" h="379">
                <a:moveTo>
                  <a:pt x="0" y="378"/>
                </a:moveTo>
                <a:lnTo>
                  <a:pt x="531" y="0"/>
                </a:lnTo>
                <a:lnTo>
                  <a:pt x="0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27720" y="4089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22"/>
                </a:moveTo>
                <a:lnTo>
                  <a:pt x="60" y="0"/>
                </a:lnTo>
                <a:lnTo>
                  <a:pt x="15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80000" y="4464000"/>
            <a:ext cx="844560" cy="523800"/>
          </a:xfrm>
          <a:custGeom>
            <a:avLst/>
            <a:gdLst/>
            <a:ahLst/>
            <a:rect l="l" t="t" r="r" b="b"/>
            <a:pathLst>
              <a:path w="532" h="330">
                <a:moveTo>
                  <a:pt x="0" y="329"/>
                </a:moveTo>
                <a:lnTo>
                  <a:pt x="531" y="0"/>
                </a:lnTo>
                <a:lnTo>
                  <a:pt x="0" y="3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26280" y="446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0" y="17"/>
                </a:moveTo>
                <a:lnTo>
                  <a:pt x="61" y="0"/>
                </a:lnTo>
                <a:lnTo>
                  <a:pt x="14" y="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80000" y="3714840"/>
            <a:ext cx="844560" cy="1573200"/>
          </a:xfrm>
          <a:custGeom>
            <a:avLst/>
            <a:gdLst/>
            <a:ahLst/>
            <a:rect l="l" t="t" r="r" b="b"/>
            <a:pathLst>
              <a:path w="532" h="991">
                <a:moveTo>
                  <a:pt x="0" y="990"/>
                </a:moveTo>
                <a:lnTo>
                  <a:pt x="531" y="0"/>
                </a:lnTo>
                <a:lnTo>
                  <a:pt x="0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50040" y="3714840"/>
            <a:ext cx="74520" cy="118800"/>
          </a:xfrm>
          <a:custGeom>
            <a:avLst/>
            <a:gdLst/>
            <a:ahLst/>
            <a:rect l="l" t="t" r="r" b="b"/>
            <a:pathLst>
              <a:path w="47" h="75">
                <a:moveTo>
                  <a:pt x="0" y="52"/>
                </a:moveTo>
                <a:lnTo>
                  <a:pt x="46" y="0"/>
                </a:lnTo>
                <a:lnTo>
                  <a:pt x="25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3414600"/>
            <a:ext cx="844560" cy="973080"/>
          </a:xfrm>
          <a:custGeom>
            <a:avLst/>
            <a:gdLst/>
            <a:ahLst/>
            <a:rect l="l" t="t" r="r" b="b"/>
            <a:pathLst>
              <a:path w="532" h="613">
                <a:moveTo>
                  <a:pt x="0" y="612"/>
                </a:moveTo>
                <a:lnTo>
                  <a:pt x="531" y="0"/>
                </a:lnTo>
                <a:lnTo>
                  <a:pt x="0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374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0" y="36"/>
                </a:moveTo>
                <a:lnTo>
                  <a:pt x="54" y="0"/>
                </a:lnTo>
                <a:lnTo>
                  <a:pt x="20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8040" y="2589120"/>
            <a:ext cx="841320" cy="1127160"/>
          </a:xfrm>
          <a:custGeom>
            <a:avLst/>
            <a:gdLst/>
            <a:ahLst/>
            <a:rect l="l" t="t" r="r" b="b"/>
            <a:pathLst>
              <a:path w="530" h="710">
                <a:moveTo>
                  <a:pt x="529" y="0"/>
                </a:moveTo>
                <a:lnTo>
                  <a:pt x="0" y="709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28040" y="3605040"/>
            <a:ext cx="82440" cy="111240"/>
          </a:xfrm>
          <a:custGeom>
            <a:avLst/>
            <a:gdLst/>
            <a:ahLst/>
            <a:rect l="l" t="t" r="r" b="b"/>
            <a:pathLst>
              <a:path w="52" h="70">
                <a:moveTo>
                  <a:pt x="51" y="26"/>
                </a:moveTo>
                <a:lnTo>
                  <a:pt x="0" y="69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8040" y="2887560"/>
            <a:ext cx="841320" cy="528840"/>
          </a:xfrm>
          <a:custGeom>
            <a:avLst/>
            <a:gdLst/>
            <a:ahLst/>
            <a:rect l="l" t="t" r="r" b="b"/>
            <a:pathLst>
              <a:path w="530" h="333">
                <a:moveTo>
                  <a:pt x="529" y="0"/>
                </a:moveTo>
                <a:lnTo>
                  <a:pt x="0" y="332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8040" y="333216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35"/>
                </a:moveTo>
                <a:lnTo>
                  <a:pt x="0" y="5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8040" y="319104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8040" y="3914640"/>
            <a:ext cx="88920" cy="98640"/>
          </a:xfrm>
          <a:custGeom>
            <a:avLst/>
            <a:gdLst/>
            <a:ahLst/>
            <a:rect l="l" t="t" r="r" b="b"/>
            <a:pathLst>
              <a:path w="56" h="62">
                <a:moveTo>
                  <a:pt x="55" y="29"/>
                </a:moveTo>
                <a:lnTo>
                  <a:pt x="0" y="61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28040" y="349092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8040" y="4218120"/>
            <a:ext cx="88920" cy="95040"/>
          </a:xfrm>
          <a:custGeom>
            <a:avLst/>
            <a:gdLst/>
            <a:ahLst/>
            <a:rect l="l" t="t" r="r" b="b"/>
            <a:pathLst>
              <a:path w="56" h="60">
                <a:moveTo>
                  <a:pt x="55" y="29"/>
                </a:moveTo>
                <a:lnTo>
                  <a:pt x="0" y="59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8040" y="3414600"/>
            <a:ext cx="841320" cy="973080"/>
          </a:xfrm>
          <a:custGeom>
            <a:avLst/>
            <a:gdLst/>
            <a:ahLst/>
            <a:rect l="l" t="t" r="r" b="b"/>
            <a:pathLst>
              <a:path w="530" h="613">
                <a:moveTo>
                  <a:pt x="529" y="612"/>
                </a:moveTo>
                <a:lnTo>
                  <a:pt x="0" y="0"/>
                </a:lnTo>
                <a:lnTo>
                  <a:pt x="529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280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34" y="64"/>
                </a:moveTo>
                <a:lnTo>
                  <a:pt x="0" y="0"/>
                </a:lnTo>
                <a:lnTo>
                  <a:pt x="54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28040" y="4089240"/>
            <a:ext cx="841320" cy="60192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28040" y="4089240"/>
            <a:ext cx="95040" cy="8892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5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28040" y="4386240"/>
            <a:ext cx="841320" cy="60156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28040" y="43862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44" y="54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8040" y="3714840"/>
            <a:ext cx="841320" cy="1573200"/>
          </a:xfrm>
          <a:custGeom>
            <a:avLst/>
            <a:gdLst/>
            <a:ahLst/>
            <a:rect l="l" t="t" r="r" b="b"/>
            <a:pathLst>
              <a:path w="530" h="991">
                <a:moveTo>
                  <a:pt x="529" y="990"/>
                </a:moveTo>
                <a:lnTo>
                  <a:pt x="0" y="0"/>
                </a:lnTo>
                <a:lnTo>
                  <a:pt x="529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8040" y="3714840"/>
            <a:ext cx="73080" cy="118800"/>
          </a:xfrm>
          <a:custGeom>
            <a:avLst/>
            <a:gdLst/>
            <a:ahLst/>
            <a:rect l="l" t="t" r="r" b="b"/>
            <a:pathLst>
              <a:path w="46" h="75">
                <a:moveTo>
                  <a:pt x="21" y="74"/>
                </a:moveTo>
                <a:lnTo>
                  <a:pt x="0" y="0"/>
                </a:lnTo>
                <a:lnTo>
                  <a:pt x="45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89280" y="43084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133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3240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23120" y="3338640"/>
            <a:ext cx="1206360" cy="1199880"/>
          </a:xfrm>
          <a:custGeom>
            <a:avLst/>
            <a:gdLst/>
            <a:ahLst/>
            <a:rect l="l" t="t" r="r" b="b"/>
            <a:pathLst>
              <a:path w="760" h="756">
                <a:moveTo>
                  <a:pt x="0" y="0"/>
                </a:moveTo>
                <a:lnTo>
                  <a:pt x="759" y="0"/>
                </a:lnTo>
                <a:lnTo>
                  <a:pt x="759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23120" y="363708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23120" y="3936960"/>
            <a:ext cx="1206360" cy="180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23120" y="423720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89640" y="3408480"/>
            <a:ext cx="50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88920" y="3705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88560" y="401004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j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1336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3240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23240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3240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1336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133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11880" y="303228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11560" y="3032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29520" y="30322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68280" y="55069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&lt;sal, 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68280" y="37051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age, 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59920" y="37051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57760" y="55069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&lt;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80240" y="31082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92840" y="28256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92840" y="250992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1,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81680" y="34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3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94640" y="462456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2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94640" y="43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81680" y="490680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75,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81680" y="52070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80,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613720" y="25099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613720" y="28065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613720" y="31082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6151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6151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615160" y="46083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615160" y="4906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615160" y="5207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43480" y="4646520"/>
            <a:ext cx="164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b2b2b2"/>
                </a:solidFill>
                <a:latin typeface="Book Antiqu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46160" y="5789520"/>
            <a:ext cx="215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Data entries in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&lt;sal,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66400" y="5789520"/>
            <a:ext cx="162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Data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9234db"/>
                </a:solidFill>
                <a:latin typeface="Book Antiqua"/>
              </a:rPr>
              <a:t>&lt;sa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55840" y="1576440"/>
            <a:ext cx="3876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Examples of composite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indexes using lexicographic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60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088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5A8-AAAD-4B81-9350-E534214F53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80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348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208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028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012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16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D7E-99AC-4BB2-893B-43DC842498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09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880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,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44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B7D-B755-4B3B-8CA4-838929F9DA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s With Repeating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45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862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3911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6201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108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8520" y="5375160"/>
            <a:ext cx="66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e.g. in Object Relational system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fancy representations of many-man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38D-D5E6-4A08-BE9B-E76968618C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1C8-F506-4B16-9D6B-276C6E130C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nning Records Across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cords are very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medium size: saves space in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4290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3429000"/>
            <a:ext cx="3505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429000"/>
            <a:ext cx="914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3429000"/>
            <a:ext cx="3812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7000" y="27050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1320" y="2743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14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57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868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9168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4724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4864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74320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86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893-5626-45D4-995D-582209CC7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1-08T17:24:26Z</dcterms:modified>
  <cp:revision>230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297777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6</vt:lpwstr>
  </property>
</Properties>
</file>