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9F3E-C68A-4D71-9AB9-02304F3DF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AB85-7899-4B18-9C18-E68B67E3A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34DF-C570-402D-BC28-1E059A1A8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9DA3-2640-4639-8127-5EF26C699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4C3B-B7B9-4942-ACDE-85D0A0E65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-14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31F3-2A45-475F-AE1C-32458B777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E936-82F3-4994-AAA7-AE7492FE7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0169-77BC-4B4E-B5D3-44BB4AE11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6BF8-FDD9-43F5-8CC2-EB1C275B4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9569-F1E2-4393-8C08-85982BF38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2112-EB05-49C6-9718-0BCBC26F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8635-A03B-4C7E-A0B4-DA6D67855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2DFB-9712-4BD3-8E1E-683CC146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1E01-414D-4CD7-A40D-D5388508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BF52-88EF-478F-B1A0-4A469735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127B-A960-47F8-B61B-83100B5F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85A4-F8CF-4677-B8BA-FEC62F14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377C-B93E-4BCA-8901-748E5267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CA61-7673-4BE0-9E7E-255A6A9A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AD58-823C-4934-8AC6-551F85A2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484A-BF87-4DD5-BDE5-CE20FF06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393E-B7FB-4EFC-8E79-9F639CBDC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6: Data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November 6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DDD8-049B-4649-94EC-B1830BE493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echanics of D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character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 speed (5400RP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latters (1-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tracks (&lt;=10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ytes/track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52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208480" y="2787480"/>
            <a:ext cx="3149640" cy="1801800"/>
            <a:chOff x="5208480" y="2787480"/>
            <a:chExt cx="3149640" cy="1801800"/>
          </a:xfrm>
        </p:grpSpPr>
        <p:sp>
          <p:nvSpPr>
            <p:cNvPr id="108" name=""/>
            <p:cNvSpPr/>
            <p:nvPr/>
          </p:nvSpPr>
          <p:spPr>
            <a:xfrm>
              <a:off x="5208480" y="3374640"/>
              <a:ext cx="3149640" cy="1214640"/>
            </a:xfrm>
            <a:custGeom>
              <a:avLst/>
              <a:gdLst/>
              <a:ahLst/>
              <a:rect l="l" t="t" r="r" b="b"/>
              <a:pathLst>
                <a:path w="1984" h="765">
                  <a:moveTo>
                    <a:pt x="0" y="386"/>
                  </a:moveTo>
                  <a:lnTo>
                    <a:pt x="16" y="320"/>
                  </a:lnTo>
                  <a:lnTo>
                    <a:pt x="57" y="255"/>
                  </a:lnTo>
                  <a:lnTo>
                    <a:pt x="131" y="197"/>
                  </a:lnTo>
                  <a:lnTo>
                    <a:pt x="230" y="140"/>
                  </a:lnTo>
                  <a:lnTo>
                    <a:pt x="353" y="90"/>
                  </a:lnTo>
                  <a:lnTo>
                    <a:pt x="493" y="58"/>
                  </a:lnTo>
                  <a:lnTo>
                    <a:pt x="650" y="25"/>
                  </a:lnTo>
                  <a:lnTo>
                    <a:pt x="814" y="8"/>
                  </a:lnTo>
                  <a:lnTo>
                    <a:pt x="987" y="0"/>
                  </a:lnTo>
                  <a:lnTo>
                    <a:pt x="1160" y="8"/>
                  </a:lnTo>
                  <a:lnTo>
                    <a:pt x="1333" y="25"/>
                  </a:lnTo>
                  <a:lnTo>
                    <a:pt x="1489" y="58"/>
                  </a:lnTo>
                  <a:lnTo>
                    <a:pt x="1629" y="90"/>
                  </a:lnTo>
                  <a:lnTo>
                    <a:pt x="1753" y="140"/>
                  </a:lnTo>
                  <a:lnTo>
                    <a:pt x="1852" y="197"/>
                  </a:lnTo>
                  <a:lnTo>
                    <a:pt x="1926" y="255"/>
                  </a:lnTo>
                  <a:lnTo>
                    <a:pt x="1967" y="320"/>
                  </a:lnTo>
                  <a:lnTo>
                    <a:pt x="1983" y="386"/>
                  </a:lnTo>
                  <a:lnTo>
                    <a:pt x="1967" y="452"/>
                  </a:lnTo>
                  <a:lnTo>
                    <a:pt x="1926" y="518"/>
                  </a:lnTo>
                  <a:lnTo>
                    <a:pt x="1852" y="575"/>
                  </a:lnTo>
                  <a:lnTo>
                    <a:pt x="1753" y="633"/>
                  </a:lnTo>
                  <a:lnTo>
                    <a:pt x="1629" y="674"/>
                  </a:lnTo>
                  <a:lnTo>
                    <a:pt x="1489" y="715"/>
                  </a:lnTo>
                  <a:lnTo>
                    <a:pt x="1333" y="740"/>
                  </a:lnTo>
                  <a:lnTo>
                    <a:pt x="1160" y="764"/>
                  </a:lnTo>
                  <a:lnTo>
                    <a:pt x="987" y="764"/>
                  </a:lnTo>
                  <a:lnTo>
                    <a:pt x="814" y="764"/>
                  </a:lnTo>
                  <a:lnTo>
                    <a:pt x="650" y="740"/>
                  </a:lnTo>
                  <a:lnTo>
                    <a:pt x="493" y="715"/>
                  </a:lnTo>
                  <a:lnTo>
                    <a:pt x="353" y="674"/>
                  </a:lnTo>
                  <a:lnTo>
                    <a:pt x="230" y="633"/>
                  </a:lnTo>
                  <a:lnTo>
                    <a:pt x="131" y="575"/>
                  </a:lnTo>
                  <a:lnTo>
                    <a:pt x="57" y="518"/>
                  </a:lnTo>
                  <a:lnTo>
                    <a:pt x="16" y="452"/>
                  </a:lnTo>
                  <a:lnTo>
                    <a:pt x="0" y="386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08480" y="2787480"/>
              <a:ext cx="3149640" cy="1214280"/>
            </a:xfrm>
            <a:custGeom>
              <a:avLst/>
              <a:gdLst/>
              <a:ahLst/>
              <a:rect l="l" t="t" r="r" b="b"/>
              <a:pathLst>
                <a:path w="1984" h="765">
                  <a:moveTo>
                    <a:pt x="0" y="386"/>
                  </a:moveTo>
                  <a:lnTo>
                    <a:pt x="16" y="321"/>
                  </a:lnTo>
                  <a:lnTo>
                    <a:pt x="57" y="255"/>
                  </a:lnTo>
                  <a:lnTo>
                    <a:pt x="131" y="197"/>
                  </a:lnTo>
                  <a:lnTo>
                    <a:pt x="230" y="140"/>
                  </a:lnTo>
                  <a:lnTo>
                    <a:pt x="353" y="91"/>
                  </a:lnTo>
                  <a:lnTo>
                    <a:pt x="493" y="58"/>
                  </a:lnTo>
                  <a:lnTo>
                    <a:pt x="650" y="25"/>
                  </a:lnTo>
                  <a:lnTo>
                    <a:pt x="814" y="8"/>
                  </a:lnTo>
                  <a:lnTo>
                    <a:pt x="987" y="0"/>
                  </a:lnTo>
                  <a:lnTo>
                    <a:pt x="1160" y="8"/>
                  </a:lnTo>
                  <a:lnTo>
                    <a:pt x="1333" y="25"/>
                  </a:lnTo>
                  <a:lnTo>
                    <a:pt x="1489" y="58"/>
                  </a:lnTo>
                  <a:lnTo>
                    <a:pt x="1629" y="91"/>
                  </a:lnTo>
                  <a:lnTo>
                    <a:pt x="1753" y="140"/>
                  </a:lnTo>
                  <a:lnTo>
                    <a:pt x="1852" y="197"/>
                  </a:lnTo>
                  <a:lnTo>
                    <a:pt x="1926" y="255"/>
                  </a:lnTo>
                  <a:lnTo>
                    <a:pt x="1967" y="321"/>
                  </a:lnTo>
                  <a:lnTo>
                    <a:pt x="1983" y="386"/>
                  </a:lnTo>
                  <a:lnTo>
                    <a:pt x="1967" y="452"/>
                  </a:lnTo>
                  <a:lnTo>
                    <a:pt x="1926" y="518"/>
                  </a:lnTo>
                  <a:lnTo>
                    <a:pt x="1852" y="575"/>
                  </a:lnTo>
                  <a:lnTo>
                    <a:pt x="1753" y="633"/>
                  </a:lnTo>
                  <a:lnTo>
                    <a:pt x="1629" y="674"/>
                  </a:lnTo>
                  <a:lnTo>
                    <a:pt x="1489" y="715"/>
                  </a:lnTo>
                  <a:lnTo>
                    <a:pt x="1333" y="740"/>
                  </a:lnTo>
                  <a:lnTo>
                    <a:pt x="1160" y="764"/>
                  </a:lnTo>
                  <a:lnTo>
                    <a:pt x="987" y="764"/>
                  </a:lnTo>
                  <a:lnTo>
                    <a:pt x="814" y="764"/>
                  </a:lnTo>
                  <a:lnTo>
                    <a:pt x="650" y="740"/>
                  </a:lnTo>
                  <a:lnTo>
                    <a:pt x="493" y="715"/>
                  </a:lnTo>
                  <a:lnTo>
                    <a:pt x="353" y="674"/>
                  </a:lnTo>
                  <a:lnTo>
                    <a:pt x="230" y="633"/>
                  </a:lnTo>
                  <a:lnTo>
                    <a:pt x="131" y="575"/>
                  </a:lnTo>
                  <a:lnTo>
                    <a:pt x="57" y="518"/>
                  </a:lnTo>
                  <a:lnTo>
                    <a:pt x="16" y="452"/>
                  </a:lnTo>
                  <a:lnTo>
                    <a:pt x="0" y="386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181480" y="2057400"/>
            <a:ext cx="3176640" cy="4594320"/>
            <a:chOff x="5181480" y="2057400"/>
            <a:chExt cx="3176640" cy="4594320"/>
          </a:xfrm>
        </p:grpSpPr>
        <p:grpSp>
          <p:nvGrpSpPr>
            <p:cNvPr id="111" name=""/>
            <p:cNvGrpSpPr/>
            <p:nvPr/>
          </p:nvGrpSpPr>
          <p:grpSpPr>
            <a:xfrm>
              <a:off x="5181480" y="2735280"/>
              <a:ext cx="3176640" cy="3916440"/>
              <a:chOff x="5181480" y="2735280"/>
              <a:chExt cx="3176640" cy="391644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5208480" y="3322800"/>
                <a:ext cx="3149640" cy="1214280"/>
                <a:chOff x="5208480" y="3322800"/>
                <a:chExt cx="3149640" cy="121428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208480" y="3322800"/>
                  <a:ext cx="3149640" cy="1214280"/>
                </a:xfrm>
                <a:custGeom>
                  <a:avLst/>
                  <a:gdLst/>
                  <a:ahLst/>
                  <a:rect l="l" t="t" r="r" b="b"/>
                  <a:pathLst>
                    <a:path w="1984" h="765">
                      <a:moveTo>
                        <a:pt x="0" y="378"/>
                      </a:moveTo>
                      <a:lnTo>
                        <a:pt x="16" y="312"/>
                      </a:lnTo>
                      <a:lnTo>
                        <a:pt x="57" y="247"/>
                      </a:lnTo>
                      <a:lnTo>
                        <a:pt x="131" y="189"/>
                      </a:lnTo>
                      <a:lnTo>
                        <a:pt x="230" y="132"/>
                      </a:lnTo>
                      <a:lnTo>
                        <a:pt x="353" y="91"/>
                      </a:lnTo>
                      <a:lnTo>
                        <a:pt x="493" y="49"/>
                      </a:lnTo>
                      <a:lnTo>
                        <a:pt x="650" y="25"/>
                      </a:lnTo>
                      <a:lnTo>
                        <a:pt x="814" y="0"/>
                      </a:lnTo>
                      <a:lnTo>
                        <a:pt x="987" y="0"/>
                      </a:lnTo>
                      <a:lnTo>
                        <a:pt x="1160" y="0"/>
                      </a:lnTo>
                      <a:lnTo>
                        <a:pt x="1333" y="25"/>
                      </a:lnTo>
                      <a:lnTo>
                        <a:pt x="1489" y="49"/>
                      </a:lnTo>
                      <a:lnTo>
                        <a:pt x="1629" y="91"/>
                      </a:lnTo>
                      <a:lnTo>
                        <a:pt x="1753" y="132"/>
                      </a:lnTo>
                      <a:lnTo>
                        <a:pt x="1852" y="189"/>
                      </a:lnTo>
                      <a:lnTo>
                        <a:pt x="1926" y="247"/>
                      </a:lnTo>
                      <a:lnTo>
                        <a:pt x="1967" y="312"/>
                      </a:lnTo>
                      <a:lnTo>
                        <a:pt x="1983" y="378"/>
                      </a:lnTo>
                      <a:lnTo>
                        <a:pt x="1967" y="444"/>
                      </a:lnTo>
                      <a:lnTo>
                        <a:pt x="1926" y="510"/>
                      </a:lnTo>
                      <a:lnTo>
                        <a:pt x="1852" y="567"/>
                      </a:lnTo>
                      <a:lnTo>
                        <a:pt x="1753" y="625"/>
                      </a:lnTo>
                      <a:lnTo>
                        <a:pt x="1629" y="674"/>
                      </a:lnTo>
                      <a:lnTo>
                        <a:pt x="1489" y="707"/>
                      </a:lnTo>
                      <a:lnTo>
                        <a:pt x="1333" y="740"/>
                      </a:lnTo>
                      <a:lnTo>
                        <a:pt x="1160" y="756"/>
                      </a:lnTo>
                      <a:lnTo>
                        <a:pt x="987" y="764"/>
                      </a:lnTo>
                      <a:lnTo>
                        <a:pt x="814" y="756"/>
                      </a:lnTo>
                      <a:lnTo>
                        <a:pt x="650" y="740"/>
                      </a:lnTo>
                      <a:lnTo>
                        <a:pt x="493" y="707"/>
                      </a:lnTo>
                      <a:lnTo>
                        <a:pt x="353" y="674"/>
                      </a:lnTo>
                      <a:lnTo>
                        <a:pt x="230" y="625"/>
                      </a:lnTo>
                      <a:lnTo>
                        <a:pt x="131" y="567"/>
                      </a:lnTo>
                      <a:lnTo>
                        <a:pt x="57" y="510"/>
                      </a:lnTo>
                      <a:lnTo>
                        <a:pt x="16" y="444"/>
                      </a:lnTo>
                      <a:lnTo>
                        <a:pt x="0" y="37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299200" y="3414600"/>
                  <a:ext cx="2941560" cy="1032120"/>
                </a:xfrm>
                <a:custGeom>
                  <a:avLst/>
                  <a:gdLst/>
                  <a:ahLst/>
                  <a:rect l="l" t="t" r="r" b="b"/>
                  <a:pathLst>
                    <a:path w="1853" h="650">
                      <a:moveTo>
                        <a:pt x="0" y="328"/>
                      </a:moveTo>
                      <a:lnTo>
                        <a:pt x="17" y="263"/>
                      </a:lnTo>
                      <a:lnTo>
                        <a:pt x="66" y="205"/>
                      </a:lnTo>
                      <a:lnTo>
                        <a:pt x="140" y="156"/>
                      </a:lnTo>
                      <a:lnTo>
                        <a:pt x="247" y="106"/>
                      </a:lnTo>
                      <a:lnTo>
                        <a:pt x="371" y="65"/>
                      </a:lnTo>
                      <a:lnTo>
                        <a:pt x="519" y="33"/>
                      </a:lnTo>
                      <a:lnTo>
                        <a:pt x="675" y="16"/>
                      </a:lnTo>
                      <a:lnTo>
                        <a:pt x="840" y="0"/>
                      </a:lnTo>
                      <a:lnTo>
                        <a:pt x="1013" y="0"/>
                      </a:lnTo>
                      <a:lnTo>
                        <a:pt x="1177" y="16"/>
                      </a:lnTo>
                      <a:lnTo>
                        <a:pt x="1342" y="33"/>
                      </a:lnTo>
                      <a:lnTo>
                        <a:pt x="1482" y="65"/>
                      </a:lnTo>
                      <a:lnTo>
                        <a:pt x="1613" y="106"/>
                      </a:lnTo>
                      <a:lnTo>
                        <a:pt x="1712" y="156"/>
                      </a:lnTo>
                      <a:lnTo>
                        <a:pt x="1795" y="205"/>
                      </a:lnTo>
                      <a:lnTo>
                        <a:pt x="1836" y="263"/>
                      </a:lnTo>
                      <a:lnTo>
                        <a:pt x="1852" y="328"/>
                      </a:lnTo>
                      <a:lnTo>
                        <a:pt x="1836" y="386"/>
                      </a:lnTo>
                      <a:lnTo>
                        <a:pt x="1795" y="443"/>
                      </a:lnTo>
                      <a:lnTo>
                        <a:pt x="1712" y="493"/>
                      </a:lnTo>
                      <a:lnTo>
                        <a:pt x="1613" y="542"/>
                      </a:lnTo>
                      <a:lnTo>
                        <a:pt x="1482" y="583"/>
                      </a:lnTo>
                      <a:lnTo>
                        <a:pt x="1342" y="616"/>
                      </a:lnTo>
                      <a:lnTo>
                        <a:pt x="1177" y="641"/>
                      </a:lnTo>
                      <a:lnTo>
                        <a:pt x="1013" y="649"/>
                      </a:lnTo>
                      <a:lnTo>
                        <a:pt x="840" y="649"/>
                      </a:lnTo>
                      <a:lnTo>
                        <a:pt x="675" y="641"/>
                      </a:lnTo>
                      <a:lnTo>
                        <a:pt x="519" y="616"/>
                      </a:lnTo>
                      <a:lnTo>
                        <a:pt x="371" y="583"/>
                      </a:lnTo>
                      <a:lnTo>
                        <a:pt x="247" y="542"/>
                      </a:lnTo>
                      <a:lnTo>
                        <a:pt x="140" y="493"/>
                      </a:lnTo>
                      <a:lnTo>
                        <a:pt x="66" y="443"/>
                      </a:lnTo>
                      <a:lnTo>
                        <a:pt x="17" y="386"/>
                      </a:lnTo>
                      <a:lnTo>
                        <a:pt x="0" y="32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443560" y="3517920"/>
                  <a:ext cx="2654280" cy="784080"/>
                </a:xfrm>
                <a:custGeom>
                  <a:avLst/>
                  <a:gdLst/>
                  <a:ahLst/>
                  <a:rect l="l" t="t" r="r" b="b"/>
                  <a:pathLst>
                    <a:path w="1672" h="494">
                      <a:moveTo>
                        <a:pt x="0" y="247"/>
                      </a:moveTo>
                      <a:lnTo>
                        <a:pt x="16" y="198"/>
                      </a:lnTo>
                      <a:lnTo>
                        <a:pt x="66" y="148"/>
                      </a:lnTo>
                      <a:lnTo>
                        <a:pt x="148" y="107"/>
                      </a:lnTo>
                      <a:lnTo>
                        <a:pt x="247" y="74"/>
                      </a:lnTo>
                      <a:lnTo>
                        <a:pt x="370" y="41"/>
                      </a:lnTo>
                      <a:lnTo>
                        <a:pt x="518" y="17"/>
                      </a:lnTo>
                      <a:lnTo>
                        <a:pt x="675" y="0"/>
                      </a:lnTo>
                      <a:lnTo>
                        <a:pt x="839" y="0"/>
                      </a:lnTo>
                      <a:lnTo>
                        <a:pt x="996" y="0"/>
                      </a:lnTo>
                      <a:lnTo>
                        <a:pt x="1152" y="17"/>
                      </a:lnTo>
                      <a:lnTo>
                        <a:pt x="1300" y="41"/>
                      </a:lnTo>
                      <a:lnTo>
                        <a:pt x="1424" y="74"/>
                      </a:lnTo>
                      <a:lnTo>
                        <a:pt x="1531" y="107"/>
                      </a:lnTo>
                      <a:lnTo>
                        <a:pt x="1605" y="148"/>
                      </a:lnTo>
                      <a:lnTo>
                        <a:pt x="1654" y="198"/>
                      </a:lnTo>
                      <a:lnTo>
                        <a:pt x="1671" y="247"/>
                      </a:lnTo>
                      <a:lnTo>
                        <a:pt x="1654" y="296"/>
                      </a:lnTo>
                      <a:lnTo>
                        <a:pt x="1605" y="337"/>
                      </a:lnTo>
                      <a:lnTo>
                        <a:pt x="1531" y="378"/>
                      </a:lnTo>
                      <a:lnTo>
                        <a:pt x="1424" y="419"/>
                      </a:lnTo>
                      <a:lnTo>
                        <a:pt x="1300" y="452"/>
                      </a:lnTo>
                      <a:lnTo>
                        <a:pt x="1152" y="477"/>
                      </a:lnTo>
                      <a:lnTo>
                        <a:pt x="996" y="485"/>
                      </a:lnTo>
                      <a:lnTo>
                        <a:pt x="839" y="493"/>
                      </a:lnTo>
                      <a:lnTo>
                        <a:pt x="675" y="485"/>
                      </a:lnTo>
                      <a:lnTo>
                        <a:pt x="518" y="477"/>
                      </a:lnTo>
                      <a:lnTo>
                        <a:pt x="370" y="452"/>
                      </a:lnTo>
                      <a:lnTo>
                        <a:pt x="247" y="419"/>
                      </a:lnTo>
                      <a:lnTo>
                        <a:pt x="148" y="378"/>
                      </a:lnTo>
                      <a:lnTo>
                        <a:pt x="66" y="337"/>
                      </a:lnTo>
                      <a:lnTo>
                        <a:pt x="16" y="296"/>
                      </a:lnTo>
                      <a:lnTo>
                        <a:pt x="0" y="24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5208480" y="2735280"/>
                <a:ext cx="3149640" cy="1216080"/>
                <a:chOff x="5208480" y="2735280"/>
                <a:chExt cx="3149640" cy="12160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208480" y="2735280"/>
                  <a:ext cx="3149640" cy="1216080"/>
                </a:xfrm>
                <a:custGeom>
                  <a:avLst/>
                  <a:gdLst/>
                  <a:ahLst/>
                  <a:rect l="l" t="t" r="r" b="b"/>
                  <a:pathLst>
                    <a:path w="1984" h="766">
                      <a:moveTo>
                        <a:pt x="0" y="378"/>
                      </a:moveTo>
                      <a:lnTo>
                        <a:pt x="16" y="313"/>
                      </a:lnTo>
                      <a:lnTo>
                        <a:pt x="57" y="247"/>
                      </a:lnTo>
                      <a:lnTo>
                        <a:pt x="131" y="189"/>
                      </a:lnTo>
                      <a:lnTo>
                        <a:pt x="230" y="132"/>
                      </a:lnTo>
                      <a:lnTo>
                        <a:pt x="353" y="91"/>
                      </a:lnTo>
                      <a:lnTo>
                        <a:pt x="493" y="50"/>
                      </a:lnTo>
                      <a:lnTo>
                        <a:pt x="650" y="25"/>
                      </a:lnTo>
                      <a:lnTo>
                        <a:pt x="814" y="0"/>
                      </a:lnTo>
                      <a:lnTo>
                        <a:pt x="987" y="0"/>
                      </a:lnTo>
                      <a:lnTo>
                        <a:pt x="1160" y="0"/>
                      </a:lnTo>
                      <a:lnTo>
                        <a:pt x="1333" y="25"/>
                      </a:lnTo>
                      <a:lnTo>
                        <a:pt x="1489" y="50"/>
                      </a:lnTo>
                      <a:lnTo>
                        <a:pt x="1629" y="91"/>
                      </a:lnTo>
                      <a:lnTo>
                        <a:pt x="1753" y="132"/>
                      </a:lnTo>
                      <a:lnTo>
                        <a:pt x="1852" y="189"/>
                      </a:lnTo>
                      <a:lnTo>
                        <a:pt x="1926" y="247"/>
                      </a:lnTo>
                      <a:lnTo>
                        <a:pt x="1967" y="313"/>
                      </a:lnTo>
                      <a:lnTo>
                        <a:pt x="1983" y="378"/>
                      </a:lnTo>
                      <a:lnTo>
                        <a:pt x="1967" y="444"/>
                      </a:lnTo>
                      <a:lnTo>
                        <a:pt x="1926" y="510"/>
                      </a:lnTo>
                      <a:lnTo>
                        <a:pt x="1852" y="567"/>
                      </a:lnTo>
                      <a:lnTo>
                        <a:pt x="1753" y="625"/>
                      </a:lnTo>
                      <a:lnTo>
                        <a:pt x="1629" y="674"/>
                      </a:lnTo>
                      <a:lnTo>
                        <a:pt x="1489" y="707"/>
                      </a:lnTo>
                      <a:lnTo>
                        <a:pt x="1333" y="740"/>
                      </a:lnTo>
                      <a:lnTo>
                        <a:pt x="1160" y="756"/>
                      </a:lnTo>
                      <a:lnTo>
                        <a:pt x="987" y="765"/>
                      </a:lnTo>
                      <a:lnTo>
                        <a:pt x="814" y="756"/>
                      </a:lnTo>
                      <a:lnTo>
                        <a:pt x="650" y="740"/>
                      </a:lnTo>
                      <a:lnTo>
                        <a:pt x="493" y="707"/>
                      </a:lnTo>
                      <a:lnTo>
                        <a:pt x="353" y="674"/>
                      </a:lnTo>
                      <a:lnTo>
                        <a:pt x="230" y="625"/>
                      </a:lnTo>
                      <a:lnTo>
                        <a:pt x="131" y="567"/>
                      </a:lnTo>
                      <a:lnTo>
                        <a:pt x="57" y="510"/>
                      </a:lnTo>
                      <a:lnTo>
                        <a:pt x="16" y="444"/>
                      </a:lnTo>
                      <a:lnTo>
                        <a:pt x="0" y="37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299200" y="2827440"/>
                  <a:ext cx="2941560" cy="1031760"/>
                </a:xfrm>
                <a:custGeom>
                  <a:avLst/>
                  <a:gdLst/>
                  <a:ahLst/>
                  <a:rect l="l" t="t" r="r" b="b"/>
                  <a:pathLst>
                    <a:path w="1853" h="650">
                      <a:moveTo>
                        <a:pt x="0" y="329"/>
                      </a:moveTo>
                      <a:lnTo>
                        <a:pt x="17" y="263"/>
                      </a:lnTo>
                      <a:lnTo>
                        <a:pt x="66" y="205"/>
                      </a:lnTo>
                      <a:lnTo>
                        <a:pt x="140" y="156"/>
                      </a:lnTo>
                      <a:lnTo>
                        <a:pt x="247" y="107"/>
                      </a:lnTo>
                      <a:lnTo>
                        <a:pt x="371" y="66"/>
                      </a:lnTo>
                      <a:lnTo>
                        <a:pt x="519" y="33"/>
                      </a:lnTo>
                      <a:lnTo>
                        <a:pt x="675" y="16"/>
                      </a:lnTo>
                      <a:lnTo>
                        <a:pt x="840" y="0"/>
                      </a:lnTo>
                      <a:lnTo>
                        <a:pt x="1013" y="0"/>
                      </a:lnTo>
                      <a:lnTo>
                        <a:pt x="1177" y="16"/>
                      </a:lnTo>
                      <a:lnTo>
                        <a:pt x="1342" y="33"/>
                      </a:lnTo>
                      <a:lnTo>
                        <a:pt x="1482" y="66"/>
                      </a:lnTo>
                      <a:lnTo>
                        <a:pt x="1613" y="107"/>
                      </a:lnTo>
                      <a:lnTo>
                        <a:pt x="1712" y="156"/>
                      </a:lnTo>
                      <a:lnTo>
                        <a:pt x="1795" y="205"/>
                      </a:lnTo>
                      <a:lnTo>
                        <a:pt x="1836" y="263"/>
                      </a:lnTo>
                      <a:lnTo>
                        <a:pt x="1852" y="329"/>
                      </a:lnTo>
                      <a:lnTo>
                        <a:pt x="1836" y="386"/>
                      </a:lnTo>
                      <a:lnTo>
                        <a:pt x="1795" y="444"/>
                      </a:lnTo>
                      <a:lnTo>
                        <a:pt x="1712" y="493"/>
                      </a:lnTo>
                      <a:lnTo>
                        <a:pt x="1613" y="542"/>
                      </a:lnTo>
                      <a:lnTo>
                        <a:pt x="1482" y="583"/>
                      </a:lnTo>
                      <a:lnTo>
                        <a:pt x="1342" y="616"/>
                      </a:lnTo>
                      <a:lnTo>
                        <a:pt x="1177" y="641"/>
                      </a:lnTo>
                      <a:lnTo>
                        <a:pt x="1013" y="649"/>
                      </a:lnTo>
                      <a:lnTo>
                        <a:pt x="840" y="649"/>
                      </a:lnTo>
                      <a:lnTo>
                        <a:pt x="675" y="641"/>
                      </a:lnTo>
                      <a:lnTo>
                        <a:pt x="519" y="616"/>
                      </a:lnTo>
                      <a:lnTo>
                        <a:pt x="371" y="583"/>
                      </a:lnTo>
                      <a:lnTo>
                        <a:pt x="247" y="542"/>
                      </a:lnTo>
                      <a:lnTo>
                        <a:pt x="140" y="493"/>
                      </a:lnTo>
                      <a:lnTo>
                        <a:pt x="66" y="444"/>
                      </a:lnTo>
                      <a:lnTo>
                        <a:pt x="17" y="386"/>
                      </a:lnTo>
                      <a:lnTo>
                        <a:pt x="0" y="32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443560" y="2932200"/>
                  <a:ext cx="2654280" cy="784080"/>
                </a:xfrm>
                <a:custGeom>
                  <a:avLst/>
                  <a:gdLst/>
                  <a:ahLst/>
                  <a:rect l="l" t="t" r="r" b="b"/>
                  <a:pathLst>
                    <a:path w="1672" h="494">
                      <a:moveTo>
                        <a:pt x="0" y="246"/>
                      </a:moveTo>
                      <a:lnTo>
                        <a:pt x="16" y="197"/>
                      </a:lnTo>
                      <a:lnTo>
                        <a:pt x="66" y="147"/>
                      </a:lnTo>
                      <a:lnTo>
                        <a:pt x="148" y="106"/>
                      </a:lnTo>
                      <a:lnTo>
                        <a:pt x="247" y="74"/>
                      </a:lnTo>
                      <a:lnTo>
                        <a:pt x="370" y="41"/>
                      </a:lnTo>
                      <a:lnTo>
                        <a:pt x="518" y="16"/>
                      </a:lnTo>
                      <a:lnTo>
                        <a:pt x="675" y="0"/>
                      </a:lnTo>
                      <a:lnTo>
                        <a:pt x="839" y="0"/>
                      </a:lnTo>
                      <a:lnTo>
                        <a:pt x="996" y="0"/>
                      </a:lnTo>
                      <a:lnTo>
                        <a:pt x="1152" y="16"/>
                      </a:lnTo>
                      <a:lnTo>
                        <a:pt x="1300" y="41"/>
                      </a:lnTo>
                      <a:lnTo>
                        <a:pt x="1424" y="74"/>
                      </a:lnTo>
                      <a:lnTo>
                        <a:pt x="1531" y="106"/>
                      </a:lnTo>
                      <a:lnTo>
                        <a:pt x="1605" y="147"/>
                      </a:lnTo>
                      <a:lnTo>
                        <a:pt x="1654" y="197"/>
                      </a:lnTo>
                      <a:lnTo>
                        <a:pt x="1671" y="246"/>
                      </a:lnTo>
                      <a:lnTo>
                        <a:pt x="1654" y="295"/>
                      </a:lnTo>
                      <a:lnTo>
                        <a:pt x="1605" y="337"/>
                      </a:lnTo>
                      <a:lnTo>
                        <a:pt x="1531" y="378"/>
                      </a:lnTo>
                      <a:lnTo>
                        <a:pt x="1424" y="419"/>
                      </a:lnTo>
                      <a:lnTo>
                        <a:pt x="1300" y="452"/>
                      </a:lnTo>
                      <a:lnTo>
                        <a:pt x="1152" y="476"/>
                      </a:lnTo>
                      <a:lnTo>
                        <a:pt x="996" y="484"/>
                      </a:lnTo>
                      <a:lnTo>
                        <a:pt x="839" y="493"/>
                      </a:lnTo>
                      <a:lnTo>
                        <a:pt x="675" y="484"/>
                      </a:lnTo>
                      <a:lnTo>
                        <a:pt x="518" y="476"/>
                      </a:lnTo>
                      <a:lnTo>
                        <a:pt x="370" y="452"/>
                      </a:lnTo>
                      <a:lnTo>
                        <a:pt x="247" y="419"/>
                      </a:lnTo>
                      <a:lnTo>
                        <a:pt x="148" y="378"/>
                      </a:lnTo>
                      <a:lnTo>
                        <a:pt x="66" y="337"/>
                      </a:lnTo>
                      <a:lnTo>
                        <a:pt x="16" y="295"/>
                      </a:lnTo>
                      <a:lnTo>
                        <a:pt x="0" y="24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5181480" y="5435640"/>
                <a:ext cx="3164040" cy="1216080"/>
              </a:xfrm>
              <a:custGeom>
                <a:avLst/>
                <a:gdLst/>
                <a:ahLst/>
                <a:rect l="l" t="t" r="r" b="b"/>
                <a:pathLst>
                  <a:path w="1993" h="766">
                    <a:moveTo>
                      <a:pt x="0" y="378"/>
                    </a:moveTo>
                    <a:lnTo>
                      <a:pt x="17" y="313"/>
                    </a:lnTo>
                    <a:lnTo>
                      <a:pt x="66" y="247"/>
                    </a:lnTo>
                    <a:lnTo>
                      <a:pt x="132" y="189"/>
                    </a:lnTo>
                    <a:lnTo>
                      <a:pt x="239" y="140"/>
                    </a:lnTo>
                    <a:lnTo>
                      <a:pt x="354" y="91"/>
                    </a:lnTo>
                    <a:lnTo>
                      <a:pt x="502" y="50"/>
                    </a:lnTo>
                    <a:lnTo>
                      <a:pt x="659" y="25"/>
                    </a:lnTo>
                    <a:lnTo>
                      <a:pt x="823" y="9"/>
                    </a:lnTo>
                    <a:lnTo>
                      <a:pt x="996" y="0"/>
                    </a:lnTo>
                    <a:lnTo>
                      <a:pt x="1169" y="9"/>
                    </a:lnTo>
                    <a:lnTo>
                      <a:pt x="1334" y="25"/>
                    </a:lnTo>
                    <a:lnTo>
                      <a:pt x="1490" y="50"/>
                    </a:lnTo>
                    <a:lnTo>
                      <a:pt x="1638" y="91"/>
                    </a:lnTo>
                    <a:lnTo>
                      <a:pt x="1753" y="140"/>
                    </a:lnTo>
                    <a:lnTo>
                      <a:pt x="1860" y="189"/>
                    </a:lnTo>
                    <a:lnTo>
                      <a:pt x="1926" y="247"/>
                    </a:lnTo>
                    <a:lnTo>
                      <a:pt x="1976" y="313"/>
                    </a:lnTo>
                    <a:lnTo>
                      <a:pt x="1992" y="378"/>
                    </a:lnTo>
                    <a:lnTo>
                      <a:pt x="1976" y="444"/>
                    </a:lnTo>
                    <a:lnTo>
                      <a:pt x="1926" y="510"/>
                    </a:lnTo>
                    <a:lnTo>
                      <a:pt x="1860" y="576"/>
                    </a:lnTo>
                    <a:lnTo>
                      <a:pt x="1753" y="625"/>
                    </a:lnTo>
                    <a:lnTo>
                      <a:pt x="1638" y="674"/>
                    </a:lnTo>
                    <a:lnTo>
                      <a:pt x="1490" y="715"/>
                    </a:lnTo>
                    <a:lnTo>
                      <a:pt x="1334" y="740"/>
                    </a:lnTo>
                    <a:lnTo>
                      <a:pt x="1169" y="756"/>
                    </a:lnTo>
                    <a:lnTo>
                      <a:pt x="996" y="765"/>
                    </a:lnTo>
                    <a:lnTo>
                      <a:pt x="823" y="756"/>
                    </a:lnTo>
                    <a:lnTo>
                      <a:pt x="659" y="740"/>
                    </a:lnTo>
                    <a:lnTo>
                      <a:pt x="502" y="715"/>
                    </a:lnTo>
                    <a:lnTo>
                      <a:pt x="354" y="674"/>
                    </a:lnTo>
                    <a:lnTo>
                      <a:pt x="239" y="625"/>
                    </a:lnTo>
                    <a:lnTo>
                      <a:pt x="132" y="576"/>
                    </a:lnTo>
                    <a:lnTo>
                      <a:pt x="66" y="510"/>
                    </a:lnTo>
                    <a:lnTo>
                      <a:pt x="17" y="444"/>
                    </a:lnTo>
                    <a:lnTo>
                      <a:pt x="0" y="37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5181480" y="5370480"/>
              <a:ext cx="3164040" cy="1216080"/>
              <a:chOff x="5181480" y="5370480"/>
              <a:chExt cx="3164040" cy="1216080"/>
            </a:xfrm>
          </p:grpSpPr>
          <p:sp>
            <p:nvSpPr>
              <p:cNvPr id="122" name=""/>
              <p:cNvSpPr/>
              <p:nvPr/>
            </p:nvSpPr>
            <p:spPr>
              <a:xfrm>
                <a:off x="5181480" y="5370480"/>
                <a:ext cx="3164040" cy="1216080"/>
              </a:xfrm>
              <a:custGeom>
                <a:avLst/>
                <a:gdLst/>
                <a:ahLst/>
                <a:rect l="l" t="t" r="r" b="b"/>
                <a:pathLst>
                  <a:path w="1993" h="766">
                    <a:moveTo>
                      <a:pt x="0" y="387"/>
                    </a:moveTo>
                    <a:lnTo>
                      <a:pt x="17" y="321"/>
                    </a:lnTo>
                    <a:lnTo>
                      <a:pt x="66" y="255"/>
                    </a:lnTo>
                    <a:lnTo>
                      <a:pt x="132" y="198"/>
                    </a:lnTo>
                    <a:lnTo>
                      <a:pt x="239" y="140"/>
                    </a:lnTo>
                    <a:lnTo>
                      <a:pt x="354" y="91"/>
                    </a:lnTo>
                    <a:lnTo>
                      <a:pt x="502" y="58"/>
                    </a:lnTo>
                    <a:lnTo>
                      <a:pt x="659" y="25"/>
                    </a:lnTo>
                    <a:lnTo>
                      <a:pt x="823" y="9"/>
                    </a:lnTo>
                    <a:lnTo>
                      <a:pt x="996" y="0"/>
                    </a:lnTo>
                    <a:lnTo>
                      <a:pt x="1169" y="9"/>
                    </a:lnTo>
                    <a:lnTo>
                      <a:pt x="1334" y="25"/>
                    </a:lnTo>
                    <a:lnTo>
                      <a:pt x="1490" y="58"/>
                    </a:lnTo>
                    <a:lnTo>
                      <a:pt x="1638" y="91"/>
                    </a:lnTo>
                    <a:lnTo>
                      <a:pt x="1753" y="140"/>
                    </a:lnTo>
                    <a:lnTo>
                      <a:pt x="1860" y="198"/>
                    </a:lnTo>
                    <a:lnTo>
                      <a:pt x="1926" y="255"/>
                    </a:lnTo>
                    <a:lnTo>
                      <a:pt x="1976" y="321"/>
                    </a:lnTo>
                    <a:lnTo>
                      <a:pt x="1992" y="387"/>
                    </a:lnTo>
                    <a:lnTo>
                      <a:pt x="1976" y="452"/>
                    </a:lnTo>
                    <a:lnTo>
                      <a:pt x="1926" y="518"/>
                    </a:lnTo>
                    <a:lnTo>
                      <a:pt x="1860" y="576"/>
                    </a:lnTo>
                    <a:lnTo>
                      <a:pt x="1753" y="633"/>
                    </a:lnTo>
                    <a:lnTo>
                      <a:pt x="1638" y="674"/>
                    </a:lnTo>
                    <a:lnTo>
                      <a:pt x="1490" y="715"/>
                    </a:lnTo>
                    <a:lnTo>
                      <a:pt x="1334" y="740"/>
                    </a:lnTo>
                    <a:lnTo>
                      <a:pt x="1169" y="756"/>
                    </a:lnTo>
                    <a:lnTo>
                      <a:pt x="996" y="765"/>
                    </a:lnTo>
                    <a:lnTo>
                      <a:pt x="823" y="756"/>
                    </a:lnTo>
                    <a:lnTo>
                      <a:pt x="659" y="740"/>
                    </a:lnTo>
                    <a:lnTo>
                      <a:pt x="502" y="715"/>
                    </a:lnTo>
                    <a:lnTo>
                      <a:pt x="354" y="674"/>
                    </a:lnTo>
                    <a:lnTo>
                      <a:pt x="239" y="633"/>
                    </a:lnTo>
                    <a:lnTo>
                      <a:pt x="132" y="576"/>
                    </a:lnTo>
                    <a:lnTo>
                      <a:pt x="66" y="518"/>
                    </a:lnTo>
                    <a:lnTo>
                      <a:pt x="17" y="452"/>
                    </a:lnTo>
                    <a:lnTo>
                      <a:pt x="0" y="38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286240" y="5475240"/>
                <a:ext cx="2941920" cy="1019160"/>
              </a:xfrm>
              <a:custGeom>
                <a:avLst/>
                <a:gdLst/>
                <a:ahLst/>
                <a:rect l="l" t="t" r="r" b="b"/>
                <a:pathLst>
                  <a:path w="1853" h="642">
                    <a:moveTo>
                      <a:pt x="0" y="321"/>
                    </a:moveTo>
                    <a:lnTo>
                      <a:pt x="16" y="263"/>
                    </a:lnTo>
                    <a:lnTo>
                      <a:pt x="58" y="206"/>
                    </a:lnTo>
                    <a:lnTo>
                      <a:pt x="140" y="148"/>
                    </a:lnTo>
                    <a:lnTo>
                      <a:pt x="239" y="107"/>
                    </a:lnTo>
                    <a:lnTo>
                      <a:pt x="362" y="66"/>
                    </a:lnTo>
                    <a:lnTo>
                      <a:pt x="510" y="33"/>
                    </a:lnTo>
                    <a:lnTo>
                      <a:pt x="667" y="8"/>
                    </a:lnTo>
                    <a:lnTo>
                      <a:pt x="840" y="0"/>
                    </a:lnTo>
                    <a:lnTo>
                      <a:pt x="1012" y="0"/>
                    </a:lnTo>
                    <a:lnTo>
                      <a:pt x="1177" y="8"/>
                    </a:lnTo>
                    <a:lnTo>
                      <a:pt x="1333" y="33"/>
                    </a:lnTo>
                    <a:lnTo>
                      <a:pt x="1482" y="66"/>
                    </a:lnTo>
                    <a:lnTo>
                      <a:pt x="1605" y="107"/>
                    </a:lnTo>
                    <a:lnTo>
                      <a:pt x="1712" y="148"/>
                    </a:lnTo>
                    <a:lnTo>
                      <a:pt x="1786" y="206"/>
                    </a:lnTo>
                    <a:lnTo>
                      <a:pt x="1835" y="263"/>
                    </a:lnTo>
                    <a:lnTo>
                      <a:pt x="1852" y="321"/>
                    </a:lnTo>
                    <a:lnTo>
                      <a:pt x="1835" y="378"/>
                    </a:lnTo>
                    <a:lnTo>
                      <a:pt x="1786" y="436"/>
                    </a:lnTo>
                    <a:lnTo>
                      <a:pt x="1712" y="493"/>
                    </a:lnTo>
                    <a:lnTo>
                      <a:pt x="1605" y="542"/>
                    </a:lnTo>
                    <a:lnTo>
                      <a:pt x="1482" y="584"/>
                    </a:lnTo>
                    <a:lnTo>
                      <a:pt x="1333" y="608"/>
                    </a:lnTo>
                    <a:lnTo>
                      <a:pt x="1177" y="633"/>
                    </a:lnTo>
                    <a:lnTo>
                      <a:pt x="1012" y="641"/>
                    </a:lnTo>
                    <a:lnTo>
                      <a:pt x="840" y="641"/>
                    </a:lnTo>
                    <a:lnTo>
                      <a:pt x="667" y="633"/>
                    </a:lnTo>
                    <a:lnTo>
                      <a:pt x="510" y="608"/>
                    </a:lnTo>
                    <a:lnTo>
                      <a:pt x="362" y="584"/>
                    </a:lnTo>
                    <a:lnTo>
                      <a:pt x="239" y="542"/>
                    </a:lnTo>
                    <a:lnTo>
                      <a:pt x="140" y="493"/>
                    </a:lnTo>
                    <a:lnTo>
                      <a:pt x="58" y="436"/>
                    </a:lnTo>
                    <a:lnTo>
                      <a:pt x="16" y="378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429160" y="5567400"/>
                <a:ext cx="2654280" cy="784080"/>
              </a:xfrm>
              <a:custGeom>
                <a:avLst/>
                <a:gdLst/>
                <a:ahLst/>
                <a:rect l="l" t="t" r="r" b="b"/>
                <a:pathLst>
                  <a:path w="1672" h="494">
                    <a:moveTo>
                      <a:pt x="0" y="246"/>
                    </a:moveTo>
                    <a:lnTo>
                      <a:pt x="17" y="197"/>
                    </a:lnTo>
                    <a:lnTo>
                      <a:pt x="66" y="156"/>
                    </a:lnTo>
                    <a:lnTo>
                      <a:pt x="140" y="115"/>
                    </a:lnTo>
                    <a:lnTo>
                      <a:pt x="247" y="74"/>
                    </a:lnTo>
                    <a:lnTo>
                      <a:pt x="371" y="41"/>
                    </a:lnTo>
                    <a:lnTo>
                      <a:pt x="519" y="24"/>
                    </a:lnTo>
                    <a:lnTo>
                      <a:pt x="675" y="8"/>
                    </a:lnTo>
                    <a:lnTo>
                      <a:pt x="832" y="0"/>
                    </a:lnTo>
                    <a:lnTo>
                      <a:pt x="996" y="8"/>
                    </a:lnTo>
                    <a:lnTo>
                      <a:pt x="1153" y="24"/>
                    </a:lnTo>
                    <a:lnTo>
                      <a:pt x="1301" y="41"/>
                    </a:lnTo>
                    <a:lnTo>
                      <a:pt x="1424" y="74"/>
                    </a:lnTo>
                    <a:lnTo>
                      <a:pt x="1523" y="115"/>
                    </a:lnTo>
                    <a:lnTo>
                      <a:pt x="1606" y="156"/>
                    </a:lnTo>
                    <a:lnTo>
                      <a:pt x="1655" y="197"/>
                    </a:lnTo>
                    <a:lnTo>
                      <a:pt x="1671" y="246"/>
                    </a:lnTo>
                    <a:lnTo>
                      <a:pt x="1655" y="295"/>
                    </a:lnTo>
                    <a:lnTo>
                      <a:pt x="1606" y="345"/>
                    </a:lnTo>
                    <a:lnTo>
                      <a:pt x="1523" y="386"/>
                    </a:lnTo>
                    <a:lnTo>
                      <a:pt x="1424" y="427"/>
                    </a:lnTo>
                    <a:lnTo>
                      <a:pt x="1301" y="452"/>
                    </a:lnTo>
                    <a:lnTo>
                      <a:pt x="1153" y="476"/>
                    </a:lnTo>
                    <a:lnTo>
                      <a:pt x="996" y="493"/>
                    </a:lnTo>
                    <a:lnTo>
                      <a:pt x="832" y="493"/>
                    </a:lnTo>
                    <a:lnTo>
                      <a:pt x="675" y="493"/>
                    </a:lnTo>
                    <a:lnTo>
                      <a:pt x="519" y="476"/>
                    </a:lnTo>
                    <a:lnTo>
                      <a:pt x="371" y="452"/>
                    </a:lnTo>
                    <a:lnTo>
                      <a:pt x="247" y="427"/>
                    </a:lnTo>
                    <a:lnTo>
                      <a:pt x="140" y="386"/>
                    </a:lnTo>
                    <a:lnTo>
                      <a:pt x="66" y="345"/>
                    </a:lnTo>
                    <a:lnTo>
                      <a:pt x="17" y="295"/>
                    </a:lnTo>
                    <a:lnTo>
                      <a:pt x="0" y="24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62720" y="2057400"/>
              <a:ext cx="681120" cy="3994200"/>
              <a:chOff x="6462720" y="2057400"/>
              <a:chExt cx="681120" cy="3994200"/>
            </a:xfrm>
          </p:grpSpPr>
          <p:sp>
            <p:nvSpPr>
              <p:cNvPr id="126" name=""/>
              <p:cNvSpPr/>
              <p:nvPr/>
            </p:nvSpPr>
            <p:spPr>
              <a:xfrm>
                <a:off x="6553080" y="2239920"/>
                <a:ext cx="393840" cy="1176480"/>
              </a:xfrm>
              <a:custGeom>
                <a:avLst/>
                <a:gdLst/>
                <a:ahLst/>
                <a:rect l="l" t="t" r="r" b="b"/>
                <a:pathLst>
                  <a:path w="248" h="741">
                    <a:moveTo>
                      <a:pt x="247" y="649"/>
                    </a:moveTo>
                    <a:lnTo>
                      <a:pt x="247" y="0"/>
                    </a:lnTo>
                    <a:lnTo>
                      <a:pt x="0" y="0"/>
                    </a:lnTo>
                    <a:lnTo>
                      <a:pt x="0" y="649"/>
                    </a:lnTo>
                    <a:lnTo>
                      <a:pt x="0" y="657"/>
                    </a:lnTo>
                    <a:lnTo>
                      <a:pt x="17" y="699"/>
                    </a:lnTo>
                    <a:lnTo>
                      <a:pt x="50" y="723"/>
                    </a:lnTo>
                    <a:lnTo>
                      <a:pt x="99" y="740"/>
                    </a:lnTo>
                    <a:lnTo>
                      <a:pt x="157" y="740"/>
                    </a:lnTo>
                    <a:lnTo>
                      <a:pt x="206" y="723"/>
                    </a:lnTo>
                    <a:lnTo>
                      <a:pt x="239" y="699"/>
                    </a:lnTo>
                    <a:lnTo>
                      <a:pt x="247" y="657"/>
                    </a:lnTo>
                    <a:lnTo>
                      <a:pt x="247" y="64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553080" y="2057400"/>
                <a:ext cx="393840" cy="249120"/>
              </a:xfrm>
              <a:custGeom>
                <a:avLst/>
                <a:gdLst/>
                <a:ahLst/>
                <a:rect l="l" t="t" r="r" b="b"/>
                <a:pathLst>
                  <a:path w="248" h="157">
                    <a:moveTo>
                      <a:pt x="0" y="74"/>
                    </a:moveTo>
                    <a:lnTo>
                      <a:pt x="17" y="41"/>
                    </a:lnTo>
                    <a:lnTo>
                      <a:pt x="50" y="8"/>
                    </a:lnTo>
                    <a:lnTo>
                      <a:pt x="99" y="0"/>
                    </a:lnTo>
                    <a:lnTo>
                      <a:pt x="157" y="0"/>
                    </a:lnTo>
                    <a:lnTo>
                      <a:pt x="206" y="8"/>
                    </a:lnTo>
                    <a:lnTo>
                      <a:pt x="239" y="41"/>
                    </a:lnTo>
                    <a:lnTo>
                      <a:pt x="247" y="74"/>
                    </a:lnTo>
                    <a:lnTo>
                      <a:pt x="239" y="115"/>
                    </a:lnTo>
                    <a:lnTo>
                      <a:pt x="206" y="140"/>
                    </a:lnTo>
                    <a:lnTo>
                      <a:pt x="157" y="156"/>
                    </a:lnTo>
                    <a:lnTo>
                      <a:pt x="99" y="156"/>
                    </a:lnTo>
                    <a:lnTo>
                      <a:pt x="50" y="140"/>
                    </a:lnTo>
                    <a:lnTo>
                      <a:pt x="17" y="115"/>
                    </a:lnTo>
                    <a:lnTo>
                      <a:pt x="0" y="7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553080" y="4587840"/>
                <a:ext cx="393840" cy="1463760"/>
              </a:xfrm>
              <a:custGeom>
                <a:avLst/>
                <a:gdLst/>
                <a:ahLst/>
                <a:rect l="l" t="t" r="r" b="b"/>
                <a:pathLst>
                  <a:path w="248" h="922">
                    <a:moveTo>
                      <a:pt x="247" y="814"/>
                    </a:moveTo>
                    <a:lnTo>
                      <a:pt x="247" y="0"/>
                    </a:lnTo>
                    <a:lnTo>
                      <a:pt x="0" y="0"/>
                    </a:lnTo>
                    <a:lnTo>
                      <a:pt x="0" y="814"/>
                    </a:lnTo>
                    <a:lnTo>
                      <a:pt x="0" y="822"/>
                    </a:lnTo>
                    <a:lnTo>
                      <a:pt x="17" y="871"/>
                    </a:lnTo>
                    <a:lnTo>
                      <a:pt x="50" y="904"/>
                    </a:lnTo>
                    <a:lnTo>
                      <a:pt x="99" y="921"/>
                    </a:lnTo>
                    <a:lnTo>
                      <a:pt x="157" y="921"/>
                    </a:lnTo>
                    <a:lnTo>
                      <a:pt x="206" y="904"/>
                    </a:lnTo>
                    <a:lnTo>
                      <a:pt x="239" y="871"/>
                    </a:lnTo>
                    <a:lnTo>
                      <a:pt x="247" y="822"/>
                    </a:lnTo>
                    <a:lnTo>
                      <a:pt x="247" y="81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62720" y="2344680"/>
                <a:ext cx="681120" cy="392040"/>
              </a:xfrm>
              <a:custGeom>
                <a:avLst/>
                <a:gdLst/>
                <a:ahLst/>
                <a:rect l="l" t="t" r="r" b="b"/>
                <a:pathLst>
                  <a:path w="429" h="247">
                    <a:moveTo>
                      <a:pt x="57" y="0"/>
                    </a:moveTo>
                    <a:lnTo>
                      <a:pt x="16" y="49"/>
                    </a:lnTo>
                    <a:lnTo>
                      <a:pt x="0" y="98"/>
                    </a:lnTo>
                    <a:lnTo>
                      <a:pt x="16" y="156"/>
                    </a:lnTo>
                    <a:lnTo>
                      <a:pt x="66" y="205"/>
                    </a:lnTo>
                    <a:lnTo>
                      <a:pt x="131" y="230"/>
                    </a:lnTo>
                    <a:lnTo>
                      <a:pt x="214" y="246"/>
                    </a:lnTo>
                    <a:lnTo>
                      <a:pt x="296" y="230"/>
                    </a:lnTo>
                    <a:lnTo>
                      <a:pt x="362" y="205"/>
                    </a:lnTo>
                    <a:lnTo>
                      <a:pt x="411" y="156"/>
                    </a:lnTo>
                    <a:lnTo>
                      <a:pt x="428" y="98"/>
                    </a:lnTo>
                    <a:lnTo>
                      <a:pt x="411" y="4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7050240" y="2344680"/>
            <a:ext cx="171360" cy="171360"/>
          </a:xfrm>
          <a:custGeom>
            <a:avLst/>
            <a:gdLst/>
            <a:ahLst/>
            <a:rect l="l" t="t" r="r" b="b"/>
            <a:pathLst>
              <a:path w="108" h="108">
                <a:moveTo>
                  <a:pt x="25" y="107"/>
                </a:moveTo>
                <a:lnTo>
                  <a:pt x="0" y="0"/>
                </a:lnTo>
                <a:lnTo>
                  <a:pt x="107" y="41"/>
                </a:lnTo>
                <a:lnTo>
                  <a:pt x="25" y="10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94320" y="332280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94320" y="393552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94320" y="602280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94320" y="4497480"/>
            <a:ext cx="0" cy="156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594320" y="3322440"/>
            <a:ext cx="0" cy="1174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78400" y="5985000"/>
            <a:ext cx="157320" cy="79200"/>
          </a:xfrm>
          <a:custGeom>
            <a:avLst/>
            <a:gdLst/>
            <a:ahLst/>
            <a:rect l="l" t="t" r="r" b="b"/>
            <a:pathLst>
              <a:path w="99" h="50">
                <a:moveTo>
                  <a:pt x="0" y="49"/>
                </a:moveTo>
                <a:lnTo>
                  <a:pt x="98" y="49"/>
                </a:lnTo>
                <a:lnTo>
                  <a:pt x="98" y="0"/>
                </a:lnTo>
                <a:lnTo>
                  <a:pt x="0" y="0"/>
                </a:lnTo>
                <a:lnTo>
                  <a:pt x="0" y="49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78400" y="3282840"/>
            <a:ext cx="157320" cy="68400"/>
          </a:xfrm>
          <a:custGeom>
            <a:avLst/>
            <a:gdLst/>
            <a:ahLst/>
            <a:rect l="l" t="t" r="r" b="b"/>
            <a:pathLst>
              <a:path w="99" h="43">
                <a:moveTo>
                  <a:pt x="0" y="42"/>
                </a:moveTo>
                <a:lnTo>
                  <a:pt x="98" y="42"/>
                </a:lnTo>
                <a:lnTo>
                  <a:pt x="98" y="0"/>
                </a:lnTo>
                <a:lnTo>
                  <a:pt x="0" y="0"/>
                </a:lnTo>
                <a:lnTo>
                  <a:pt x="0" y="42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78400" y="3909960"/>
            <a:ext cx="157320" cy="66600"/>
          </a:xfrm>
          <a:custGeom>
            <a:avLst/>
            <a:gdLst/>
            <a:ahLst/>
            <a:rect l="l" t="t" r="r" b="b"/>
            <a:pathLst>
              <a:path w="99" h="42">
                <a:moveTo>
                  <a:pt x="0" y="41"/>
                </a:moveTo>
                <a:lnTo>
                  <a:pt x="98" y="41"/>
                </a:lnTo>
                <a:lnTo>
                  <a:pt x="98" y="0"/>
                </a:lnTo>
                <a:lnTo>
                  <a:pt x="0" y="0"/>
                </a:lnTo>
                <a:lnTo>
                  <a:pt x="0" y="41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238960" y="4776840"/>
            <a:ext cx="8341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latt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121600" y="4300560"/>
            <a:ext cx="392040" cy="48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8121600" y="5084640"/>
            <a:ext cx="392040" cy="58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79800" y="2049480"/>
            <a:ext cx="823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pind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946920" y="2184480"/>
            <a:ext cx="695160" cy="117360"/>
          </a:xfrm>
          <a:custGeom>
            <a:avLst/>
            <a:gdLst/>
            <a:ahLst/>
            <a:rect l="l" t="t" r="r" b="b"/>
            <a:pathLst>
              <a:path w="438" h="74">
                <a:moveTo>
                  <a:pt x="437" y="8"/>
                </a:moveTo>
                <a:lnTo>
                  <a:pt x="288" y="0"/>
                </a:lnTo>
                <a:lnTo>
                  <a:pt x="140" y="24"/>
                </a:lnTo>
                <a:lnTo>
                  <a:pt x="0" y="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67320" y="2365200"/>
            <a:ext cx="1036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k he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889160" y="4708440"/>
            <a:ext cx="1480320" cy="519480"/>
            <a:chOff x="4889160" y="4708440"/>
            <a:chExt cx="1480320" cy="519480"/>
          </a:xfrm>
        </p:grpSpPr>
        <p:sp>
          <p:nvSpPr>
            <p:cNvPr id="146" name=""/>
            <p:cNvSpPr/>
            <p:nvPr/>
          </p:nvSpPr>
          <p:spPr>
            <a:xfrm>
              <a:off x="4943520" y="4708440"/>
              <a:ext cx="1373040" cy="196920"/>
            </a:xfrm>
            <a:custGeom>
              <a:avLst/>
              <a:gdLst/>
              <a:ahLst/>
              <a:rect l="l" t="t" r="r" b="b"/>
              <a:pathLst>
                <a:path w="865" h="124">
                  <a:moveTo>
                    <a:pt x="0" y="65"/>
                  </a:moveTo>
                  <a:lnTo>
                    <a:pt x="41" y="0"/>
                  </a:lnTo>
                  <a:lnTo>
                    <a:pt x="41" y="41"/>
                  </a:lnTo>
                  <a:lnTo>
                    <a:pt x="831" y="41"/>
                  </a:lnTo>
                  <a:lnTo>
                    <a:pt x="831" y="0"/>
                  </a:lnTo>
                  <a:lnTo>
                    <a:pt x="864" y="65"/>
                  </a:lnTo>
                  <a:lnTo>
                    <a:pt x="831" y="123"/>
                  </a:lnTo>
                  <a:lnTo>
                    <a:pt x="831" y="82"/>
                  </a:lnTo>
                  <a:lnTo>
                    <a:pt x="41" y="82"/>
                  </a:lnTo>
                  <a:lnTo>
                    <a:pt x="41" y="123"/>
                  </a:lnTo>
                  <a:lnTo>
                    <a:pt x="0" y="6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89160" y="4907160"/>
              <a:ext cx="14803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rm movem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731760" y="5670720"/>
            <a:ext cx="1396800" cy="798480"/>
            <a:chOff x="3731760" y="5670720"/>
            <a:chExt cx="1396800" cy="798480"/>
          </a:xfrm>
        </p:grpSpPr>
        <p:sp>
          <p:nvSpPr>
            <p:cNvPr id="149" name=""/>
            <p:cNvSpPr/>
            <p:nvPr/>
          </p:nvSpPr>
          <p:spPr>
            <a:xfrm>
              <a:off x="3731760" y="6148440"/>
              <a:ext cx="1396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rm assembl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91120" y="5670720"/>
              <a:ext cx="406440" cy="484200"/>
            </a:xfrm>
            <a:custGeom>
              <a:avLst/>
              <a:gdLst/>
              <a:ahLst/>
              <a:rect l="l" t="t" r="r" b="b"/>
              <a:pathLst>
                <a:path w="256" h="305">
                  <a:moveTo>
                    <a:pt x="8" y="304"/>
                  </a:moveTo>
                  <a:lnTo>
                    <a:pt x="0" y="230"/>
                  </a:lnTo>
                  <a:lnTo>
                    <a:pt x="16" y="156"/>
                  </a:lnTo>
                  <a:lnTo>
                    <a:pt x="57" y="91"/>
                  </a:lnTo>
                  <a:lnTo>
                    <a:pt x="115" y="41"/>
                  </a:lnTo>
                  <a:lnTo>
                    <a:pt x="181" y="9"/>
                  </a:lnTo>
                  <a:lnTo>
                    <a:pt x="25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183280" y="2592360"/>
            <a:ext cx="288720" cy="731880"/>
          </a:xfrm>
          <a:custGeom>
            <a:avLst/>
            <a:gdLst/>
            <a:ahLst/>
            <a:rect l="l" t="t" r="r" b="b"/>
            <a:pathLst>
              <a:path w="182" h="461">
                <a:moveTo>
                  <a:pt x="0" y="0"/>
                </a:moveTo>
                <a:lnTo>
                  <a:pt x="82" y="66"/>
                </a:lnTo>
                <a:lnTo>
                  <a:pt x="140" y="156"/>
                </a:lnTo>
                <a:lnTo>
                  <a:pt x="173" y="255"/>
                </a:lnTo>
                <a:lnTo>
                  <a:pt x="181" y="353"/>
                </a:lnTo>
                <a:lnTo>
                  <a:pt x="165" y="46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7675560" y="2255760"/>
            <a:ext cx="1291320" cy="792360"/>
            <a:chOff x="7675560" y="2255760"/>
            <a:chExt cx="1291320" cy="792360"/>
          </a:xfrm>
        </p:grpSpPr>
        <p:sp>
          <p:nvSpPr>
            <p:cNvPr id="153" name=""/>
            <p:cNvSpPr/>
            <p:nvPr/>
          </p:nvSpPr>
          <p:spPr>
            <a:xfrm>
              <a:off x="7765920" y="2563920"/>
              <a:ext cx="590760" cy="484200"/>
            </a:xfrm>
            <a:custGeom>
              <a:avLst/>
              <a:gdLst/>
              <a:ahLst/>
              <a:rect l="l" t="t" r="r" b="b"/>
              <a:pathLst>
                <a:path w="372" h="305">
                  <a:moveTo>
                    <a:pt x="371" y="0"/>
                  </a:moveTo>
                  <a:lnTo>
                    <a:pt x="255" y="33"/>
                  </a:lnTo>
                  <a:lnTo>
                    <a:pt x="148" y="107"/>
                  </a:lnTo>
                  <a:lnTo>
                    <a:pt x="58" y="197"/>
                  </a:lnTo>
                  <a:lnTo>
                    <a:pt x="0" y="3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7675560" y="2255760"/>
              <a:ext cx="1291320" cy="701640"/>
              <a:chOff x="7675560" y="2255760"/>
              <a:chExt cx="1291320" cy="701640"/>
            </a:xfrm>
          </p:grpSpPr>
          <p:sp>
            <p:nvSpPr>
              <p:cNvPr id="155" name=""/>
              <p:cNvSpPr/>
              <p:nvPr/>
            </p:nvSpPr>
            <p:spPr>
              <a:xfrm>
                <a:off x="8207280" y="2255760"/>
                <a:ext cx="7596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Track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75560" y="2563920"/>
                <a:ext cx="484200" cy="393480"/>
              </a:xfrm>
              <a:custGeom>
                <a:avLst/>
                <a:gdLst/>
                <a:ahLst/>
                <a:rect l="l" t="t" r="r" b="b"/>
                <a:pathLst>
                  <a:path w="305" h="248">
                    <a:moveTo>
                      <a:pt x="304" y="0"/>
                    </a:moveTo>
                    <a:lnTo>
                      <a:pt x="222" y="0"/>
                    </a:lnTo>
                    <a:lnTo>
                      <a:pt x="139" y="33"/>
                    </a:lnTo>
                    <a:lnTo>
                      <a:pt x="74" y="90"/>
                    </a:lnTo>
                    <a:lnTo>
                      <a:pt x="24" y="164"/>
                    </a:lnTo>
                    <a:lnTo>
                      <a:pt x="0" y="24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7" name=""/>
          <p:cNvSpPr/>
          <p:nvPr/>
        </p:nvSpPr>
        <p:spPr>
          <a:xfrm>
            <a:off x="8199360" y="3127320"/>
            <a:ext cx="174600" cy="444600"/>
          </a:xfrm>
          <a:custGeom>
            <a:avLst/>
            <a:gdLst/>
            <a:ahLst/>
            <a:rect l="l" t="t" r="r" b="b"/>
            <a:pathLst>
              <a:path w="110" h="280">
                <a:moveTo>
                  <a:pt x="0" y="279"/>
                </a:moveTo>
                <a:lnTo>
                  <a:pt x="64" y="238"/>
                </a:lnTo>
                <a:lnTo>
                  <a:pt x="100" y="181"/>
                </a:lnTo>
                <a:lnTo>
                  <a:pt x="109" y="115"/>
                </a:lnTo>
                <a:lnTo>
                  <a:pt x="81" y="49"/>
                </a:lnTo>
                <a:lnTo>
                  <a:pt x="28" y="0"/>
                </a:lnTo>
                <a:lnTo>
                  <a:pt x="55" y="33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07440" y="3200400"/>
            <a:ext cx="7383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46920" y="3127320"/>
            <a:ext cx="1471680" cy="484200"/>
          </a:xfrm>
          <a:custGeom>
            <a:avLst/>
            <a:gdLst/>
            <a:ahLst/>
            <a:rect l="l" t="t" r="r" b="b"/>
            <a:pathLst>
              <a:path w="927" h="305">
                <a:moveTo>
                  <a:pt x="890" y="304"/>
                </a:moveTo>
                <a:lnTo>
                  <a:pt x="0" y="123"/>
                </a:lnTo>
                <a:lnTo>
                  <a:pt x="926" y="0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72520" y="3075120"/>
            <a:ext cx="520560" cy="276120"/>
          </a:xfrm>
          <a:custGeom>
            <a:avLst/>
            <a:gdLst/>
            <a:ahLst/>
            <a:rect l="l" t="t" r="r" b="b"/>
            <a:pathLst>
              <a:path w="328" h="174">
                <a:moveTo>
                  <a:pt x="327" y="33"/>
                </a:moveTo>
                <a:lnTo>
                  <a:pt x="264" y="0"/>
                </a:lnTo>
                <a:lnTo>
                  <a:pt x="191" y="0"/>
                </a:lnTo>
                <a:lnTo>
                  <a:pt x="118" y="16"/>
                </a:lnTo>
                <a:lnTo>
                  <a:pt x="64" y="49"/>
                </a:lnTo>
                <a:lnTo>
                  <a:pt x="19" y="107"/>
                </a:lnTo>
                <a:lnTo>
                  <a:pt x="0" y="1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09360" y="1676520"/>
            <a:ext cx="8877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ylind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43600" y="2057400"/>
            <a:ext cx="7632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A48B-B85A-4919-9642-ABFB59BD99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k Access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Times New Roman"/>
              </a:rPr>
              <a:t>Disk lat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ime between when command is issued and when data is 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k latency = seek time + rotational la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k time = time for the head to reach cyl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ms – 40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al latency = time for the sector to ro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ion time = 10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latency = 10ms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er time = typically 10MB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ks read/write one block at a time (typically 4k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6F3B-7675-4BDD-8FF2-3435912EAA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 Seek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we have N tracks, what is the average seek tim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ting from cylinder x to y takes time |x-y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419200" y="3781440"/>
                <a:ext cx="3621240" cy="25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CBAA-B761-4264-A27F-79545E6E4C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/O Model of Comp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in memory algorithms we care about CPU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atabases time is dominated by I/O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cost is given only by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quence: need to redesign certain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illustrate here with s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3A59-B5C7-4D80-9A0A-405F0B412E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llustrates the difference in algorithm design when your data is not in main memo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sort 1Gb of data with 1Mb of 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rises in many places in database system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requested in sorted order (ORDER B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for grouping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step in sort-merge join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plicate remo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 loading of B+-tree index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EFF0-DCB6-45B8-9D4D-83FE04BBA3D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Way Merge-sor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s 3 Buff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76276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 1: Read a page, sort it, writ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buffer page is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 2, 3, …, etc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buffer pages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93000" y="4138560"/>
            <a:ext cx="1315800" cy="220680"/>
          </a:xfrm>
          <a:custGeom>
            <a:avLst/>
            <a:gdLst/>
            <a:ahLst/>
            <a:rect l="l" t="t" r="r" b="b"/>
            <a:pathLst>
              <a:path w="829" h="139">
                <a:moveTo>
                  <a:pt x="828" y="70"/>
                </a:moveTo>
                <a:lnTo>
                  <a:pt x="796" y="42"/>
                </a:lnTo>
                <a:lnTo>
                  <a:pt x="707" y="21"/>
                </a:lnTo>
                <a:lnTo>
                  <a:pt x="414" y="0"/>
                </a:lnTo>
                <a:lnTo>
                  <a:pt x="122" y="21"/>
                </a:lnTo>
                <a:lnTo>
                  <a:pt x="33" y="42"/>
                </a:lnTo>
                <a:lnTo>
                  <a:pt x="0" y="70"/>
                </a:lnTo>
                <a:lnTo>
                  <a:pt x="33" y="97"/>
                </a:lnTo>
                <a:lnTo>
                  <a:pt x="122" y="118"/>
                </a:lnTo>
                <a:lnTo>
                  <a:pt x="414" y="138"/>
                </a:lnTo>
                <a:lnTo>
                  <a:pt x="707" y="118"/>
                </a:lnTo>
                <a:lnTo>
                  <a:pt x="796" y="97"/>
                </a:lnTo>
                <a:lnTo>
                  <a:pt x="828" y="70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47720" y="4535640"/>
            <a:ext cx="1040040" cy="150840"/>
          </a:xfrm>
          <a:custGeom>
            <a:avLst/>
            <a:gdLst/>
            <a:ahLst/>
            <a:rect l="l" t="t" r="r" b="b"/>
            <a:pathLst>
              <a:path w="655" h="95">
                <a:moveTo>
                  <a:pt x="0" y="94"/>
                </a:moveTo>
                <a:lnTo>
                  <a:pt x="0" y="0"/>
                </a:lnTo>
                <a:lnTo>
                  <a:pt x="654" y="0"/>
                </a:lnTo>
                <a:lnTo>
                  <a:pt x="654" y="94"/>
                </a:lnTo>
                <a:lnTo>
                  <a:pt x="0" y="9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47720" y="5283360"/>
            <a:ext cx="1068480" cy="137880"/>
          </a:xfrm>
          <a:custGeom>
            <a:avLst/>
            <a:gdLst/>
            <a:ahLst/>
            <a:rect l="l" t="t" r="r" b="b"/>
            <a:pathLst>
              <a:path w="673" h="87">
                <a:moveTo>
                  <a:pt x="0" y="86"/>
                </a:moveTo>
                <a:lnTo>
                  <a:pt x="0" y="0"/>
                </a:lnTo>
                <a:lnTo>
                  <a:pt x="672" y="0"/>
                </a:lnTo>
                <a:lnTo>
                  <a:pt x="672" y="86"/>
                </a:lnTo>
                <a:lnTo>
                  <a:pt x="0" y="86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09840" y="4167360"/>
            <a:ext cx="1314360" cy="218880"/>
          </a:xfrm>
          <a:custGeom>
            <a:avLst/>
            <a:gdLst/>
            <a:ahLst/>
            <a:rect l="l" t="t" r="r" b="b"/>
            <a:pathLst>
              <a:path w="828" h="138">
                <a:moveTo>
                  <a:pt x="827" y="69"/>
                </a:moveTo>
                <a:lnTo>
                  <a:pt x="795" y="42"/>
                </a:lnTo>
                <a:lnTo>
                  <a:pt x="706" y="20"/>
                </a:lnTo>
                <a:lnTo>
                  <a:pt x="414" y="0"/>
                </a:lnTo>
                <a:lnTo>
                  <a:pt x="121" y="20"/>
                </a:lnTo>
                <a:lnTo>
                  <a:pt x="32" y="42"/>
                </a:lnTo>
                <a:lnTo>
                  <a:pt x="0" y="69"/>
                </a:lnTo>
                <a:lnTo>
                  <a:pt x="32" y="95"/>
                </a:lnTo>
                <a:lnTo>
                  <a:pt x="121" y="117"/>
                </a:lnTo>
                <a:lnTo>
                  <a:pt x="414" y="137"/>
                </a:lnTo>
                <a:lnTo>
                  <a:pt x="706" y="117"/>
                </a:lnTo>
                <a:lnTo>
                  <a:pt x="795" y="95"/>
                </a:lnTo>
                <a:lnTo>
                  <a:pt x="827" y="6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35200" y="5603760"/>
            <a:ext cx="27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ain memory buf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02440" y="4834080"/>
            <a:ext cx="1055880" cy="137880"/>
          </a:xfrm>
          <a:custGeom>
            <a:avLst/>
            <a:gdLst/>
            <a:ahLst/>
            <a:rect l="l" t="t" r="r" b="b"/>
            <a:pathLst>
              <a:path w="665" h="87">
                <a:moveTo>
                  <a:pt x="0" y="86"/>
                </a:moveTo>
                <a:lnTo>
                  <a:pt x="0" y="0"/>
                </a:lnTo>
                <a:lnTo>
                  <a:pt x="664" y="0"/>
                </a:lnTo>
                <a:lnTo>
                  <a:pt x="664" y="86"/>
                </a:lnTo>
                <a:lnTo>
                  <a:pt x="0" y="86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16840" y="5065560"/>
            <a:ext cx="1055520" cy="125640"/>
          </a:xfrm>
          <a:custGeom>
            <a:avLst/>
            <a:gdLst/>
            <a:ahLst/>
            <a:rect l="l" t="t" r="r" b="b"/>
            <a:pathLst>
              <a:path w="665" h="79">
                <a:moveTo>
                  <a:pt x="0" y="78"/>
                </a:moveTo>
                <a:lnTo>
                  <a:pt x="0" y="0"/>
                </a:lnTo>
                <a:lnTo>
                  <a:pt x="664" y="0"/>
                </a:lnTo>
                <a:lnTo>
                  <a:pt x="664" y="78"/>
                </a:lnTo>
                <a:lnTo>
                  <a:pt x="0" y="7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57600" y="4281480"/>
            <a:ext cx="1127160" cy="444600"/>
          </a:xfrm>
          <a:custGeom>
            <a:avLst/>
            <a:gdLst/>
            <a:ahLst/>
            <a:rect l="l" t="t" r="r" b="b"/>
            <a:pathLst>
              <a:path w="710" h="280">
                <a:moveTo>
                  <a:pt x="0" y="279"/>
                </a:moveTo>
                <a:lnTo>
                  <a:pt x="0" y="0"/>
                </a:lnTo>
                <a:lnTo>
                  <a:pt x="709" y="0"/>
                </a:lnTo>
                <a:lnTo>
                  <a:pt x="709" y="279"/>
                </a:lnTo>
                <a:lnTo>
                  <a:pt x="0" y="279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4757760"/>
            <a:ext cx="1001880" cy="360360"/>
          </a:xfrm>
          <a:custGeom>
            <a:avLst/>
            <a:gdLst/>
            <a:ahLst/>
            <a:rect l="l" t="t" r="r" b="b"/>
            <a:pathLst>
              <a:path w="631" h="227">
                <a:moveTo>
                  <a:pt x="0" y="226"/>
                </a:moveTo>
                <a:lnTo>
                  <a:pt x="0" y="0"/>
                </a:lnTo>
                <a:lnTo>
                  <a:pt x="630" y="0"/>
                </a:lnTo>
                <a:lnTo>
                  <a:pt x="630" y="226"/>
                </a:lnTo>
                <a:lnTo>
                  <a:pt x="0" y="226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30600" y="5124600"/>
            <a:ext cx="1127160" cy="446040"/>
          </a:xfrm>
          <a:custGeom>
            <a:avLst/>
            <a:gdLst/>
            <a:ahLst/>
            <a:rect l="l" t="t" r="r" b="b"/>
            <a:pathLst>
              <a:path w="710" h="281">
                <a:moveTo>
                  <a:pt x="0" y="280"/>
                </a:moveTo>
                <a:lnTo>
                  <a:pt x="0" y="0"/>
                </a:lnTo>
                <a:lnTo>
                  <a:pt x="709" y="0"/>
                </a:lnTo>
                <a:lnTo>
                  <a:pt x="709" y="280"/>
                </a:lnTo>
                <a:lnTo>
                  <a:pt x="0" y="280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3962520"/>
            <a:ext cx="3434040" cy="2286000"/>
          </a:xfrm>
          <a:custGeom>
            <a:avLst/>
            <a:gdLst/>
            <a:ahLst/>
            <a:rect l="l" t="t" r="r" b="b"/>
            <a:pathLst>
              <a:path w="2163" h="1295">
                <a:moveTo>
                  <a:pt x="0" y="1294"/>
                </a:moveTo>
                <a:lnTo>
                  <a:pt x="0" y="0"/>
                </a:lnTo>
                <a:lnTo>
                  <a:pt x="2162" y="0"/>
                </a:lnTo>
                <a:lnTo>
                  <a:pt x="2162" y="1294"/>
                </a:lnTo>
                <a:lnTo>
                  <a:pt x="0" y="129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20880" y="4319640"/>
            <a:ext cx="99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INPU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20880" y="5164200"/>
            <a:ext cx="99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INPU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64360" y="4767120"/>
            <a:ext cx="101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341840" y="571644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90280" y="574524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4267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267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447920" y="5334120"/>
            <a:ext cx="1449000" cy="304200"/>
            <a:chOff x="1447920" y="5334120"/>
            <a:chExt cx="1449000" cy="304200"/>
          </a:xfrm>
        </p:grpSpPr>
        <p:sp>
          <p:nvSpPr>
            <p:cNvPr id="197" name=""/>
            <p:cNvSpPr/>
            <p:nvPr/>
          </p:nvSpPr>
          <p:spPr>
            <a:xfrm>
              <a:off x="1525680" y="533412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47920" y="533412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934320" y="5334120"/>
            <a:ext cx="1449000" cy="304200"/>
            <a:chOff x="6934320" y="5334120"/>
            <a:chExt cx="1449000" cy="304200"/>
          </a:xfrm>
        </p:grpSpPr>
        <p:sp>
          <p:nvSpPr>
            <p:cNvPr id="200" name=""/>
            <p:cNvSpPr/>
            <p:nvPr/>
          </p:nvSpPr>
          <p:spPr>
            <a:xfrm>
              <a:off x="7012080" y="533412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34320" y="533412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7010280" y="4267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05920" y="4267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66880" y="45720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666880" y="53341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4495680"/>
            <a:ext cx="6094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800600" y="502884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49528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0795-A0F4-452A-8FD3-383BAE1E0A5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9144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Way External Merge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41911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ass we read + write each page in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pages in the file =&gt; the number of p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otal cost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: start with larger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1GB with 1MB memory in 10 p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914400" y="3200400"/>
                <a:ext cx="25909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⌈"/>
                        <m:endChr m:val="⌉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N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914400" y="4191120"/>
                <a:ext cx="276696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⌈"/>
                            <m:endChr m:val="⌉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7932960" y="1401840"/>
            <a:ext cx="928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933680" y="1914480"/>
            <a:ext cx="1193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page ru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933680" y="2513160"/>
            <a:ext cx="1193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-page ru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935120" y="3540240"/>
            <a:ext cx="1193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-page ru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20800" y="5337000"/>
            <a:ext cx="1193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-page ru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849800" y="1660680"/>
            <a:ext cx="75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SS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849800" y="2173320"/>
            <a:ext cx="75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S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49800" y="2943360"/>
            <a:ext cx="75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SS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51240" y="4227480"/>
            <a:ext cx="75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SS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46480" y="1919160"/>
            <a:ext cx="317520" cy="257400"/>
          </a:xfrm>
          <a:custGeom>
            <a:avLst/>
            <a:gdLst/>
            <a:ahLst/>
            <a:rect l="l" t="t" r="r" b="b"/>
            <a:pathLst>
              <a:path w="200" h="162">
                <a:moveTo>
                  <a:pt x="0" y="161"/>
                </a:moveTo>
                <a:lnTo>
                  <a:pt x="0" y="0"/>
                </a:lnTo>
                <a:lnTo>
                  <a:pt x="199" y="0"/>
                </a:lnTo>
                <a:lnTo>
                  <a:pt x="199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21320" y="1919160"/>
            <a:ext cx="31896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97600" y="1919160"/>
            <a:ext cx="31896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573880" y="1919160"/>
            <a:ext cx="31896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49800" y="1919160"/>
            <a:ext cx="31932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26080" y="1919160"/>
            <a:ext cx="317520" cy="257400"/>
          </a:xfrm>
          <a:custGeom>
            <a:avLst/>
            <a:gdLst/>
            <a:ahLst/>
            <a:rect l="l" t="t" r="r" b="b"/>
            <a:pathLst>
              <a:path w="200" h="162">
                <a:moveTo>
                  <a:pt x="0" y="161"/>
                </a:moveTo>
                <a:lnTo>
                  <a:pt x="0" y="0"/>
                </a:lnTo>
                <a:lnTo>
                  <a:pt x="199" y="0"/>
                </a:lnTo>
                <a:lnTo>
                  <a:pt x="199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02360" y="1919160"/>
            <a:ext cx="317520" cy="257400"/>
          </a:xfrm>
          <a:custGeom>
            <a:avLst/>
            <a:gdLst/>
            <a:ahLst/>
            <a:rect l="l" t="t" r="r" b="b"/>
            <a:pathLst>
              <a:path w="200" h="162">
                <a:moveTo>
                  <a:pt x="0" y="161"/>
                </a:moveTo>
                <a:lnTo>
                  <a:pt x="0" y="0"/>
                </a:lnTo>
                <a:lnTo>
                  <a:pt x="199" y="0"/>
                </a:lnTo>
                <a:lnTo>
                  <a:pt x="199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77200" y="1919160"/>
            <a:ext cx="31896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83000" y="2433600"/>
            <a:ext cx="319320" cy="25704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83000" y="2689200"/>
            <a:ext cx="31932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560" y="2433600"/>
            <a:ext cx="318960" cy="25704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5560" y="268920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88120" y="2433600"/>
            <a:ext cx="318960" cy="25704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88120" y="268920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240680" y="2433600"/>
            <a:ext cx="317520" cy="257040"/>
          </a:xfrm>
          <a:custGeom>
            <a:avLst/>
            <a:gdLst/>
            <a:ahLst/>
            <a:rect l="l" t="t" r="r" b="b"/>
            <a:pathLst>
              <a:path w="200" h="162">
                <a:moveTo>
                  <a:pt x="0" y="161"/>
                </a:moveTo>
                <a:lnTo>
                  <a:pt x="0" y="0"/>
                </a:lnTo>
                <a:lnTo>
                  <a:pt x="199" y="0"/>
                </a:lnTo>
                <a:lnTo>
                  <a:pt x="199" y="161"/>
                </a:lnTo>
                <a:lnTo>
                  <a:pt x="0" y="16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40680" y="2689200"/>
            <a:ext cx="317520" cy="258840"/>
          </a:xfrm>
          <a:custGeom>
            <a:avLst/>
            <a:gdLst/>
            <a:ahLst/>
            <a:rect l="l" t="t" r="r" b="b"/>
            <a:pathLst>
              <a:path w="200" h="163">
                <a:moveTo>
                  <a:pt x="0" y="162"/>
                </a:moveTo>
                <a:lnTo>
                  <a:pt x="0" y="0"/>
                </a:lnTo>
                <a:lnTo>
                  <a:pt x="199" y="0"/>
                </a:lnTo>
                <a:lnTo>
                  <a:pt x="199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59280" y="345924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59280" y="3716280"/>
            <a:ext cx="320760" cy="257400"/>
          </a:xfrm>
          <a:custGeom>
            <a:avLst/>
            <a:gdLst/>
            <a:ahLst/>
            <a:rect l="l" t="t" r="r" b="b"/>
            <a:pathLst>
              <a:path w="202" h="162">
                <a:moveTo>
                  <a:pt x="0" y="161"/>
                </a:moveTo>
                <a:lnTo>
                  <a:pt x="0" y="0"/>
                </a:lnTo>
                <a:lnTo>
                  <a:pt x="201" y="0"/>
                </a:lnTo>
                <a:lnTo>
                  <a:pt x="201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59280" y="397188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62600" y="320184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62600" y="345924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62600" y="3716280"/>
            <a:ext cx="320760" cy="257400"/>
          </a:xfrm>
          <a:custGeom>
            <a:avLst/>
            <a:gdLst/>
            <a:ahLst/>
            <a:rect l="l" t="t" r="r" b="b"/>
            <a:pathLst>
              <a:path w="202" h="162">
                <a:moveTo>
                  <a:pt x="0" y="161"/>
                </a:moveTo>
                <a:lnTo>
                  <a:pt x="0" y="0"/>
                </a:lnTo>
                <a:lnTo>
                  <a:pt x="201" y="0"/>
                </a:lnTo>
                <a:lnTo>
                  <a:pt x="201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62600" y="397188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811840" y="4486320"/>
            <a:ext cx="318960" cy="25704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811840" y="474192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811840" y="499896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11840" y="5256360"/>
            <a:ext cx="318960" cy="25704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11840" y="5511960"/>
            <a:ext cx="31896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11840" y="576900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11840" y="6026040"/>
            <a:ext cx="31896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11840" y="628164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23720" y="627840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21320" y="1405080"/>
            <a:ext cx="31896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97600" y="1405080"/>
            <a:ext cx="31896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73880" y="1405080"/>
            <a:ext cx="31896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49800" y="1405080"/>
            <a:ext cx="31932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526080" y="1405080"/>
            <a:ext cx="317520" cy="258480"/>
          </a:xfrm>
          <a:custGeom>
            <a:avLst/>
            <a:gdLst/>
            <a:ahLst/>
            <a:rect l="l" t="t" r="r" b="b"/>
            <a:pathLst>
              <a:path w="200" h="163">
                <a:moveTo>
                  <a:pt x="0" y="162"/>
                </a:moveTo>
                <a:lnTo>
                  <a:pt x="0" y="0"/>
                </a:lnTo>
                <a:lnTo>
                  <a:pt x="199" y="0"/>
                </a:lnTo>
                <a:lnTo>
                  <a:pt x="199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002360" y="1405080"/>
            <a:ext cx="317520" cy="258480"/>
          </a:xfrm>
          <a:custGeom>
            <a:avLst/>
            <a:gdLst/>
            <a:ahLst/>
            <a:rect l="l" t="t" r="r" b="b"/>
            <a:pathLst>
              <a:path w="200" h="163">
                <a:moveTo>
                  <a:pt x="0" y="162"/>
                </a:moveTo>
                <a:lnTo>
                  <a:pt x="0" y="0"/>
                </a:lnTo>
                <a:lnTo>
                  <a:pt x="199" y="0"/>
                </a:lnTo>
                <a:lnTo>
                  <a:pt x="199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477200" y="1405080"/>
            <a:ext cx="31896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46480" y="1405080"/>
            <a:ext cx="317520" cy="258480"/>
          </a:xfrm>
          <a:custGeom>
            <a:avLst/>
            <a:gdLst/>
            <a:ahLst/>
            <a:rect l="l" t="t" r="r" b="b"/>
            <a:pathLst>
              <a:path w="200" h="163">
                <a:moveTo>
                  <a:pt x="0" y="162"/>
                </a:moveTo>
                <a:lnTo>
                  <a:pt x="0" y="0"/>
                </a:lnTo>
                <a:lnTo>
                  <a:pt x="199" y="0"/>
                </a:lnTo>
                <a:lnTo>
                  <a:pt x="199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04720" y="141444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1280" y="140184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47560" y="141300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23840" y="141300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00120" y="141300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76400" y="141300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22520" y="140184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095000" y="192888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00120" y="192708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1280" y="192708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47560" y="192708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33200" y="192708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66680" y="191448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11360" y="191448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23600" y="245124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33320" y="269712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85520" y="239724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76160" y="266400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58960" y="241776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7800" y="266400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49320" y="266400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09240" y="320832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11040" y="347652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20400" y="372276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11040" y="398952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17600" y="347652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17600" y="372276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796800" y="395748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63600" y="474804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63600" y="499572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63600" y="525132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63600" y="551988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63600" y="576576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63600" y="602136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59280" y="320976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038480" y="1828800"/>
            <a:ext cx="381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38480" y="2286000"/>
            <a:ext cx="381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10120" y="3048120"/>
            <a:ext cx="381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10120" y="4343400"/>
            <a:ext cx="381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321080" y="16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45160" y="16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240160" y="16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34080" y="16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229440" y="16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653160" y="16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147080" y="16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42080" y="16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51240" y="2209680"/>
            <a:ext cx="2113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4533480" y="2209680"/>
            <a:ext cx="2113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40160" y="2209680"/>
            <a:ext cx="2113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5522400" y="2209680"/>
            <a:ext cx="2113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29440" y="2209680"/>
            <a:ext cx="210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6512040" y="2209680"/>
            <a:ext cx="210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147080" y="2209680"/>
            <a:ext cx="2124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7429680" y="2209680"/>
            <a:ext cx="2124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33840" y="2971800"/>
            <a:ext cx="4240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5098680" y="2971800"/>
            <a:ext cx="35244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440400" y="2971800"/>
            <a:ext cx="4240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7005240" y="2971800"/>
            <a:ext cx="3538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027760" y="4267080"/>
            <a:ext cx="84744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6016320" y="4267080"/>
            <a:ext cx="9190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38480" y="1219320"/>
            <a:ext cx="0" cy="548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8558-7F8F-4C1E-97CB-92770584DC4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We Do Better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more ma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use it to improve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0561-E10D-4982-928C-2DBF776B64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Model for Our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 of ma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records in the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 of one re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A9D2-3D6B-4BF2-8FAE-265AE5D1FC4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Merge-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 one: load M bytes in memory, s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 runs of length M/R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5638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48120" y="5638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761160" y="3487680"/>
            <a:ext cx="1393920" cy="254160"/>
          </a:xfrm>
          <a:custGeom>
            <a:avLst/>
            <a:gdLst/>
            <a:ahLst/>
            <a:rect l="l" t="t" r="r" b="b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122480" y="387684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22480" y="4876920"/>
            <a:ext cx="1128600" cy="166680"/>
          </a:xfrm>
          <a:custGeom>
            <a:avLst/>
            <a:gdLst/>
            <a:ahLst/>
            <a:rect l="l" t="t" r="r" b="b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76320" y="3522600"/>
            <a:ext cx="1387440" cy="265320"/>
          </a:xfrm>
          <a:custGeom>
            <a:avLst/>
            <a:gdLst/>
            <a:ahLst/>
            <a:rect l="l" t="t" r="r" b="b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48120" y="5459400"/>
            <a:ext cx="325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 bytes of 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77080" y="3962520"/>
            <a:ext cx="1119240" cy="156960"/>
          </a:xfrm>
          <a:custGeom>
            <a:avLst/>
            <a:gdLst/>
            <a:ahLst/>
            <a:rect l="l" t="t" r="r" b="b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91480" y="424332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11520" y="3276720"/>
            <a:ext cx="3625920" cy="2492280"/>
          </a:xfrm>
          <a:custGeom>
            <a:avLst/>
            <a:gdLst/>
            <a:ahLst/>
            <a:rect l="l" t="t" r="r" b="b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184520" y="531972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321920" y="535320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9216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5908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911160" y="4940640"/>
            <a:ext cx="1530000" cy="367200"/>
            <a:chOff x="911160" y="4940640"/>
            <a:chExt cx="1530000" cy="367200"/>
          </a:xfrm>
        </p:grpSpPr>
        <p:sp>
          <p:nvSpPr>
            <p:cNvPr id="349" name=""/>
            <p:cNvSpPr/>
            <p:nvPr/>
          </p:nvSpPr>
          <p:spPr>
            <a:xfrm>
              <a:off x="99360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1116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7"/>
                  </a:moveTo>
                  <a:arcTo wR="10800" hR="10800" stAng="-29507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7"/>
                  </a:moveTo>
                  <a:arcTo wR="10800" hR="10800" stAng="-29507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6697440" y="4874040"/>
            <a:ext cx="1536120" cy="348480"/>
            <a:chOff x="6697440" y="4874040"/>
            <a:chExt cx="1536120" cy="348480"/>
          </a:xfrm>
        </p:grpSpPr>
        <p:sp>
          <p:nvSpPr>
            <p:cNvPr id="352" name=""/>
            <p:cNvSpPr/>
            <p:nvPr/>
          </p:nvSpPr>
          <p:spPr>
            <a:xfrm>
              <a:off x="6780240" y="4874040"/>
              <a:ext cx="145332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97440" y="4874040"/>
              <a:ext cx="145404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2"/>
                  </a:moveTo>
                  <a:arcTo wR="10800" hR="10800" stAng="-3111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2"/>
                  </a:moveTo>
                  <a:arcTo wR="10800" hR="10800" stAng="-3111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678492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15184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198520" y="3921120"/>
            <a:ext cx="1001880" cy="2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867280" y="4474800"/>
            <a:ext cx="917640" cy="2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122480" y="415440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0280" y="4060800"/>
            <a:ext cx="822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91480" y="479736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01680" y="4062240"/>
            <a:ext cx="857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276720" y="3429000"/>
            <a:ext cx="2590560" cy="205740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/R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A02B-A258-4487-839F-C0921F851F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mory hierarchy – 11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ks – 11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sort – 11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14C6-B91A-45F2-9554-EFE65D4C24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se Tw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M/B – 1 runs into a new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runs have now M/R (M/B – 1)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5638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48120" y="5638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61160" y="3487680"/>
            <a:ext cx="1393920" cy="254160"/>
          </a:xfrm>
          <a:custGeom>
            <a:avLst/>
            <a:gdLst/>
            <a:ahLst/>
            <a:rect l="l" t="t" r="r" b="b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22480" y="387684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122480" y="4876920"/>
            <a:ext cx="1128600" cy="166680"/>
          </a:xfrm>
          <a:custGeom>
            <a:avLst/>
            <a:gdLst/>
            <a:ahLst/>
            <a:rect l="l" t="t" r="r" b="b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76320" y="3522600"/>
            <a:ext cx="1387440" cy="265320"/>
          </a:xfrm>
          <a:custGeom>
            <a:avLst/>
            <a:gdLst/>
            <a:ahLst/>
            <a:rect l="l" t="t" r="r" b="b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48120" y="5459400"/>
            <a:ext cx="325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 bytes of 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77080" y="3962520"/>
            <a:ext cx="1119240" cy="156960"/>
          </a:xfrm>
          <a:custGeom>
            <a:avLst/>
            <a:gdLst/>
            <a:ahLst/>
            <a:rect l="l" t="t" r="r" b="b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91480" y="424332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11520" y="3276720"/>
            <a:ext cx="3625920" cy="2492280"/>
          </a:xfrm>
          <a:custGeom>
            <a:avLst/>
            <a:gdLst/>
            <a:ahLst/>
            <a:rect l="l" t="t" r="r" b="b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184520" y="531972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321920" y="535320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9216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35908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911160" y="4940640"/>
            <a:ext cx="1530000" cy="367200"/>
            <a:chOff x="911160" y="4940640"/>
            <a:chExt cx="1530000" cy="367200"/>
          </a:xfrm>
        </p:grpSpPr>
        <p:sp>
          <p:nvSpPr>
            <p:cNvPr id="380" name=""/>
            <p:cNvSpPr/>
            <p:nvPr/>
          </p:nvSpPr>
          <p:spPr>
            <a:xfrm>
              <a:off x="99360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116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7"/>
                  </a:moveTo>
                  <a:arcTo wR="10800" hR="10800" stAng="-29507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7"/>
                  </a:moveTo>
                  <a:arcTo wR="10800" hR="10800" stAng="-29507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697440" y="4874040"/>
            <a:ext cx="1536120" cy="348480"/>
            <a:chOff x="6697440" y="4874040"/>
            <a:chExt cx="1536120" cy="348480"/>
          </a:xfrm>
        </p:grpSpPr>
        <p:sp>
          <p:nvSpPr>
            <p:cNvPr id="383" name=""/>
            <p:cNvSpPr/>
            <p:nvPr/>
          </p:nvSpPr>
          <p:spPr>
            <a:xfrm>
              <a:off x="6780240" y="4874040"/>
              <a:ext cx="145332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697440" y="4874040"/>
              <a:ext cx="145404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2"/>
                  </a:moveTo>
                  <a:arcTo wR="10800" hR="10800" stAng="-3111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2"/>
                  </a:moveTo>
                  <a:arcTo wR="10800" hR="10800" stAng="-3111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678492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15184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2198520" y="3736800"/>
            <a:ext cx="10461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198520" y="4290840"/>
            <a:ext cx="104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51400" y="3921120"/>
            <a:ext cx="642960" cy="46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4451400" y="4568400"/>
            <a:ext cx="64296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140520" y="4475160"/>
            <a:ext cx="64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122480" y="415440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279520" y="4937040"/>
            <a:ext cx="965160" cy="27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51400" y="4290840"/>
            <a:ext cx="6429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010280" y="4060800"/>
            <a:ext cx="822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91480" y="479736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01680" y="4062240"/>
            <a:ext cx="857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281760" y="4956480"/>
            <a:ext cx="146088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M/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76720" y="34322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76720" y="41180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66880" y="4460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125320" y="4194360"/>
            <a:ext cx="10281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252C-3CEC-4767-8049-04CA93339EB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se Th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M/B – 1 runs into a new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runs have now M/R (M/B – 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5638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048120" y="5638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761160" y="3487680"/>
            <a:ext cx="1393920" cy="254160"/>
          </a:xfrm>
          <a:custGeom>
            <a:avLst/>
            <a:gdLst/>
            <a:ahLst/>
            <a:rect l="l" t="t" r="r" b="b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122480" y="387684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122480" y="4876920"/>
            <a:ext cx="1128600" cy="166680"/>
          </a:xfrm>
          <a:custGeom>
            <a:avLst/>
            <a:gdLst/>
            <a:ahLst/>
            <a:rect l="l" t="t" r="r" b="b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76320" y="3522600"/>
            <a:ext cx="1387440" cy="265320"/>
          </a:xfrm>
          <a:custGeom>
            <a:avLst/>
            <a:gdLst/>
            <a:ahLst/>
            <a:rect l="l" t="t" r="r" b="b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48120" y="5459400"/>
            <a:ext cx="325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 bytes of 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77080" y="3962520"/>
            <a:ext cx="1119240" cy="156960"/>
          </a:xfrm>
          <a:custGeom>
            <a:avLst/>
            <a:gdLst/>
            <a:ahLst/>
            <a:rect l="l" t="t" r="r" b="b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91480" y="424332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711520" y="3276720"/>
            <a:ext cx="3625920" cy="2492280"/>
          </a:xfrm>
          <a:custGeom>
            <a:avLst/>
            <a:gdLst/>
            <a:ahLst/>
            <a:rect l="l" t="t" r="r" b="b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184520" y="531972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321920" y="535320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99216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35908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911160" y="4940640"/>
            <a:ext cx="1530000" cy="367200"/>
            <a:chOff x="911160" y="4940640"/>
            <a:chExt cx="1530000" cy="367200"/>
          </a:xfrm>
        </p:grpSpPr>
        <p:sp>
          <p:nvSpPr>
            <p:cNvPr id="420" name=""/>
            <p:cNvSpPr/>
            <p:nvPr/>
          </p:nvSpPr>
          <p:spPr>
            <a:xfrm>
              <a:off x="99360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91116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7"/>
                  </a:moveTo>
                  <a:arcTo wR="10800" hR="10800" stAng="-29507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7"/>
                  </a:moveTo>
                  <a:arcTo wR="10800" hR="10800" stAng="-29507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6697440" y="4874040"/>
            <a:ext cx="1536120" cy="348480"/>
            <a:chOff x="6697440" y="4874040"/>
            <a:chExt cx="1536120" cy="348480"/>
          </a:xfrm>
        </p:grpSpPr>
        <p:sp>
          <p:nvSpPr>
            <p:cNvPr id="423" name=""/>
            <p:cNvSpPr/>
            <p:nvPr/>
          </p:nvSpPr>
          <p:spPr>
            <a:xfrm>
              <a:off x="6780240" y="4874040"/>
              <a:ext cx="145332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697440" y="4874040"/>
              <a:ext cx="145404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2"/>
                  </a:moveTo>
                  <a:arcTo wR="10800" hR="10800" stAng="-3111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2"/>
                  </a:moveTo>
                  <a:arcTo wR="10800" hR="10800" stAng="-3111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678492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15184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2198520" y="3736800"/>
            <a:ext cx="10461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198520" y="4290840"/>
            <a:ext cx="104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51400" y="3921120"/>
            <a:ext cx="642960" cy="46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4451400" y="4568400"/>
            <a:ext cx="64296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140520" y="4475160"/>
            <a:ext cx="64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22480" y="415440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279520" y="4937040"/>
            <a:ext cx="965160" cy="27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51400" y="4290840"/>
            <a:ext cx="6429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010280" y="4060800"/>
            <a:ext cx="822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91480" y="479736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201680" y="4062240"/>
            <a:ext cx="857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81760" y="4956480"/>
            <a:ext cx="146088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M/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76720" y="34322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276720" y="41180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66880" y="4460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125320" y="4194360"/>
            <a:ext cx="10281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0851-2086-4690-8964-16BE980DE09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of External Merge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pas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differ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B = 4KB,  M = 64MB, R = 0.1K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1:  runs of length M/R = 640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now sorted runs of 640000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2:  runs increase by a factor of M/B – 1 = 16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now sorted runs of 10,240,000,000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3:  runs increase by a factor of M/B – 1 = 16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now sorted runs of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body has so much data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sort everything in 2 or 3 passe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4724280" y="1371600"/>
                <a:ext cx="3560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⌈"/>
                        <m:endChr m:val="⌉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NR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8A5D-E8DA-4800-B6D6-41E8239B40A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Merge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so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ol in the XML toolkit sorts using thi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sort 1GB of XML data in about 8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CCD8-0F87-4732-8256-EBB9AF8270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emor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800" y="1793880"/>
            <a:ext cx="72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Main Memory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         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Disk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                   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7080" y="2514600"/>
            <a:ext cx="29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olat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ed addr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verage ac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im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0-100 nano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08240" y="2362320"/>
            <a:ext cx="295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10 M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ssion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0 GB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verage tim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ccess a bloc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0-15 mse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k, rota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records “clos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6200" y="2438280"/>
            <a:ext cx="328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 MB/S transfer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0 GB typ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nly sequential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for oper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0120" y="5486400"/>
            <a:ext cx="29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ach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ccess time 10 nano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ECAF-C416-429A-A491-5BA4ED9D92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Mem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est, most expen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: 512MB are common on P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databases could fit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industry trend: Main Memor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 TimesTen, DataBli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ssue is volat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need to store on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D2CC-AF87-41AD-8C53-7C26FE4A76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ary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er, cheaper than ma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istent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ith a main memory 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1AD9-06A0-46F2-9D2E-48BBFF88FD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ment in a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5181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5000"/>
          </a:bodyPr>
          <a:p>
            <a:pPr marL="119880" indent="-119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must be in RAM for DBMS to operate on i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of &lt;frame#, pageid&gt; pairs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inta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LRU is not always g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529000" y="2095560"/>
            <a:ext cx="4230720" cy="1720800"/>
            <a:chOff x="2529000" y="2095560"/>
            <a:chExt cx="4230720" cy="1720800"/>
          </a:xfrm>
        </p:grpSpPr>
        <p:sp>
          <p:nvSpPr>
            <p:cNvPr id="67" name=""/>
            <p:cNvSpPr/>
            <p:nvPr/>
          </p:nvSpPr>
          <p:spPr>
            <a:xfrm>
              <a:off x="2541600" y="2108160"/>
              <a:ext cx="4205160" cy="1695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535120" y="2102040"/>
              <a:ext cx="67968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27400" y="2102040"/>
              <a:ext cx="68256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922560" y="2102040"/>
              <a:ext cx="6811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616640" y="2102040"/>
              <a:ext cx="6793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08560" y="2102040"/>
              <a:ext cx="6811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29000" y="2646360"/>
              <a:ext cx="423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29000" y="3265560"/>
              <a:ext cx="423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29000" y="2095560"/>
              <a:ext cx="69192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16440" y="2095560"/>
              <a:ext cx="69372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10160" y="3265560"/>
              <a:ext cx="69228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916440" y="4394160"/>
            <a:ext cx="1317600" cy="689040"/>
            <a:chOff x="3916440" y="4394160"/>
            <a:chExt cx="1317600" cy="689040"/>
          </a:xfrm>
        </p:grpSpPr>
        <p:grpSp>
          <p:nvGrpSpPr>
            <p:cNvPr id="79" name=""/>
            <p:cNvGrpSpPr/>
            <p:nvPr/>
          </p:nvGrpSpPr>
          <p:grpSpPr>
            <a:xfrm>
              <a:off x="3916440" y="4394160"/>
              <a:ext cx="1317600" cy="689040"/>
              <a:chOff x="3916440" y="4394160"/>
              <a:chExt cx="1317600" cy="689040"/>
            </a:xfrm>
          </p:grpSpPr>
          <p:sp>
            <p:nvSpPr>
              <p:cNvPr id="80" name=""/>
              <p:cNvSpPr/>
              <p:nvPr/>
            </p:nvSpPr>
            <p:spPr>
              <a:xfrm>
                <a:off x="3929040" y="4394160"/>
                <a:ext cx="1292400" cy="154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929040" y="4929120"/>
                <a:ext cx="1292400" cy="154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916440" y="4471920"/>
                <a:ext cx="0" cy="534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234040" y="4471920"/>
                <a:ext cx="0" cy="534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4232160" y="4500720"/>
              <a:ext cx="636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488960" y="4167360"/>
            <a:ext cx="2981520" cy="0"/>
          </a:xfrm>
          <a:prstGeom prst="line">
            <a:avLst/>
          </a:prstGeom>
          <a:ln w="12600">
            <a:solidFill>
              <a:srgbClr val="b76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10240" y="3790800"/>
            <a:ext cx="183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60f9"/>
                </a:solidFill>
                <a:latin typeface="Book Antiqua"/>
              </a:rPr>
              <a:t>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02320" y="4289400"/>
            <a:ext cx="69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60f9"/>
                </a:solidFill>
                <a:latin typeface="Book Antiqua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54040" y="2270160"/>
            <a:ext cx="1041480" cy="301680"/>
          </a:xfrm>
          <a:custGeom>
            <a:avLst/>
            <a:gdLst/>
            <a:ahLst/>
            <a:rect l="l" t="t" r="r" b="b"/>
            <a:pathLst>
              <a:path w="656" h="190">
                <a:moveTo>
                  <a:pt x="0" y="189"/>
                </a:moveTo>
                <a:lnTo>
                  <a:pt x="3" y="155"/>
                </a:lnTo>
                <a:lnTo>
                  <a:pt x="16" y="135"/>
                </a:lnTo>
                <a:lnTo>
                  <a:pt x="23" y="114"/>
                </a:lnTo>
                <a:lnTo>
                  <a:pt x="50" y="81"/>
                </a:lnTo>
                <a:lnTo>
                  <a:pt x="71" y="54"/>
                </a:lnTo>
                <a:lnTo>
                  <a:pt x="98" y="33"/>
                </a:lnTo>
                <a:lnTo>
                  <a:pt x="126" y="6"/>
                </a:lnTo>
                <a:lnTo>
                  <a:pt x="146" y="0"/>
                </a:lnTo>
                <a:lnTo>
                  <a:pt x="166" y="0"/>
                </a:lnTo>
                <a:lnTo>
                  <a:pt x="186" y="6"/>
                </a:lnTo>
                <a:lnTo>
                  <a:pt x="207" y="20"/>
                </a:lnTo>
                <a:lnTo>
                  <a:pt x="227" y="33"/>
                </a:lnTo>
                <a:lnTo>
                  <a:pt x="248" y="54"/>
                </a:lnTo>
                <a:lnTo>
                  <a:pt x="268" y="68"/>
                </a:lnTo>
                <a:lnTo>
                  <a:pt x="289" y="87"/>
                </a:lnTo>
                <a:lnTo>
                  <a:pt x="317" y="101"/>
                </a:lnTo>
                <a:lnTo>
                  <a:pt x="344" y="114"/>
                </a:lnTo>
                <a:lnTo>
                  <a:pt x="364" y="114"/>
                </a:lnTo>
                <a:lnTo>
                  <a:pt x="391" y="114"/>
                </a:lnTo>
                <a:lnTo>
                  <a:pt x="412" y="114"/>
                </a:lnTo>
                <a:lnTo>
                  <a:pt x="439" y="114"/>
                </a:lnTo>
                <a:lnTo>
                  <a:pt x="467" y="114"/>
                </a:lnTo>
                <a:lnTo>
                  <a:pt x="494" y="108"/>
                </a:lnTo>
                <a:lnTo>
                  <a:pt x="514" y="101"/>
                </a:lnTo>
                <a:lnTo>
                  <a:pt x="549" y="95"/>
                </a:lnTo>
                <a:lnTo>
                  <a:pt x="576" y="81"/>
                </a:lnTo>
                <a:lnTo>
                  <a:pt x="596" y="68"/>
                </a:lnTo>
                <a:lnTo>
                  <a:pt x="617" y="54"/>
                </a:lnTo>
                <a:lnTo>
                  <a:pt x="637" y="41"/>
                </a:lnTo>
                <a:lnTo>
                  <a:pt x="655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05920" y="2548080"/>
            <a:ext cx="121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disk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97040" y="2967120"/>
            <a:ext cx="1039680" cy="299880"/>
          </a:xfrm>
          <a:custGeom>
            <a:avLst/>
            <a:gdLst/>
            <a:ahLst/>
            <a:rect l="l" t="t" r="r" b="b"/>
            <a:pathLst>
              <a:path w="655" h="189">
                <a:moveTo>
                  <a:pt x="0" y="188"/>
                </a:moveTo>
                <a:lnTo>
                  <a:pt x="3" y="154"/>
                </a:lnTo>
                <a:lnTo>
                  <a:pt x="16" y="134"/>
                </a:lnTo>
                <a:lnTo>
                  <a:pt x="23" y="114"/>
                </a:lnTo>
                <a:lnTo>
                  <a:pt x="50" y="81"/>
                </a:lnTo>
                <a:lnTo>
                  <a:pt x="71" y="54"/>
                </a:lnTo>
                <a:lnTo>
                  <a:pt x="98" y="33"/>
                </a:lnTo>
                <a:lnTo>
                  <a:pt x="125" y="6"/>
                </a:lnTo>
                <a:lnTo>
                  <a:pt x="145" y="0"/>
                </a:lnTo>
                <a:lnTo>
                  <a:pt x="166" y="0"/>
                </a:lnTo>
                <a:lnTo>
                  <a:pt x="186" y="6"/>
                </a:lnTo>
                <a:lnTo>
                  <a:pt x="207" y="20"/>
                </a:lnTo>
                <a:lnTo>
                  <a:pt x="227" y="33"/>
                </a:lnTo>
                <a:lnTo>
                  <a:pt x="248" y="54"/>
                </a:lnTo>
                <a:lnTo>
                  <a:pt x="268" y="67"/>
                </a:lnTo>
                <a:lnTo>
                  <a:pt x="289" y="87"/>
                </a:lnTo>
                <a:lnTo>
                  <a:pt x="316" y="100"/>
                </a:lnTo>
                <a:lnTo>
                  <a:pt x="343" y="114"/>
                </a:lnTo>
                <a:lnTo>
                  <a:pt x="363" y="114"/>
                </a:lnTo>
                <a:lnTo>
                  <a:pt x="391" y="114"/>
                </a:lnTo>
                <a:lnTo>
                  <a:pt x="411" y="114"/>
                </a:lnTo>
                <a:lnTo>
                  <a:pt x="439" y="114"/>
                </a:lnTo>
                <a:lnTo>
                  <a:pt x="466" y="114"/>
                </a:lnTo>
                <a:lnTo>
                  <a:pt x="493" y="107"/>
                </a:lnTo>
                <a:lnTo>
                  <a:pt x="513" y="100"/>
                </a:lnTo>
                <a:lnTo>
                  <a:pt x="548" y="94"/>
                </a:lnTo>
                <a:lnTo>
                  <a:pt x="575" y="81"/>
                </a:lnTo>
                <a:lnTo>
                  <a:pt x="595" y="67"/>
                </a:lnTo>
                <a:lnTo>
                  <a:pt x="616" y="54"/>
                </a:lnTo>
                <a:lnTo>
                  <a:pt x="636" y="40"/>
                </a:lnTo>
                <a:lnTo>
                  <a:pt x="654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61720" y="3241800"/>
            <a:ext cx="132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free 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10160" y="1477800"/>
            <a:ext cx="0" cy="549360"/>
          </a:xfrm>
          <a:prstGeom prst="line">
            <a:avLst/>
          </a:prstGeom>
          <a:ln w="255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98000" y="1038240"/>
            <a:ext cx="5095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Page Requests from Higher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42960" y="1798560"/>
            <a:ext cx="168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BUFFER P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62440" y="4105440"/>
            <a:ext cx="1022400" cy="153720"/>
          </a:xfrm>
          <a:custGeom>
            <a:avLst/>
            <a:gdLst/>
            <a:ahLst/>
            <a:rect l="l" t="t" r="r" b="b"/>
            <a:pathLst>
              <a:path w="644" h="97">
                <a:moveTo>
                  <a:pt x="643" y="96"/>
                </a:moveTo>
                <a:lnTo>
                  <a:pt x="640" y="79"/>
                </a:lnTo>
                <a:lnTo>
                  <a:pt x="627" y="69"/>
                </a:lnTo>
                <a:lnTo>
                  <a:pt x="621" y="58"/>
                </a:lnTo>
                <a:lnTo>
                  <a:pt x="594" y="41"/>
                </a:lnTo>
                <a:lnTo>
                  <a:pt x="573" y="27"/>
                </a:lnTo>
                <a:lnTo>
                  <a:pt x="547" y="17"/>
                </a:lnTo>
                <a:lnTo>
                  <a:pt x="520" y="3"/>
                </a:lnTo>
                <a:lnTo>
                  <a:pt x="500" y="0"/>
                </a:lnTo>
                <a:lnTo>
                  <a:pt x="480" y="0"/>
                </a:lnTo>
                <a:lnTo>
                  <a:pt x="460" y="3"/>
                </a:lnTo>
                <a:lnTo>
                  <a:pt x="439" y="10"/>
                </a:lnTo>
                <a:lnTo>
                  <a:pt x="420" y="17"/>
                </a:lnTo>
                <a:lnTo>
                  <a:pt x="399" y="27"/>
                </a:lnTo>
                <a:lnTo>
                  <a:pt x="380" y="34"/>
                </a:lnTo>
                <a:lnTo>
                  <a:pt x="359" y="44"/>
                </a:lnTo>
                <a:lnTo>
                  <a:pt x="332" y="51"/>
                </a:lnTo>
                <a:lnTo>
                  <a:pt x="305" y="58"/>
                </a:lnTo>
                <a:lnTo>
                  <a:pt x="286" y="58"/>
                </a:lnTo>
                <a:lnTo>
                  <a:pt x="259" y="58"/>
                </a:lnTo>
                <a:lnTo>
                  <a:pt x="238" y="58"/>
                </a:lnTo>
                <a:lnTo>
                  <a:pt x="212" y="58"/>
                </a:lnTo>
                <a:lnTo>
                  <a:pt x="185" y="58"/>
                </a:lnTo>
                <a:lnTo>
                  <a:pt x="158" y="55"/>
                </a:lnTo>
                <a:lnTo>
                  <a:pt x="138" y="51"/>
                </a:lnTo>
                <a:lnTo>
                  <a:pt x="104" y="48"/>
                </a:lnTo>
                <a:lnTo>
                  <a:pt x="78" y="41"/>
                </a:lnTo>
                <a:lnTo>
                  <a:pt x="58" y="34"/>
                </a:lnTo>
                <a:lnTo>
                  <a:pt x="38" y="27"/>
                </a:lnTo>
                <a:lnTo>
                  <a:pt x="18" y="21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93440" y="4343400"/>
            <a:ext cx="2786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choice of frame dict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by </a:t>
            </a: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replacement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10160" y="3840120"/>
            <a:ext cx="0" cy="549360"/>
          </a:xfrm>
          <a:prstGeom prst="line">
            <a:avLst/>
          </a:prstGeom>
          <a:ln w="255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8D75-8842-4DAE-A25F-3BFC290FE33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0480" y="1828800"/>
            <a:ext cx="8701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anages buffer pool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the pool provides space for a limi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pages from d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s to decide on page replacement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ck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the higher levels of the DBMS to assume that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data is in main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87BE-7E31-4BA3-AFAB-85EA5CE76C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6880" y="1600200"/>
            <a:ext cx="7239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Why not use the Operating System for the task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BMS may be able to anticipat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ccess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Hence, may also be able to perform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efe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BMS needs the ability to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o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es to d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17AD-77A6-4037-8C69-554DA30F7A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tiary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pes or optical di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emely slow: used for long term archiving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4E02-2047-4298-B45D-5C12DFC0D8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uw</cp:lastModifiedBy>
  <dcterms:modified xsi:type="dcterms:W3CDTF">2002-11-06T03:45:56Z</dcterms:modified>
  <cp:revision>226</cp:revision>
  <dc:subject/>
  <dc:title>Lecture 09:</dc:title>
</cp:coreProperties>
</file>