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DEE-2B79-4D8A-AE96-A09DD32B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1E9A-9D41-4243-AAAA-8BB78C59A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F8F1-62C4-4766-8973-CC586309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94A9-4D0B-4E17-9C9B-EC10542A2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637-E375-4BFE-9795-1978B315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42F-F648-479F-95B3-A321386E4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3628-8A99-4AF2-8585-AF126AAE6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097D-0F19-4563-A79A-4D16EB05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359-8AE2-4319-8077-6631C00A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09C-301E-416B-A8F4-0B41A326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339-C3DF-4A12-9A94-D9E5324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EC3-717B-47CE-BDC5-73EA385B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C6F-052C-4139-A0F6-D788FC7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5A8-3ED1-4368-8EC9-14F074CF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012-D87D-4360-ADCC-DCF77E7D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E11-7294-47A6-B0B7-24D720D3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4A4-913D-4E20-8D23-33A533A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162-7E82-4399-B04D-4725E9C0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D1A-3583-48E0-ABDC-BFE6E3E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989-6861-4F3C-93FB-A66B85F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B58-63FE-47EB-9092-105D479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9AD-720B-4116-805A-E5F2695A3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B3D-CCAF-41F8-A01D-B860EE2143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08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11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22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26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46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149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53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55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5FF-840A-4850-B74F-CD723D09F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1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D01-5593-4A51-96A4-D623EFB65A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0E6-0339-4FA8-BAF2-634D24521E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 algorithms we care about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cost is given only by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illustrate here with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376-302B-4530-BF11-A8613D6E49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ustrates the difference in algorithm design when your data is not in ma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Gb of data with 1M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ises in many places in database syste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B16-89B8-4A9B-B402-E65287A733F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buffer pag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197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200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212-E665-4B0C-9F41-D0C4FB8D27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: start with larger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1GB with 1MB memory in 10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14400" y="3200400"/>
                <a:ext cx="2590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14400" y="4191120"/>
                <a:ext cx="27669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932960" y="140184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3680" y="191448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33680" y="251316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35120" y="354024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0800" y="533700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9800" y="16606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9800" y="217332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9800" y="294336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51240" y="42274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3720" y="627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04720" y="14144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1280" y="14018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4756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384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0012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640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2520" y="1401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95000" y="1928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0012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128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4756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3320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66680" y="19144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1360" y="1914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3600" y="2451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2697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5520" y="2397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7616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58960" y="2417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780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9320" y="2664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9240" y="3208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1104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204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11040" y="3989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1760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176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96800" y="3957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63600" y="47480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63600" y="49957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63600" y="5251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63600" y="5519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63600" y="5765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3600" y="6021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CBC-C9A6-41B2-80BE-0C57A03903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more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use it to 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315-AFF7-4DCB-A362-6BEC9ADEA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13A-6EBA-40D8-B494-D14148379F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/R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49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52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817-222E-4EB6-BDBA-AE5B03D018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ory hierarchy –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 –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–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6B7-EF8F-443B-B564-D78CB861DA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80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83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A32-684D-435D-8918-E7A7E8FDF7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have now M/R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420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423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32F-6DD7-4A63-B4FE-13ED5BAB7A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diffe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 = 4KB,  M = 64MB, R = 0.1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:  runs of length M/R = 64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6400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,240,000,000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3:  runs increase by a factor of M/B – 1 = 1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w sorted runs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has so much dat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724280" y="1371600"/>
                <a:ext cx="3560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73F-A282-4C08-9C57-605E85F87F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431-30E1-4C2A-B9C8-EE9BDCAC1F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7080" y="25146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00 nano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0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E39-1F04-4371-A431-BA575FED3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512M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, DataBl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stor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CF0-2C59-4C78-A9FF-2CF98DB0FB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0CE-21F5-47A6-A07E-983856894A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67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79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80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02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5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172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800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296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344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BE2-871F-48F8-B75B-F0E459E216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48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588-980D-4D1B-A68C-E6CC22A21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880" y="1600200"/>
            <a:ext cx="723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A00-5195-41D9-89F4-3431B075FF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52B-8B2E-41FF-A118-09288A4C8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06T03:45:56Z</dcterms:modified>
  <cp:revision>226</cp:revision>
  <dc:subject/>
  <dc:title>Lecture 09:</dc:title>
</cp:coreProperties>
</file>