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586-810A-490E-B787-2BA7F388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0C9-DE44-4A0C-81FB-4C2401A1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BE5-82E9-4D02-8D68-06CF58B8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0F8-7766-4D90-AD1F-833671ED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A2E-EAE8-466B-8AC7-95ADAD6E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C66-148B-422B-B3A6-0B585C52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BEE-140D-4DF3-8AC5-D35EDE0E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E3E-6C9B-46C8-A7DE-E2CCA7E3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94B-A73B-467D-AB43-A28FD7E8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BCC-0DC9-4558-954C-0A1CE85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579-61A0-4A28-A2E8-111889F7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86B-803E-4246-9779-6180A4CD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1A15-7471-4DC9-9DDA-64D013709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&amp; Stor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3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CD5-E6BA-4A24-A07E-8123B90620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08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408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124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3000" y="4537080"/>
            <a:ext cx="7800840" cy="1972800"/>
            <a:chOff x="63000" y="4537080"/>
            <a:chExt cx="7800840" cy="1972800"/>
          </a:xfrm>
        </p:grpSpPr>
        <p:sp>
          <p:nvSpPr>
            <p:cNvPr id="85" name=""/>
            <p:cNvSpPr/>
            <p:nvPr/>
          </p:nvSpPr>
          <p:spPr>
            <a:xfrm>
              <a:off x="30240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129000" y="3733920"/>
            <a:ext cx="2621160" cy="1692360"/>
          </a:xfrm>
          <a:prstGeom prst="wedgeEllipseCallout">
            <a:avLst>
              <a:gd name="adj1" fmla="val -128824"/>
              <a:gd name="adj2" fmla="val -638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kRo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4C4-848B-452C-8137-1903D0F975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411-3887-4FC0-B97D-32143CE16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ten the XML data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SOA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d directly into the application (DOM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XML data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tore/process it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D8F-EBB3-4536-A3A6-8544CE9892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826-16AE-46A8-BC6C-43648E15ED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27A-2863-4E32-B6D0-4D3085409F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1040" y="1727280"/>
            <a:ext cx="476064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8480" y="4163400"/>
            <a:ext cx="1443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65720" y="501444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2160" y="501444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9120" y="595728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1120" y="595728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91440" y="595584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37600" y="595584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04600" y="595584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7600" y="595584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5960" y="595584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1360" y="595584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0" idx="3"/>
            <a:endCxn id="101" idx="0"/>
          </p:cNvCxnSpPr>
          <p:nvPr/>
        </p:nvCxnSpPr>
        <p:spPr>
          <a:xfrm flipH="1">
            <a:off x="3123720" y="459720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0" idx="5"/>
            <a:endCxn id="102" idx="0"/>
          </p:cNvCxnSpPr>
          <p:nvPr/>
        </p:nvCxnSpPr>
        <p:spPr>
          <a:xfrm>
            <a:off x="4798800" y="459720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03" idx="0"/>
          </p:cNvCxnSpPr>
          <p:nvPr/>
        </p:nvCxnSpPr>
        <p:spPr>
          <a:xfrm flipH="1">
            <a:off x="582120" y="5275080"/>
            <a:ext cx="2013840" cy="69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1" idx="3"/>
            <a:endCxn id="104" idx="0"/>
          </p:cNvCxnSpPr>
          <p:nvPr/>
        </p:nvCxnSpPr>
        <p:spPr>
          <a:xfrm flipH="1">
            <a:off x="1339560" y="544788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1" idx="4"/>
            <a:endCxn id="105" idx="0"/>
          </p:cNvCxnSpPr>
          <p:nvPr/>
        </p:nvCxnSpPr>
        <p:spPr>
          <a:xfrm flipH="1">
            <a:off x="2396520" y="551988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1" idx="5"/>
            <a:endCxn id="106" idx="0"/>
          </p:cNvCxnSpPr>
          <p:nvPr/>
        </p:nvCxnSpPr>
        <p:spPr>
          <a:xfrm flipH="1">
            <a:off x="3460320" y="5447880"/>
            <a:ext cx="3744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2" idx="2"/>
            <a:endCxn id="104" idx="7"/>
          </p:cNvCxnSpPr>
          <p:nvPr/>
        </p:nvCxnSpPr>
        <p:spPr>
          <a:xfrm flipH="1">
            <a:off x="1655280" y="5275440"/>
            <a:ext cx="269640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2" idx="3"/>
            <a:endCxn id="107" idx="0"/>
          </p:cNvCxnSpPr>
          <p:nvPr/>
        </p:nvCxnSpPr>
        <p:spPr>
          <a:xfrm>
            <a:off x="4524120" y="544788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2" idx="4"/>
            <a:endCxn id="108" idx="0"/>
          </p:cNvCxnSpPr>
          <p:nvPr/>
        </p:nvCxnSpPr>
        <p:spPr>
          <a:xfrm>
            <a:off x="4943160" y="551988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2" idx="5"/>
            <a:endCxn id="109" idx="0"/>
          </p:cNvCxnSpPr>
          <p:nvPr/>
        </p:nvCxnSpPr>
        <p:spPr>
          <a:xfrm>
            <a:off x="5362560" y="544788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2" idx="6"/>
            <a:endCxn id="110" idx="0"/>
          </p:cNvCxnSpPr>
          <p:nvPr/>
        </p:nvCxnSpPr>
        <p:spPr>
          <a:xfrm>
            <a:off x="5535720" y="5275080"/>
            <a:ext cx="198648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18636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9932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71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7120" y="3352680"/>
            <a:ext cx="2075760" cy="1172520"/>
          </a:xfrm>
          <a:prstGeom prst="wedgeEllipseCallout">
            <a:avLst>
              <a:gd name="adj1" fmla="val 42662"/>
              <a:gd name="adj2" fmla="val 517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gn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880-6231-4A10-964D-6A269F18F4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3"/>
            <a:endCxn id="129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8" idx="5"/>
            <a:endCxn id="130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9" idx="2"/>
            <a:endCxn id="131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9" idx="3"/>
            <a:endCxn id="132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9" idx="4"/>
            <a:endCxn id="133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9" idx="5"/>
            <a:endCxn id="134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2"/>
            <a:endCxn id="132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3"/>
            <a:endCxn id="135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4"/>
            <a:endCxn id="136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0" idx="5"/>
            <a:endCxn id="137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0" idx="6"/>
            <a:endCxn id="138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0400" y="6213600"/>
            <a:ext cx="42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08A-AC94-49D2-8A40-5A88BABB4C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11D-F2A9-4ACD-9F0E-1A383C92B3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don’t have a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tore the XML da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edges in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#PCDATA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CA3-8700-4F9B-953F-9B91635588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278160" y="1219320"/>
            <a:ext cx="5679720" cy="2472480"/>
            <a:chOff x="3278160" y="1219320"/>
            <a:chExt cx="5679720" cy="2472480"/>
          </a:xfrm>
        </p:grpSpPr>
        <p:grpSp>
          <p:nvGrpSpPr>
            <p:cNvPr id="164" name=""/>
            <p:cNvGrpSpPr/>
            <p:nvPr/>
          </p:nvGrpSpPr>
          <p:grpSpPr>
            <a:xfrm>
              <a:off x="3278160" y="1549440"/>
              <a:ext cx="5679720" cy="2142360"/>
              <a:chOff x="3278160" y="1549440"/>
              <a:chExt cx="5679720" cy="214236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3345120" y="1649520"/>
                <a:ext cx="5545800" cy="2042280"/>
                <a:chOff x="3345120" y="1649520"/>
                <a:chExt cx="5545800" cy="204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83308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88312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7684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33872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18580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8248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729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476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22420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4280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99104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936400" y="32932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82760" y="32932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2912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52444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13188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381360" y="1848600"/>
                  <a:ext cx="11955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3816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548424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23196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38136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772596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97508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5452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746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6772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2488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611496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640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920" y="1219320"/>
            <a:ext cx="3000240" cy="1432800"/>
          </a:xfrm>
          <a:prstGeom prst="wedgeEllipseCallout">
            <a:avLst>
              <a:gd name="adj1" fmla="val 65185"/>
              <a:gd name="adj2" fmla="val 26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’t know 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96E-8A97-4D34-A124-AA080EF204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2D3-6BAB-4413-BC95-5D4CC062AC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36188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30400" y="4252320"/>
            <a:ext cx="578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94320" y="5014440"/>
            <a:ext cx="9014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98560" y="5591160"/>
            <a:ext cx="10828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54960" y="5623920"/>
            <a:ext cx="7621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6" idx="4"/>
            <a:endCxn id="217" idx="0"/>
          </p:cNvCxnSpPr>
          <p:nvPr/>
        </p:nvCxnSpPr>
        <p:spPr>
          <a:xfrm>
            <a:off x="4119120" y="4757760"/>
            <a:ext cx="2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7" idx="3"/>
            <a:endCxn id="218" idx="7"/>
          </p:cNvCxnSpPr>
          <p:nvPr/>
        </p:nvCxnSpPr>
        <p:spPr>
          <a:xfrm flipH="1">
            <a:off x="3601440" y="5447880"/>
            <a:ext cx="246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7" idx="5"/>
            <a:endCxn id="219" idx="1"/>
          </p:cNvCxnSpPr>
          <p:nvPr/>
        </p:nvCxnSpPr>
        <p:spPr>
          <a:xfrm>
            <a:off x="4441320" y="5448240"/>
            <a:ext cx="5464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2589840" y="60958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mberli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99520" y="60958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endCxn id="216" idx="0"/>
          </p:cNvCxnSpPr>
          <p:nvPr/>
        </p:nvCxnSpPr>
        <p:spPr>
          <a:xfrm>
            <a:off x="4114440" y="3962520"/>
            <a:ext cx="54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6" name=""/>
          <p:cNvGrpSpPr/>
          <p:nvPr/>
        </p:nvGrpSpPr>
        <p:grpSpPr>
          <a:xfrm>
            <a:off x="2821320" y="3962520"/>
            <a:ext cx="2809440" cy="2743920"/>
            <a:chOff x="2821320" y="3962520"/>
            <a:chExt cx="2809440" cy="2743920"/>
          </a:xfrm>
        </p:grpSpPr>
        <p:sp>
          <p:nvSpPr>
            <p:cNvPr id="227" name=""/>
            <p:cNvSpPr/>
            <p:nvPr/>
          </p:nvSpPr>
          <p:spPr>
            <a:xfrm>
              <a:off x="4344480" y="3962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6400" y="464832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21320" y="51814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27880" y="5181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7640" y="6369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32440" y="6324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rot="16200000">
            <a:off x="647676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46A-7EAF-4F4F-AB9D-A87688A339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6040" y="3352680"/>
            <a:ext cx="8515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  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= 0                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db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book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author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title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 = ‘Chamberli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80680" y="1828800"/>
            <a:ext cx="3087000" cy="652680"/>
          </a:xfrm>
          <a:prstGeom prst="wedgeEllipseCallout">
            <a:avLst>
              <a:gd name="adj1" fmla="val -27601"/>
              <a:gd name="adj2" fmla="val 179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way joi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82C-70C0-43C1-AE09-D32E18783B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(Source, Tag, D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(Source, 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B27-FE81-4128-939D-689A34CDCA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1EC-D592-4D40-8605-2A3877A512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on XML Data Management at U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languages (XML-QL, a precursor of XQue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kw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publishing/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k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Compressor: Xm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Toolkit (xsort, xagg, xgrep, xtransf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 con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759-A751-4338-B022-AE0D67952F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ok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pen notebooks, lecture notes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 (algebra, FDs, norm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3F7-26EB-48B5-926E-2032EE7A1D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/project/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ell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nested queries when a GROUP BY su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ifficult ones are with ANY, and NO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, table creations,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EAB-0D8B-4A0B-8611-F2466174B4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/many v.s. many/man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 no table for one/man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667-1EFA-4549-B2BF-F806E5E278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Rel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semijo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’s: make sure you can compute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ind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forms: BCNF, 3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CFB-F560-4D1A-8491-CBBAE11798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syntax: elements +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s: element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XML view of a relation (&lt;row&gt;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to publish XML from rela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store XM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23A-0C1F-4C05-A941-A0763BE72C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9D2-A24B-4B41-B0F1-FF5932CE8F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read the book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question(s) may be hard(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first the questions that are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should not be very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035-70A7-417B-92A7-6FB53AA2A1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5280" y="3607560"/>
            <a:ext cx="2031120" cy="11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7000" y="3743280"/>
            <a:ext cx="1469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8" idx="6"/>
            <a:endCxn id="51" idx="1"/>
          </p:cNvCxnSpPr>
          <p:nvPr/>
        </p:nvCxnSpPr>
        <p:spPr>
          <a:xfrm flipV="1">
            <a:off x="1960560" y="4155480"/>
            <a:ext cx="4024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1" idx="3"/>
            <a:endCxn id="49" idx="2"/>
          </p:cNvCxnSpPr>
          <p:nvPr/>
        </p:nvCxnSpPr>
        <p:spPr>
          <a:xfrm flipV="1">
            <a:off x="3841920" y="4114440"/>
            <a:ext cx="28162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107000" y="22096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9" idx="3"/>
            <a:endCxn id="51" idx="3"/>
          </p:cNvCxnSpPr>
          <p:nvPr/>
        </p:nvCxnSpPr>
        <p:spPr>
          <a:xfrm flipV="1" rot="16200000">
            <a:off x="5323320" y="2674080"/>
            <a:ext cx="178200" cy="3142080"/>
          </a:xfrm>
          <a:prstGeom prst="curvedConnector5">
            <a:avLst>
              <a:gd name="adj1" fmla="val -179757"/>
              <a:gd name="adj2" fmla="val 44860"/>
              <a:gd name="adj3" fmla="val -1797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1"/>
            <a:endCxn id="48" idx="5"/>
          </p:cNvCxnSpPr>
          <p:nvPr/>
        </p:nvCxnSpPr>
        <p:spPr>
          <a:xfrm flipV="1" rot="10800000">
            <a:off x="1672560" y="4155840"/>
            <a:ext cx="689760" cy="437040"/>
          </a:xfrm>
          <a:prstGeom prst="curvedConnector5">
            <a:avLst>
              <a:gd name="adj1" fmla="val 28981"/>
              <a:gd name="adj2" fmla="val 95218"/>
              <a:gd name="adj3" fmla="val 28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17320" y="55627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185-D279-41CF-8895-A2CB5E8C27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asy: we do this for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ng XQue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QL is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publishing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: Xperanto (IBM/DB2), SilkRoute (AT&amp;T Labs and U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: SQL Server, Or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Xpa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 and with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E82-C5EC-496D-A96C-B09AF236D3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3520" y="164160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follow SilkRoute, more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1C7-D559-4878-8871-BFDEE5B01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15C-0509-4926-BF4F-24C1900D9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33F-EE9E-4267-9A8D-554A341F11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71C-4EA4-4FF1-AFC2-8C02B680E6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30T01:37:21Z</dcterms:modified>
  <cp:revision>213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81390649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4</vt:lpwstr>
  </property>
</Properties>
</file>