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A20-8296-430B-B332-6E248D16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9E2-0183-4279-B8C2-ED04E76C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D99-69F2-44E9-84C3-25C1711D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3E2-6A25-45F8-AC1E-6DC0D79B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350-FD60-4FF5-ABA4-34673763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1CB-AA62-4936-B8F6-6FFD3431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7BA-46D9-4B81-9A77-BD85FD70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853-17EC-4809-95AF-AA5152CC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8A2-0EE0-4927-A0A1-87CF7D35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42F-A035-4EFE-8DC5-0F5FC9F7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42E-FD10-42A6-912A-7AE80491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224-D9FC-4481-A5F0-66F353D7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815A-4D82-4781-A46D-147AE21DE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&amp; Stor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30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1E6-8AA7-46F7-A9FD-A49178890A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080" y="17524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find Mary’s grade in Opera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4080" y="2514600"/>
            <a:ext cx="792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=“Operating Systems”]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ary”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41911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1240" y="20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3000" y="4537080"/>
            <a:ext cx="7800840" cy="1972800"/>
            <a:chOff x="63000" y="4537080"/>
            <a:chExt cx="7800840" cy="1972800"/>
          </a:xfrm>
        </p:grpSpPr>
        <p:sp>
          <p:nvSpPr>
            <p:cNvPr id="85" name=""/>
            <p:cNvSpPr/>
            <p:nvPr/>
          </p:nvSpPr>
          <p:spPr>
            <a:xfrm>
              <a:off x="302400" y="4952880"/>
              <a:ext cx="75614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Enroll.grad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Student, Enroll, Cours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Student.name=“Mary” and Course.title=“OS”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and Student.sid = Enroll.sid and Enroll.cid = Course.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000" y="45370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129000" y="3733920"/>
            <a:ext cx="2621160" cy="1692360"/>
          </a:xfrm>
          <a:prstGeom prst="wedgeEllipseCallout">
            <a:avLst>
              <a:gd name="adj1" fmla="val -128824"/>
              <a:gd name="adj2" fmla="val -638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kRo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91B-F2BA-4B57-A7AA-C2ABEE6213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choose the output struc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d by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dictated b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ialects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ata is often nested, irregular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ormal forms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B04-6DD2-4F74-8ABA-F3F3D5DA6F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ten the XML data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 SOAP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d directly into the application (DOM 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XML data is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tore/process it i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ML storag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hoose the schema of the databa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9A7-1950-46D4-99DF-94EA50B58C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rived from DT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XML as a graph: “Edge rel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7C0-3A7A-4FA8-818C-826A43D79A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relational schema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3040" y="3200400"/>
            <a:ext cx="6272280" cy="27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73D-486C-4BFD-9148-46FE2E7507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1040" y="1727280"/>
            <a:ext cx="4760640" cy="21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1600" y="19051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T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8480" y="4163400"/>
            <a:ext cx="1443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65720" y="501444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2160" y="501444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9120" y="595728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1120" y="595728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91440" y="595584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37600" y="595584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04600" y="595584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07600" y="595584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5960" y="595584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1360" y="595584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0" idx="3"/>
            <a:endCxn id="101" idx="0"/>
          </p:cNvCxnSpPr>
          <p:nvPr/>
        </p:nvCxnSpPr>
        <p:spPr>
          <a:xfrm flipH="1">
            <a:off x="3123720" y="459720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0" idx="5"/>
            <a:endCxn id="102" idx="0"/>
          </p:cNvCxnSpPr>
          <p:nvPr/>
        </p:nvCxnSpPr>
        <p:spPr>
          <a:xfrm>
            <a:off x="4798800" y="459720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1" idx="2"/>
            <a:endCxn id="103" idx="0"/>
          </p:cNvCxnSpPr>
          <p:nvPr/>
        </p:nvCxnSpPr>
        <p:spPr>
          <a:xfrm flipH="1">
            <a:off x="582120" y="5275080"/>
            <a:ext cx="2013840" cy="69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1" idx="3"/>
            <a:endCxn id="104" idx="0"/>
          </p:cNvCxnSpPr>
          <p:nvPr/>
        </p:nvCxnSpPr>
        <p:spPr>
          <a:xfrm flipH="1">
            <a:off x="1339560" y="544788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1" idx="4"/>
            <a:endCxn id="105" idx="0"/>
          </p:cNvCxnSpPr>
          <p:nvPr/>
        </p:nvCxnSpPr>
        <p:spPr>
          <a:xfrm flipH="1">
            <a:off x="2396520" y="551988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1" idx="5"/>
            <a:endCxn id="106" idx="0"/>
          </p:cNvCxnSpPr>
          <p:nvPr/>
        </p:nvCxnSpPr>
        <p:spPr>
          <a:xfrm flipH="1">
            <a:off x="3460320" y="5447880"/>
            <a:ext cx="3744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2" idx="2"/>
            <a:endCxn id="104" idx="7"/>
          </p:cNvCxnSpPr>
          <p:nvPr/>
        </p:nvCxnSpPr>
        <p:spPr>
          <a:xfrm flipH="1">
            <a:off x="1655280" y="5275440"/>
            <a:ext cx="2696400" cy="76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2" idx="3"/>
            <a:endCxn id="107" idx="0"/>
          </p:cNvCxnSpPr>
          <p:nvPr/>
        </p:nvCxnSpPr>
        <p:spPr>
          <a:xfrm>
            <a:off x="4524120" y="544788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2" idx="4"/>
            <a:endCxn id="108" idx="0"/>
          </p:cNvCxnSpPr>
          <p:nvPr/>
        </p:nvCxnSpPr>
        <p:spPr>
          <a:xfrm>
            <a:off x="4943160" y="551988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2" idx="5"/>
            <a:endCxn id="109" idx="0"/>
          </p:cNvCxnSpPr>
          <p:nvPr/>
        </p:nvCxnSpPr>
        <p:spPr>
          <a:xfrm>
            <a:off x="5362560" y="544788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2" idx="6"/>
            <a:endCxn id="110" idx="0"/>
          </p:cNvCxnSpPr>
          <p:nvPr/>
        </p:nvCxnSpPr>
        <p:spPr>
          <a:xfrm>
            <a:off x="5535720" y="5275080"/>
            <a:ext cx="198648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318636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9932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71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7120" y="3352680"/>
            <a:ext cx="2075760" cy="1172520"/>
          </a:xfrm>
          <a:prstGeom prst="wedgeEllipseCallout">
            <a:avLst>
              <a:gd name="adj1" fmla="val 42662"/>
              <a:gd name="adj2" fmla="val 517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gn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6F3-14E7-4FAF-B4AD-D6EDD9287D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160" y="190512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design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schem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mon s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1966320"/>
            <a:ext cx="1442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03800" y="281736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60240" y="281736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7200" y="376020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9560" y="376020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29880" y="375876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76040" y="375876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42320" y="375876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46040" y="375876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64760" y="375876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9440" y="375876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8" idx="3"/>
            <a:endCxn id="129" idx="0"/>
          </p:cNvCxnSpPr>
          <p:nvPr/>
        </p:nvCxnSpPr>
        <p:spPr>
          <a:xfrm flipH="1">
            <a:off x="3962160" y="240012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8" idx="5"/>
            <a:endCxn id="130" idx="0"/>
          </p:cNvCxnSpPr>
          <p:nvPr/>
        </p:nvCxnSpPr>
        <p:spPr>
          <a:xfrm>
            <a:off x="5636880" y="240012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9" idx="2"/>
            <a:endCxn id="131" idx="0"/>
          </p:cNvCxnSpPr>
          <p:nvPr/>
        </p:nvCxnSpPr>
        <p:spPr>
          <a:xfrm flipH="1">
            <a:off x="1420200" y="3078000"/>
            <a:ext cx="201348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29" idx="3"/>
            <a:endCxn id="132" idx="0"/>
          </p:cNvCxnSpPr>
          <p:nvPr/>
        </p:nvCxnSpPr>
        <p:spPr>
          <a:xfrm flipH="1">
            <a:off x="2177640" y="325080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29" idx="4"/>
            <a:endCxn id="133" idx="0"/>
          </p:cNvCxnSpPr>
          <p:nvPr/>
        </p:nvCxnSpPr>
        <p:spPr>
          <a:xfrm flipH="1">
            <a:off x="3235320" y="332280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9" idx="5"/>
            <a:endCxn id="134" idx="0"/>
          </p:cNvCxnSpPr>
          <p:nvPr/>
        </p:nvCxnSpPr>
        <p:spPr>
          <a:xfrm flipH="1">
            <a:off x="4298400" y="3250800"/>
            <a:ext cx="3708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2"/>
            <a:endCxn id="132" idx="7"/>
          </p:cNvCxnSpPr>
          <p:nvPr/>
        </p:nvCxnSpPr>
        <p:spPr>
          <a:xfrm flipH="1">
            <a:off x="2493360" y="3077640"/>
            <a:ext cx="26960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3"/>
            <a:endCxn id="135" idx="0"/>
          </p:cNvCxnSpPr>
          <p:nvPr/>
        </p:nvCxnSpPr>
        <p:spPr>
          <a:xfrm>
            <a:off x="5362200" y="325080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4"/>
            <a:endCxn id="136" idx="0"/>
          </p:cNvCxnSpPr>
          <p:nvPr/>
        </p:nvCxnSpPr>
        <p:spPr>
          <a:xfrm>
            <a:off x="5781240" y="332280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0" idx="5"/>
            <a:endCxn id="137" idx="0"/>
          </p:cNvCxnSpPr>
          <p:nvPr/>
        </p:nvCxnSpPr>
        <p:spPr>
          <a:xfrm>
            <a:off x="6200280" y="325080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0" idx="6"/>
            <a:endCxn id="138" idx="0"/>
          </p:cNvCxnSpPr>
          <p:nvPr/>
        </p:nvCxnSpPr>
        <p:spPr>
          <a:xfrm>
            <a:off x="6373440" y="3078000"/>
            <a:ext cx="19868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4024440" y="234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374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5200" y="336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45080" y="491796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off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, phon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rice, avail., desc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0400" y="6213600"/>
            <a:ext cx="42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ich attributes may be NUL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D52-CD28-4F50-B92F-6DAFD7BCAF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68360" y="2825640"/>
            <a:ext cx="7601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[descrip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descrip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7880" y="4952880"/>
            <a:ext cx="565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Product.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description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A27-871C-49C8-9AB7-74AE75327C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don’t have a DT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store the XML da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XML instanc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edges in 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#PCDATA in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C04-DE76-4BBD-A63E-3ADA7A4E68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278160" y="1219320"/>
            <a:ext cx="5679720" cy="2472480"/>
            <a:chOff x="3278160" y="1219320"/>
            <a:chExt cx="5679720" cy="2472480"/>
          </a:xfrm>
        </p:grpSpPr>
        <p:grpSp>
          <p:nvGrpSpPr>
            <p:cNvPr id="164" name=""/>
            <p:cNvGrpSpPr/>
            <p:nvPr/>
          </p:nvGrpSpPr>
          <p:grpSpPr>
            <a:xfrm>
              <a:off x="3278160" y="1549440"/>
              <a:ext cx="5679720" cy="2142360"/>
              <a:chOff x="3278160" y="1549440"/>
              <a:chExt cx="5679720" cy="214236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3345120" y="1649520"/>
                <a:ext cx="5545800" cy="2042280"/>
                <a:chOff x="3345120" y="1649520"/>
                <a:chExt cx="5545800" cy="2042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833080" y="16495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d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23900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88312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476840" y="2147400"/>
                  <a:ext cx="69732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publish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4419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33872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18580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8248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729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476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22420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345120" y="3143880"/>
                  <a:ext cx="823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ompl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ui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o DB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42800" y="3242520"/>
                  <a:ext cx="1098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hamberl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991040" y="3242520"/>
                  <a:ext cx="10980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rans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rocessing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936400" y="3293280"/>
                  <a:ext cx="1006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ernste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782760" y="329328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ewcomer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29120" y="3143880"/>
                  <a:ext cx="7322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org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aufma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524440" y="319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A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4786560" y="1848600"/>
                  <a:ext cx="10458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131880" y="1947960"/>
                  <a:ext cx="49680" cy="1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381360" y="1848600"/>
                  <a:ext cx="11955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3889800" y="2396160"/>
                  <a:ext cx="3985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38160" y="2446200"/>
                  <a:ext cx="993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5484240" y="244620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231960" y="2446200"/>
                  <a:ext cx="493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381360" y="239616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7725960" y="2446200"/>
                  <a:ext cx="493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975080" y="2446200"/>
                  <a:ext cx="448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6366960" y="154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03560" y="2045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7816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300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54520" y="21117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9228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8464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746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99120" y="19796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767720" y="263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24880" y="25754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6114960" y="1285200"/>
              <a:ext cx="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6400" y="1219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533520" y="3581280"/>
          <a:ext cx="2514600" cy="30146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429000" y="4800600"/>
          <a:ext cx="2819520" cy="172728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guide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m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518760" y="293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720" y="4267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920" y="1219320"/>
            <a:ext cx="3000240" cy="1432800"/>
          </a:xfrm>
          <a:prstGeom prst="wedgeEllipseCallout">
            <a:avLst>
              <a:gd name="adj1" fmla="val 65185"/>
              <a:gd name="adj2" fmla="val 26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’t know D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48B-B9E4-4824-918D-7B5271B078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824-6D52-4ACC-BA27-F36BB17EBD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5720" y="2847960"/>
            <a:ext cx="743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=“Chamberlin”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136188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30400" y="4252320"/>
            <a:ext cx="578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94320" y="5014440"/>
            <a:ext cx="9014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98560" y="5591160"/>
            <a:ext cx="10828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54960" y="5623920"/>
            <a:ext cx="7621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6" idx="4"/>
            <a:endCxn id="217" idx="0"/>
          </p:cNvCxnSpPr>
          <p:nvPr/>
        </p:nvCxnSpPr>
        <p:spPr>
          <a:xfrm>
            <a:off x="4119120" y="4757760"/>
            <a:ext cx="262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7" idx="3"/>
            <a:endCxn id="218" idx="7"/>
          </p:cNvCxnSpPr>
          <p:nvPr/>
        </p:nvCxnSpPr>
        <p:spPr>
          <a:xfrm flipH="1">
            <a:off x="3601440" y="5447880"/>
            <a:ext cx="246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7" idx="5"/>
            <a:endCxn id="219" idx="1"/>
          </p:cNvCxnSpPr>
          <p:nvPr/>
        </p:nvCxnSpPr>
        <p:spPr>
          <a:xfrm>
            <a:off x="4441320" y="5448240"/>
            <a:ext cx="5464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2589840" y="60958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mberli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99520" y="609588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endCxn id="216" idx="0"/>
          </p:cNvCxnSpPr>
          <p:nvPr/>
        </p:nvCxnSpPr>
        <p:spPr>
          <a:xfrm>
            <a:off x="4114440" y="3962520"/>
            <a:ext cx="54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6" name=""/>
          <p:cNvGrpSpPr/>
          <p:nvPr/>
        </p:nvGrpSpPr>
        <p:grpSpPr>
          <a:xfrm>
            <a:off x="2821320" y="3962520"/>
            <a:ext cx="2809440" cy="2743920"/>
            <a:chOff x="2821320" y="3962520"/>
            <a:chExt cx="2809440" cy="2743920"/>
          </a:xfrm>
        </p:grpSpPr>
        <p:sp>
          <p:nvSpPr>
            <p:cNvPr id="227" name=""/>
            <p:cNvSpPr/>
            <p:nvPr/>
          </p:nvSpPr>
          <p:spPr>
            <a:xfrm>
              <a:off x="4344480" y="3962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6400" y="464832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21320" y="518148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27880" y="5181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97640" y="636912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32440" y="6324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rot="16200000">
            <a:off x="647676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1A9-F727-4017-82E9-D62B30D034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4320" y="182880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6040" y="3352680"/>
            <a:ext cx="8515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  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= 0                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db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book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author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title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 = ‘Chamberlin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6800" y="2438280"/>
            <a:ext cx="1521000" cy="5875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80680" y="1828800"/>
            <a:ext cx="3087000" cy="652680"/>
          </a:xfrm>
          <a:prstGeom prst="wedgeEllipseCallout">
            <a:avLst>
              <a:gd name="adj1" fmla="val -27601"/>
              <a:gd name="adj2" fmla="val 179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way joi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5A2-2EBB-4BD3-B8F5-F35CD39FFC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 relation 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relational schema for every XML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(Source, Tag, D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(Source, 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: work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effici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tags multipl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many joins to reconstru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A42-7588-4B91-94B2-6B9F0588DD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612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C9A-9C8B-4372-850F-F0F48554D1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on XML Data Management at U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languages (XML-QL, a precursor of XQue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kw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publishing/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k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Compressor: Xm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Toolkit (xsort, xagg, xgrep, xtransf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 con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399-31C8-4EBF-8512-277A8D1452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book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pen notebooks, lecture notes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 (algebra, FDs, normal for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185-7795-457E-BA84-E844206D93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/project/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well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nested queries when a GROUP BY su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ifficult ones are with ANY, and NOT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, table creations,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831-761B-4E6D-A965-EA4BD2E4A8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/many v.s. many/man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ion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: no table for one/man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0EC-D749-4347-A72D-700102BA27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Relation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semijo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’s: make sure you can compute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ind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forms: BCNF, 3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A1F-EFBA-46D0-8EBB-7AA79E238B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syntax: elements +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s: element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XML view of a relation (&lt;row&gt;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t to publish XML from relation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store XM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3EB-5781-4149-97D5-EB72E83A4A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rom/to Rel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3DC-9552-4D71-BD0D-488E1D4DB8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read the book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question(s) may be hard(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first the questions that are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should not be very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6CA-2CD8-42F5-80D4-0427EC2392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5280" y="3607560"/>
            <a:ext cx="2031120" cy="116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7000" y="3743280"/>
            <a:ext cx="1469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8" idx="6"/>
            <a:endCxn id="51" idx="1"/>
          </p:cNvCxnSpPr>
          <p:nvPr/>
        </p:nvCxnSpPr>
        <p:spPr>
          <a:xfrm flipV="1">
            <a:off x="1960560" y="4155480"/>
            <a:ext cx="4024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1" idx="3"/>
            <a:endCxn id="49" idx="2"/>
          </p:cNvCxnSpPr>
          <p:nvPr/>
        </p:nvCxnSpPr>
        <p:spPr>
          <a:xfrm flipV="1">
            <a:off x="3841920" y="4114440"/>
            <a:ext cx="28162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107000" y="2209680"/>
            <a:ext cx="1584360" cy="1172520"/>
          </a:xfrm>
          <a:prstGeom prst="wedgeEllipseCallout">
            <a:avLst>
              <a:gd name="adj1" fmla="val 15513"/>
              <a:gd name="adj2" fmla="val 9993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0840" y="2133720"/>
            <a:ext cx="1218240" cy="652680"/>
          </a:xfrm>
          <a:prstGeom prst="wedgeEllipseCallout">
            <a:avLst>
              <a:gd name="adj1" fmla="val -24833"/>
              <a:gd name="adj2" fmla="val 214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9" idx="3"/>
            <a:endCxn id="51" idx="3"/>
          </p:cNvCxnSpPr>
          <p:nvPr/>
        </p:nvCxnSpPr>
        <p:spPr>
          <a:xfrm flipV="1" rot="16200000">
            <a:off x="5323320" y="2674080"/>
            <a:ext cx="178200" cy="3142080"/>
          </a:xfrm>
          <a:prstGeom prst="curvedConnector5">
            <a:avLst>
              <a:gd name="adj1" fmla="val -179757"/>
              <a:gd name="adj2" fmla="val 44860"/>
              <a:gd name="adj3" fmla="val -1797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1"/>
            <a:endCxn id="48" idx="5"/>
          </p:cNvCxnSpPr>
          <p:nvPr/>
        </p:nvCxnSpPr>
        <p:spPr>
          <a:xfrm flipV="1" rot="10800000">
            <a:off x="1672560" y="4155840"/>
            <a:ext cx="689760" cy="437040"/>
          </a:xfrm>
          <a:prstGeom prst="curvedConnector5">
            <a:avLst>
              <a:gd name="adj1" fmla="val 28981"/>
              <a:gd name="adj2" fmla="val 95218"/>
              <a:gd name="adj3" fmla="val 28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17320" y="5562720"/>
            <a:ext cx="1072800" cy="652680"/>
          </a:xfrm>
          <a:prstGeom prst="wedgeEllipseCallout">
            <a:avLst>
              <a:gd name="adj1" fmla="val -893"/>
              <a:gd name="adj2" fmla="val -1233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03120" y="5486400"/>
            <a:ext cx="1650960" cy="1172520"/>
          </a:xfrm>
          <a:prstGeom prst="wedgeEllipseCallout">
            <a:avLst>
              <a:gd name="adj1" fmla="val -842"/>
              <a:gd name="adj2" fmla="val -12504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236-CC97-4B34-A16E-12A72D6B18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asy: we do this for 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ing XQue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QL is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publishing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: Xperanto (IBM/DB2), SilkRoute (AT&amp;T Labs and U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: SQL Server, Ora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Xpa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L and with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301-119E-4303-B95A-2D8C2130C6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uden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ur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itle,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, cid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8195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2819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514600"/>
            <a:ext cx="1214280" cy="1214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8191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3520" y="164160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follow SilkRoute, more or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23E-1A05-4C42-9A36-0CE0CE5EAE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99760"/>
            <a:ext cx="5149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Operating System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GH084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8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Databas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EE045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horelin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9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1640" y="498780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11760" y="2133720"/>
            <a:ext cx="191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27E-DCC3-4621-91F3-EE7F73D3EF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6615000" cy="361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040" y="185436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ing to do: design the DT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49B-63BC-4841-8F60-72921E7435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69240" y="1676520"/>
            <a:ext cx="749592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/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nroll/row[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/row[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600" y="533520"/>
            <a:ext cx="745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write an XQuery to export relational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sult is is the right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A5C-875C-49B5-A952-AC8CA7E494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0-30T01:37:21Z</dcterms:modified>
  <cp:revision>213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81390649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14</vt:lpwstr>
  </property>
</Properties>
</file>