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EBC-2B4F-4113-BB6F-C6381577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B16-3274-4FC2-821B-1E494152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52D-4585-4B8D-85C7-3E64D17C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527-E671-4319-9971-A9F79F78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4D4-C609-45C9-8585-EB9387AF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234-F1A4-4DD2-AF34-7A8F248D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821-CD86-4461-84A2-D7EAFE82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DC2-7BF1-426A-9AC0-5E79BB7E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B18-8FF9-42F8-A948-E1E1EF54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EAB-3273-4841-8A10-F0166A8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FD2-15B5-4C90-A4B7-0BC23C02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A9F-171F-48E3-AAB8-A06D10EF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4483-D42B-40FF-90C9-DDF2E2343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 X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, 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7F4-1700-4C57-B294-3A0276FAE8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0800" y="2971800"/>
            <a:ext cx="53503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F8D-1BEA-45D9-BF97-B69927C39B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3480" y="5181480"/>
            <a:ext cx="866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elements, not a singl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a (aggregate) function that returns the number of e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1080" y="2209680"/>
            <a:ext cx="8152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ig_publis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:= document("bib.xml"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&gt; 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ig_publis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160" y="148896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ublishers that published more than 100 boo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A6A-A8BA-40CD-8BB1-D2B125B8E6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F5C-1B3C-486B-AC92-3D8EC1D100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580-9C2D-4DFA-B5BA-C59444B06A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4440" y="243828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40" y="434340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917-E099-4639-A2BA-F2963DD2EA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CE9-440B-4E72-819E-80DA9BD759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designed for data exchange, not to replace relational or E/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 of XM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manually with text editors: not re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d automatically from relational data (will discuss 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files, replacing older data formats: Web server logs, scientific data (biological, astronom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/process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engines: very few applications need that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E9D-9D02-4BF1-9A61-0FA8C00787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rom/to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B93-0063-4E0B-9BF8-DB04B11821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35280" y="3607560"/>
            <a:ext cx="2031120" cy="11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7000" y="3743280"/>
            <a:ext cx="1469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1" idx="6"/>
            <a:endCxn id="114" idx="1"/>
          </p:cNvCxnSpPr>
          <p:nvPr/>
        </p:nvCxnSpPr>
        <p:spPr>
          <a:xfrm flipV="1">
            <a:off x="1960560" y="4155480"/>
            <a:ext cx="4024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4" idx="3"/>
            <a:endCxn id="112" idx="2"/>
          </p:cNvCxnSpPr>
          <p:nvPr/>
        </p:nvCxnSpPr>
        <p:spPr>
          <a:xfrm flipV="1">
            <a:off x="3841920" y="4114440"/>
            <a:ext cx="28162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1107000" y="2209680"/>
            <a:ext cx="1584360" cy="1172520"/>
          </a:xfrm>
          <a:prstGeom prst="wedgeEllipseCallout">
            <a:avLst>
              <a:gd name="adj1" fmla="val 15513"/>
              <a:gd name="adj2" fmla="val 999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0840" y="2133720"/>
            <a:ext cx="1218240" cy="652680"/>
          </a:xfrm>
          <a:prstGeom prst="wedgeEllipseCallout">
            <a:avLst>
              <a:gd name="adj1" fmla="val -24833"/>
              <a:gd name="adj2" fmla="val 214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2" idx="3"/>
            <a:endCxn id="114" idx="3"/>
          </p:cNvCxnSpPr>
          <p:nvPr/>
        </p:nvCxnSpPr>
        <p:spPr>
          <a:xfrm flipV="1" rot="16200000">
            <a:off x="5323320" y="2674080"/>
            <a:ext cx="178200" cy="3142080"/>
          </a:xfrm>
          <a:prstGeom prst="curvedConnector5">
            <a:avLst>
              <a:gd name="adj1" fmla="val -179757"/>
              <a:gd name="adj2" fmla="val 44860"/>
              <a:gd name="adj3" fmla="val -1797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1"/>
            <a:endCxn id="111" idx="5"/>
          </p:cNvCxnSpPr>
          <p:nvPr/>
        </p:nvCxnSpPr>
        <p:spPr>
          <a:xfrm flipV="1" rot="10800000">
            <a:off x="1672560" y="4155840"/>
            <a:ext cx="689760" cy="437040"/>
          </a:xfrm>
          <a:prstGeom prst="curvedConnector5">
            <a:avLst>
              <a:gd name="adj1" fmla="val 28981"/>
              <a:gd name="adj2" fmla="val 95218"/>
              <a:gd name="adj3" fmla="val 28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417320" y="5562720"/>
            <a:ext cx="1072800" cy="652680"/>
          </a:xfrm>
          <a:prstGeom prst="wedgeEllipseCallout">
            <a:avLst>
              <a:gd name="adj1" fmla="val -893"/>
              <a:gd name="adj2" fmla="val -1233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03120" y="5486400"/>
            <a:ext cx="1650960" cy="1172520"/>
          </a:xfrm>
          <a:prstGeom prst="wedgeEllipseCallout">
            <a:avLst>
              <a:gd name="adj1" fmla="val -842"/>
              <a:gd name="adj2" fmla="val -1250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088-BA46-4484-99DB-925FC46C16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asy: we do this already for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ng XQue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QL is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publishing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: Experanto (IBM/DB2), SilkRoute (AT&amp;T Labs and U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: SQL Server, Ora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Xpa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L and with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B0D-D1BD-427B-A63F-F574524DB3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A15-2C0B-4B21-B581-60494272AD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uden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itle,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, cid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93520" y="164160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follow SilkRoute, more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B9C-1291-4ACB-872E-F906B9E4F7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499760"/>
            <a:ext cx="5149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Operating System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GH084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8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Databas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EE045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horelin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9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1640" y="498780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11760" y="213372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042-CC72-4801-9F99-1AE74504E0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6615000" cy="30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040" y="185436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ing to do: design the DT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E89-919C-4B00-B753-E46760B155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240" y="1676520"/>
            <a:ext cx="749592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/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nroll/row[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/row[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600" y="533520"/>
            <a:ext cx="74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rite an XQuery to export relation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sult is is the right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9E4-0461-4046-824E-FA40D47A84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0080" y="17524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find Mary’s grade in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4080" y="2514600"/>
            <a:ext cx="792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urse[title/text()=“Operating Systems”]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[name/text()=“Mary”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240" y="20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3000" y="4537080"/>
            <a:ext cx="7800840" cy="1972800"/>
            <a:chOff x="63000" y="4537080"/>
            <a:chExt cx="7800840" cy="1972800"/>
          </a:xfrm>
        </p:grpSpPr>
        <p:sp>
          <p:nvSpPr>
            <p:cNvPr id="148" name=""/>
            <p:cNvSpPr/>
            <p:nvPr/>
          </p:nvSpPr>
          <p:spPr>
            <a:xfrm>
              <a:off x="302400" y="4952880"/>
              <a:ext cx="756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Enroll.gra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Student, Enroll, Cours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Student.name=“Mary” and Course.title=“OS”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and Student.sid = Enroll.sid and Enroll.cid = Course.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00" y="4537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129000" y="3733920"/>
            <a:ext cx="2621160" cy="1692360"/>
          </a:xfrm>
          <a:prstGeom prst="wedgeEllipseCallout">
            <a:avLst>
              <a:gd name="adj1" fmla="val -128824"/>
              <a:gd name="adj2" fmla="val -638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kRo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4FD-041A-4851-88B7-42E598C1D4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, with our partners, 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8B7-F5A6-4B9A-8A2E-17F62D9E05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the XML data is small and is parsed directly into the application (DOM AP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big, and we need to store it in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harder than XML publishing 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EAA-A424-4FDE-BFB4-161DB25E4B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799-741D-40DA-B77A-D00EDD602F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147-147F-4C71-A289-1A0766C8A0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1040" y="1727280"/>
            <a:ext cx="476064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8480" y="4163400"/>
            <a:ext cx="1443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5720" y="501444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160" y="501444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9120" y="595728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1120" y="595728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91440" y="595584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37600" y="595584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04600" y="595584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07600" y="595584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25960" y="595584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1360" y="595584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3" idx="3"/>
            <a:endCxn id="164" idx="0"/>
          </p:cNvCxnSpPr>
          <p:nvPr/>
        </p:nvCxnSpPr>
        <p:spPr>
          <a:xfrm flipH="1">
            <a:off x="3123720" y="459720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3" idx="5"/>
            <a:endCxn id="165" idx="0"/>
          </p:cNvCxnSpPr>
          <p:nvPr/>
        </p:nvCxnSpPr>
        <p:spPr>
          <a:xfrm>
            <a:off x="4798800" y="459720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4" idx="2"/>
            <a:endCxn id="166" idx="0"/>
          </p:cNvCxnSpPr>
          <p:nvPr/>
        </p:nvCxnSpPr>
        <p:spPr>
          <a:xfrm flipH="1">
            <a:off x="582120" y="5275080"/>
            <a:ext cx="2013840" cy="69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4" idx="3"/>
            <a:endCxn id="167" idx="0"/>
          </p:cNvCxnSpPr>
          <p:nvPr/>
        </p:nvCxnSpPr>
        <p:spPr>
          <a:xfrm flipH="1">
            <a:off x="1339560" y="544788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4" idx="4"/>
            <a:endCxn id="168" idx="0"/>
          </p:cNvCxnSpPr>
          <p:nvPr/>
        </p:nvCxnSpPr>
        <p:spPr>
          <a:xfrm flipH="1">
            <a:off x="2396520" y="551988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4" idx="5"/>
            <a:endCxn id="169" idx="0"/>
          </p:cNvCxnSpPr>
          <p:nvPr/>
        </p:nvCxnSpPr>
        <p:spPr>
          <a:xfrm flipH="1">
            <a:off x="3460320" y="5447880"/>
            <a:ext cx="3744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5" idx="2"/>
            <a:endCxn id="167" idx="7"/>
          </p:cNvCxnSpPr>
          <p:nvPr/>
        </p:nvCxnSpPr>
        <p:spPr>
          <a:xfrm flipH="1">
            <a:off x="1655280" y="5275440"/>
            <a:ext cx="269640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65" idx="3"/>
            <a:endCxn id="170" idx="0"/>
          </p:cNvCxnSpPr>
          <p:nvPr/>
        </p:nvCxnSpPr>
        <p:spPr>
          <a:xfrm>
            <a:off x="4524120" y="544788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5" idx="4"/>
            <a:endCxn id="171" idx="0"/>
          </p:cNvCxnSpPr>
          <p:nvPr/>
        </p:nvCxnSpPr>
        <p:spPr>
          <a:xfrm>
            <a:off x="4943160" y="551988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5" idx="5"/>
            <a:endCxn id="172" idx="0"/>
          </p:cNvCxnSpPr>
          <p:nvPr/>
        </p:nvCxnSpPr>
        <p:spPr>
          <a:xfrm>
            <a:off x="5362560" y="544788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65" idx="6"/>
            <a:endCxn id="173" idx="0"/>
          </p:cNvCxnSpPr>
          <p:nvPr/>
        </p:nvCxnSpPr>
        <p:spPr>
          <a:xfrm>
            <a:off x="5535720" y="5275080"/>
            <a:ext cx="198648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318636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9932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71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FE7-1F4E-4F3B-B652-972FA08A47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729-80AE-4981-8CBE-F16288C38D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0" idx="3"/>
            <a:endCxn id="191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0" idx="5"/>
            <a:endCxn id="192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1" idx="2"/>
            <a:endCxn id="193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1" idx="3"/>
            <a:endCxn id="194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1" idx="4"/>
            <a:endCxn id="195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1" idx="5"/>
            <a:endCxn id="196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2" idx="2"/>
            <a:endCxn id="194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2" idx="3"/>
            <a:endCxn id="197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2" idx="4"/>
            <a:endCxn id="198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2" idx="5"/>
            <a:endCxn id="199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2" idx="6"/>
            <a:endCxn id="200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240" y="621360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316-A623-4BEE-AF5B-3D61735631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3D9-8799-4141-B843-E28428C22A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 we can store it as any graph, using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we need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 to store the data values (#PC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D39-2F49-4F85-910F-18B31FC26D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78160" y="1219320"/>
            <a:ext cx="5679720" cy="2472480"/>
            <a:chOff x="3278160" y="1219320"/>
            <a:chExt cx="5679720" cy="2472480"/>
          </a:xfrm>
        </p:grpSpPr>
        <p:grpSp>
          <p:nvGrpSpPr>
            <p:cNvPr id="226" name=""/>
            <p:cNvGrpSpPr/>
            <p:nvPr/>
          </p:nvGrpSpPr>
          <p:grpSpPr>
            <a:xfrm>
              <a:off x="3278160" y="1549440"/>
              <a:ext cx="5679720" cy="2142360"/>
              <a:chOff x="3278160" y="1549440"/>
              <a:chExt cx="5679720" cy="214236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3345120" y="1649520"/>
                <a:ext cx="5545800" cy="2042280"/>
                <a:chOff x="3345120" y="1649520"/>
                <a:chExt cx="5545800" cy="20422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83308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88312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7684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33872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18580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8248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729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76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22420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4280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99104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36400" y="32932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782760" y="32932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62912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52444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13188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381360" y="1848600"/>
                  <a:ext cx="11955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53816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548424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96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38136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772596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7508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5452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746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6772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2488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11496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1640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9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E8C-E48D-4E9B-B588-292751161E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1520640" cy="5871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0D0-6044-46DC-A42E-0673F21B72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5000" y="3178080"/>
            <a:ext cx="86040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vtitle.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Edge xdb, Edge xbook, Edge xauthor, Edge x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Value vauthor, Value v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db.source=0 and xdb.tag = ‘db’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db.dest = xbook.source and   xbook.tag = ‘book’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book.dest = xauthor.source and xauthor.tag = ‘author’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book.dest = xtitle.source and xtitle.tag = ‘title’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author.dest = vauthor.source and vauthor.value = ‘Chamberi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title.dest = vtitle.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862-2357-4FA9-BD81-4CFB987D1C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(Source, Tag, D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(Source, 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C7D-D89E-41E4-BB19-0022A8B074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1000" y="3200400"/>
            <a:ext cx="689004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]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4960" y="4811760"/>
            <a:ext cx="382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720" y="541008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y do we get duplic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4EF-FF42-495E-AEA0-8ECBFC3137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000" y="480060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6360" y="495288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pply to a col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 n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 – note how query ha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1400" y="2971800"/>
            <a:ext cx="850464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BBC-6B26-4FDF-BA3B-AA51742968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7960" y="171756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8728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400" y="2895480"/>
            <a:ext cx="38642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x.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and y.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2120" y="2590920"/>
            <a:ext cx="41032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Seattle”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840" y="4799160"/>
            <a:ext cx="1072800" cy="652680"/>
          </a:xfrm>
          <a:prstGeom prst="wedgeEllipseCallout">
            <a:avLst>
              <a:gd name="adj1" fmla="val -26620"/>
              <a:gd name="adj2" fmla="val -95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2520" y="4800600"/>
            <a:ext cx="1650960" cy="652680"/>
          </a:xfrm>
          <a:prstGeom prst="wedgeEllipseCallout">
            <a:avLst>
              <a:gd name="adj1" fmla="val 42259"/>
              <a:gd name="adj2" fmla="val -12436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40760" y="5546880"/>
            <a:ext cx="8856720" cy="1264320"/>
            <a:chOff x="140760" y="5546880"/>
            <a:chExt cx="8856720" cy="1264320"/>
          </a:xfrm>
        </p:grpSpPr>
        <p:sp>
          <p:nvSpPr>
            <p:cNvPr id="67" name=""/>
            <p:cNvSpPr/>
            <p:nvPr/>
          </p:nvSpPr>
          <p:spPr>
            <a:xfrm>
              <a:off x="205164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0760" y="5638680"/>
              <a:ext cx="1650960" cy="1172520"/>
            </a:xfrm>
            <a:prstGeom prst="wedgeEllipseCallout">
              <a:avLst>
                <a:gd name="adj1" fmla="val 64712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7CC-3802-46EA-8E7D-ABE5F943EE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: 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9680" y="2971800"/>
            <a:ext cx="86882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7520" y="59436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5CD-CD3F-4522-970A-A124B3FC6F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6160" y="1371600"/>
            <a:ext cx="118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143-A801-46B5-8A53-62C19A1D7C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xpr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value in th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expr 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entir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common subexpressions and for aggre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3F4-8EEC-4ED5-8BD0-845D21A472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0-28T18:00:27Z</dcterms:modified>
  <cp:revision>190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1012830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13</vt:lpwstr>
  </property>
</Properties>
</file>