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64D-EC7D-4E38-872E-F337DC4E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85B-F62E-449C-99FE-E0FCDDF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0EB-E4BE-4297-8FBD-1C4996E6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95B-891F-40D8-814C-86095B1E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3A4-4F3A-4F30-BF48-122F2E44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59A-5FB3-48C1-9077-26CC7EB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8A2-F37A-4C3E-B2E8-D313F3D1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268-9790-4D8A-B364-AC41E32C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8CB-A870-4441-8660-5C7BA8B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0EB-AC2B-45CF-BF7F-81068B6B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799-5882-4403-B4E1-3DCB658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31C-ABC0-4FA0-8D87-27B549C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19F6-44BA-41B0-A6AF-2C358939F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 X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, 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91A-5030-4743-897C-C93D96776C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0800" y="2971800"/>
            <a:ext cx="53503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E99-AA38-49E0-BB1E-2C83DCAB53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3480" y="5181480"/>
            <a:ext cx="866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lements, not a singl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a (aggregate) function that returns the number of e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1080" y="2209680"/>
            <a:ext cx="8152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ig_publis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:= document("bib.xml"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&gt; 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ig_publis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160" y="148896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ublishers that published more than 100 boo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5D5-BDDE-4F11-B359-8A0F8A506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815-5411-447F-87ED-70CA59DF82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8AF-5CA7-46B5-AA70-3CE75A88BB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4440" y="243828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40" y="434340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725-C45D-4383-A8DE-92C590A159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C9A-0705-4F68-9F34-FB73FB8AC8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designed for data exchange, not to replace relational or E/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of XM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manually with text editors: not re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d automatically from relational data (will discuss 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files, replacing older data formats: Web server logs, scientific data (biological, astronom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/process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engines: very few applications need that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B96-F740-47DE-AC1C-2AF94A7DD5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F2A-2B4F-4458-9865-FD9FE5A3FC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35280" y="3607560"/>
            <a:ext cx="2031120" cy="11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7000" y="3743280"/>
            <a:ext cx="1469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1" idx="6"/>
            <a:endCxn id="114" idx="1"/>
          </p:cNvCxnSpPr>
          <p:nvPr/>
        </p:nvCxnSpPr>
        <p:spPr>
          <a:xfrm flipV="1">
            <a:off x="1960560" y="4155480"/>
            <a:ext cx="4024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4" idx="3"/>
            <a:endCxn id="112" idx="2"/>
          </p:cNvCxnSpPr>
          <p:nvPr/>
        </p:nvCxnSpPr>
        <p:spPr>
          <a:xfrm flipV="1">
            <a:off x="3841920" y="4114440"/>
            <a:ext cx="28162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1107000" y="22096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2" idx="3"/>
            <a:endCxn id="114" idx="3"/>
          </p:cNvCxnSpPr>
          <p:nvPr/>
        </p:nvCxnSpPr>
        <p:spPr>
          <a:xfrm flipV="1" rot="16200000">
            <a:off x="5323320" y="2674080"/>
            <a:ext cx="178200" cy="3142080"/>
          </a:xfrm>
          <a:prstGeom prst="curvedConnector5">
            <a:avLst>
              <a:gd name="adj1" fmla="val -179757"/>
              <a:gd name="adj2" fmla="val 44860"/>
              <a:gd name="adj3" fmla="val -1797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1"/>
            <a:endCxn id="111" idx="5"/>
          </p:cNvCxnSpPr>
          <p:nvPr/>
        </p:nvCxnSpPr>
        <p:spPr>
          <a:xfrm flipV="1" rot="10800000">
            <a:off x="1672560" y="4155840"/>
            <a:ext cx="689760" cy="437040"/>
          </a:xfrm>
          <a:prstGeom prst="curvedConnector5">
            <a:avLst>
              <a:gd name="adj1" fmla="val 28981"/>
              <a:gd name="adj2" fmla="val 95218"/>
              <a:gd name="adj3" fmla="val 28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417320" y="55627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4C7-4631-4870-9742-69B68C9E30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asy: we do this already for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ng XQue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QL is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publishing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: Experanto (IBM/DB2), SilkRoute (AT&amp;T Labs and U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: SQL Server, Or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Xpa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 and with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7EA-2C21-4E22-A43E-E71A29CA74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08E-64A8-46E0-9DFB-26863F0919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3520" y="164160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follow SilkRoute, more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1E6-3F92-4CF2-AB41-A718E8A171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B6A-57A3-44E1-AA4C-8096573DA2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0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19E-F04B-4066-A34E-732632FD15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21D-3CB7-40C1-8646-3DD610B79C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008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408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[title/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[name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24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3000" y="4537080"/>
            <a:ext cx="7800840" cy="1972800"/>
            <a:chOff x="63000" y="4537080"/>
            <a:chExt cx="7800840" cy="1972800"/>
          </a:xfrm>
        </p:grpSpPr>
        <p:sp>
          <p:nvSpPr>
            <p:cNvPr id="148" name=""/>
            <p:cNvSpPr/>
            <p:nvPr/>
          </p:nvSpPr>
          <p:spPr>
            <a:xfrm>
              <a:off x="30240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129000" y="3733920"/>
            <a:ext cx="2621160" cy="1692360"/>
          </a:xfrm>
          <a:prstGeom prst="wedgeEllipseCallout">
            <a:avLst>
              <a:gd name="adj1" fmla="val -128824"/>
              <a:gd name="adj2" fmla="val -638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kRo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F95-A158-4500-9CCD-E66388E9AC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, with our partners, 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747-CE09-4BE2-BE95-E364F1A63C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the XML data is small and is parsed directly into the application (DOM A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big, and we need to store it in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harder than XML publishing 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C41-24DD-45C9-90EE-E93A98CA09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2BC-6A38-4F47-B299-F0EFE62D43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E1A-892F-4116-8452-9046F49004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1040" y="1727280"/>
            <a:ext cx="476064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8480" y="4163400"/>
            <a:ext cx="1443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5720" y="501444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160" y="501444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9120" y="595728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1120" y="595728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91440" y="595584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37600" y="595584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04600" y="595584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07600" y="595584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25960" y="595584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1360" y="595584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3" idx="3"/>
            <a:endCxn id="164" idx="0"/>
          </p:cNvCxnSpPr>
          <p:nvPr/>
        </p:nvCxnSpPr>
        <p:spPr>
          <a:xfrm flipH="1">
            <a:off x="3123720" y="459720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3" idx="5"/>
            <a:endCxn id="165" idx="0"/>
          </p:cNvCxnSpPr>
          <p:nvPr/>
        </p:nvCxnSpPr>
        <p:spPr>
          <a:xfrm>
            <a:off x="4798800" y="459720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4" idx="2"/>
            <a:endCxn id="166" idx="0"/>
          </p:cNvCxnSpPr>
          <p:nvPr/>
        </p:nvCxnSpPr>
        <p:spPr>
          <a:xfrm flipH="1">
            <a:off x="582120" y="5275080"/>
            <a:ext cx="2013840" cy="69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4" idx="3"/>
            <a:endCxn id="167" idx="0"/>
          </p:cNvCxnSpPr>
          <p:nvPr/>
        </p:nvCxnSpPr>
        <p:spPr>
          <a:xfrm flipH="1">
            <a:off x="1339560" y="544788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4" idx="4"/>
            <a:endCxn id="168" idx="0"/>
          </p:cNvCxnSpPr>
          <p:nvPr/>
        </p:nvCxnSpPr>
        <p:spPr>
          <a:xfrm flipH="1">
            <a:off x="2396520" y="551988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4" idx="5"/>
            <a:endCxn id="169" idx="0"/>
          </p:cNvCxnSpPr>
          <p:nvPr/>
        </p:nvCxnSpPr>
        <p:spPr>
          <a:xfrm flipH="1">
            <a:off x="3460320" y="5447880"/>
            <a:ext cx="3744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5" idx="2"/>
            <a:endCxn id="167" idx="7"/>
          </p:cNvCxnSpPr>
          <p:nvPr/>
        </p:nvCxnSpPr>
        <p:spPr>
          <a:xfrm flipH="1">
            <a:off x="1655280" y="5275440"/>
            <a:ext cx="269640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65" idx="3"/>
            <a:endCxn id="170" idx="0"/>
          </p:cNvCxnSpPr>
          <p:nvPr/>
        </p:nvCxnSpPr>
        <p:spPr>
          <a:xfrm>
            <a:off x="4524120" y="544788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5" idx="4"/>
            <a:endCxn id="171" idx="0"/>
          </p:cNvCxnSpPr>
          <p:nvPr/>
        </p:nvCxnSpPr>
        <p:spPr>
          <a:xfrm>
            <a:off x="4943160" y="551988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5" idx="5"/>
            <a:endCxn id="172" idx="0"/>
          </p:cNvCxnSpPr>
          <p:nvPr/>
        </p:nvCxnSpPr>
        <p:spPr>
          <a:xfrm>
            <a:off x="5362560" y="544788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5" idx="6"/>
            <a:endCxn id="173" idx="0"/>
          </p:cNvCxnSpPr>
          <p:nvPr/>
        </p:nvCxnSpPr>
        <p:spPr>
          <a:xfrm>
            <a:off x="5535720" y="5275080"/>
            <a:ext cx="198648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318636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9932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71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D54-1B1F-4B07-9E7E-BD50704928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513-ED4A-48E7-97A9-E336E50D8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0" idx="3"/>
            <a:endCxn id="191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0" idx="5"/>
            <a:endCxn id="192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1" idx="2"/>
            <a:endCxn id="193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1" idx="3"/>
            <a:endCxn id="194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1" idx="4"/>
            <a:endCxn id="195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1" idx="5"/>
            <a:endCxn id="196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2" idx="2"/>
            <a:endCxn id="194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2" idx="3"/>
            <a:endCxn id="197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2" idx="4"/>
            <a:endCxn id="198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2" idx="5"/>
            <a:endCxn id="199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2" idx="6"/>
            <a:endCxn id="200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240" y="621360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F7A-E774-463B-85D5-109A7BB02B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7C5-E2DA-425A-8814-3FDD867DEA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 we can store it as any graph, using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we need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 to store the data values (#PC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7ED-65DF-42E8-830D-6EFEEB786B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78160" y="1219320"/>
            <a:ext cx="5679720" cy="2472480"/>
            <a:chOff x="3278160" y="1219320"/>
            <a:chExt cx="5679720" cy="2472480"/>
          </a:xfrm>
        </p:grpSpPr>
        <p:grpSp>
          <p:nvGrpSpPr>
            <p:cNvPr id="226" name=""/>
            <p:cNvGrpSpPr/>
            <p:nvPr/>
          </p:nvGrpSpPr>
          <p:grpSpPr>
            <a:xfrm>
              <a:off x="3278160" y="1549440"/>
              <a:ext cx="5679720" cy="2142360"/>
              <a:chOff x="3278160" y="1549440"/>
              <a:chExt cx="5679720" cy="214236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3345120" y="1649520"/>
                <a:ext cx="5545800" cy="2042280"/>
                <a:chOff x="3345120" y="1649520"/>
                <a:chExt cx="5545800" cy="20422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83308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8312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7684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33872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18580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8248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29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76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22420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4280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99104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36400" y="32932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782760" y="32932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62912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52444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3188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381360" y="1848600"/>
                  <a:ext cx="11955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53816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548424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96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38136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772596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7508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5452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746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6772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2488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11496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1640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750-C8FC-44ED-8CC5-CAB1903668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1520640" cy="5871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0D8-93E5-40F3-B7C6-263A92F755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5000" y="3178080"/>
            <a:ext cx="8604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vtitle.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Edge xdb, Edge xbook, Edge xauthor, Edge x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Value vauthor, Value v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db.source=0 and xdb.tag = ‘db’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db.dest = xbook.source and   xbook.tag = ‘book’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book.dest = xauthor.source and xauthor.tag = ‘author’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book.dest = xtitle.source and xtitle.tag = ‘title’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author.dest = vauthor.source and vauthor.value = ‘Chamberi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title.dest = vtitle.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4AD-DD78-4757-9231-64A5013279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(Source, Tag, D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(Source, 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66F-4CF6-4F18-A51E-7751FFE016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1000" y="3200400"/>
            <a:ext cx="689004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496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72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349-9410-47C6-912D-9DAF6EF09F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00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636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400" y="2971800"/>
            <a:ext cx="850464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97B-06F2-4199-BCFA-E237B8FD74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7960" y="171756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400" y="2895480"/>
            <a:ext cx="38642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x.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and y.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2120" y="2590920"/>
            <a:ext cx="41032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Seattle”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840" y="4799160"/>
            <a:ext cx="1072800" cy="652680"/>
          </a:xfrm>
          <a:prstGeom prst="wedgeEllipseCallout">
            <a:avLst>
              <a:gd name="adj1" fmla="val -26620"/>
              <a:gd name="adj2" fmla="val -95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2520" y="4800600"/>
            <a:ext cx="1650960" cy="652680"/>
          </a:xfrm>
          <a:prstGeom prst="wedgeEllipseCallout">
            <a:avLst>
              <a:gd name="adj1" fmla="val 42259"/>
              <a:gd name="adj2" fmla="val -12436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67" name="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BBE-A847-4140-A568-2D468AE10D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: 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9680" y="2971800"/>
            <a:ext cx="86882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7520" y="59436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5A7-A5B9-44F1-90EB-26BE5641F8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6160" y="1371600"/>
            <a:ext cx="11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46D-81B4-4FE9-A646-139C04315E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xpr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value in th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expr 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entir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common subexpressions and for aggre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8F0-F74F-4755-BCFE-41E4FE4AC2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28T18:00:27Z</dcterms:modified>
  <cp:revision>190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1012830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3</vt:lpwstr>
  </property>
</Properties>
</file>