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84ECF-E9DA-410D-9D27-E9C3F0C0AB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B4920-52AC-4BB8-AF04-6D7C1C1198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0800" y="4341960"/>
            <a:ext cx="503388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B9C5-E14F-4136-BFA7-990E324B4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09FA-D007-4FA9-B3B9-AC693C06E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4752-0329-412C-906A-4FA544A04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EEC7-37EF-495B-8AC9-3294E58C5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B0FD-9EB1-4EF8-BED9-CF64959A0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0EE6-DF3F-42E1-B3AE-A6EC3B0A1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18C6-AC7A-4B91-B10C-295E8A240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F647-9A1E-4467-AB43-3260C8349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F025-96E5-4C95-9EFA-547CD6AE5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4858-3C94-4473-B65C-83DA0103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04CA-4BCF-46CB-84E2-AB08A1A6E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A058-0B8F-415A-867C-591D5228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18173-6A1A-4E47-9676-9321638988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12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, XPath, 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iday, October 25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9D47-B0E6-4E9B-92A5-32E9AD65865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is Semi-structured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eated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ssible in tab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433600" y="2590920"/>
            <a:ext cx="3610080" cy="13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Mary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2345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3456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395400" y="3124080"/>
            <a:ext cx="181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 phones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419720" y="5105520"/>
          <a:ext cx="3200400" cy="1295280"/>
        </p:xfrm>
        <a:graphic>
          <a:graphicData uri="http://schemas.openxmlformats.org/drawingml/2006/table">
            <a:tbl>
              <a:tblPr/>
              <a:tblGrid>
                <a:gridCol w="1066680"/>
                <a:gridCol w="1066680"/>
                <a:gridCol w="1067040"/>
              </a:tblGrid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ph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7925400" y="548640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5E1F-1D46-42AE-BDF1-1967432368F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is Semi-structured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ributes with different types in different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sted collections (no 1N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terogeneous collec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&lt;db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tains both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and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ublisher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2590920"/>
            <a:ext cx="5125680" cy="173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fir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John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fir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la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Smith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la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1234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393960" y="2743200"/>
            <a:ext cx="228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uctured name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56F1-C336-4955-9D84-450F2DBD5F2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cument Type Definitio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T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of the original XML spec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XML document may have a DT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docume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ll-forme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if tags are correctly clo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al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if it has a DTD and conforms to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idation is useful in data e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182C-3D70-47E8-8F75-B83C67E083C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ery Simple DT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94320" y="2057400"/>
            <a:ext cx="7113960" cy="411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DOCTYPE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((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erson|product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ss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offi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ss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(#PCDATA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(#PCDATA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offi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(#PCDATA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hon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(#PCDATA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rodu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descrip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i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(#PCDATA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descrip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(#PCDATA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78DF-6A9D-4275-8169-D63E05C052F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ery Simple DT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117960" y="2209680"/>
            <a:ext cx="4559040" cy="405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compan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 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ss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123456789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ss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John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off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B432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off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1234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 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ss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987654321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ss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Jim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off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B123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off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... 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compan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85120" y="1641600"/>
            <a:ext cx="440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of valid XML docu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B57D-40D3-4D82-BCDC-FEEC09A8E62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TD: The Content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ent mode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x = a regular expression over other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-only = #PC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ty = EMP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= 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xed content = (#PCDATA | A | B | C)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841040" y="1905120"/>
            <a:ext cx="4779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!ELEMENT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a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09040" y="2590920"/>
            <a:ext cx="1215720" cy="912600"/>
          </a:xfrm>
          <a:prstGeom prst="wedgeEllipseCallout">
            <a:avLst>
              <a:gd name="adj1" fmla="val -78328"/>
              <a:gd name="adj2" fmla="val -70504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651F-F39D-44C1-96FB-0BD30D98C42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TD: Regular 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3040" y="2514600"/>
            <a:ext cx="38214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(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first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last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478120" y="2514600"/>
            <a:ext cx="2977560" cy="9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firstNa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 . . . . . &lt;/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firstNa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lastNa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 . . . . . &lt;/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lastNa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8440" y="4038480"/>
            <a:ext cx="46425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firstName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last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20800" y="1600200"/>
            <a:ext cx="1144800" cy="652680"/>
          </a:xfrm>
          <a:prstGeom prst="wedgeEllipseCallout">
            <a:avLst>
              <a:gd name="adj1" fmla="val -2500"/>
              <a:gd name="adj2" fmla="val 8720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T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978240" y="1600200"/>
            <a:ext cx="1218240" cy="652680"/>
          </a:xfrm>
          <a:prstGeom prst="wedgeEllipseCallout">
            <a:avLst>
              <a:gd name="adj1" fmla="val -5245"/>
              <a:gd name="adj2" fmla="val 11416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8800" y="5105520"/>
            <a:ext cx="40575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(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name, phone*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65400" y="20224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4680" y="3546360"/>
            <a:ext cx="11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9160" y="6172200"/>
            <a:ext cx="4725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(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name, (phone|email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520" y="464832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leene s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3120" y="571500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43400" y="2743200"/>
            <a:ext cx="45720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5105520"/>
            <a:ext cx="45720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631840" y="4419720"/>
            <a:ext cx="2441160" cy="15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 . . . . . &lt;/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 . . . . . &lt;/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 . . . . . &lt;/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 . . . . . &lt;/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. .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6AA0-5DBD-4EA0-8DCC-949A9F9B600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ing XML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Path = simple navigation through the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Query = the SQL of X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SLT = recursive travers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not discuss in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8373-AE91-46F8-8813-E7ED307CF3A5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Data for 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47680" y="1645920"/>
            <a:ext cx="7616880" cy="50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bi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boo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publish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Addison-Wesley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publish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Serge Abiteboul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first-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Rick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first-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last-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Hull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last-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Victor Vianu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Foundations of Databases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1995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boo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book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  <a:ea typeface="Arial"/>
              </a:rPr>
              <a:t>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Arial"/>
              </a:rPr>
              <a:t>pri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=“55”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publish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Freeman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publish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Jeffrey D. Ullman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Principles of Database and Knowledge Base System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1998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boo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bi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3B6A-DE8E-461F-8097-C9150E044B1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Model for XPa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3848040" y="1981080"/>
            <a:ext cx="609840" cy="1524240"/>
            <a:chOff x="3848040" y="1981080"/>
            <a:chExt cx="609840" cy="1524240"/>
          </a:xfrm>
        </p:grpSpPr>
        <p:sp>
          <p:nvSpPr>
            <p:cNvPr id="187" name=""/>
            <p:cNvSpPr/>
            <p:nvPr/>
          </p:nvSpPr>
          <p:spPr>
            <a:xfrm>
              <a:off x="3848040" y="198108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848040" y="289548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bi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666880" y="3886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952880" y="3886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752480" y="48006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ublis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48120" y="48006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19112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200040" y="33526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19720" y="33526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209680" y="43434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00400" y="434340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98108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35268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71800" y="491796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.  .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91800" y="5943600"/>
            <a:ext cx="17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ddison-Wesl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124440" y="594360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erge Abitebo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100920" y="2057400"/>
            <a:ext cx="1223640" cy="459720"/>
          </a:xfrm>
          <a:prstGeom prst="wedgeRectCallout">
            <a:avLst>
              <a:gd name="adj1" fmla="val -182763"/>
              <a:gd name="adj2" fmla="val -1236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812560" y="3048120"/>
            <a:ext cx="2267280" cy="459720"/>
          </a:xfrm>
          <a:prstGeom prst="wedgeRectCallout">
            <a:avLst>
              <a:gd name="adj1" fmla="val -109736"/>
              <a:gd name="adj2" fmla="val -20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oot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80DC-3DB6-47CC-B82E-FF6880D47F8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: syntax, semantics, data, DT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P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ongly recommended reading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Path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java.sun.com/webservices/docs/ea2/tutorial/doc/JAXPXSLT2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Query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w3.org/TR/xmlquery-use-cases/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xmlportfolio.com/xquery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C895-885C-4FF8-8BE9-F8E42087A9B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Simple 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:  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1995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1998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:  empty          (there were no pape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9400" y="1752480"/>
            <a:ext cx="22579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/bib/book/y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9360" y="4038480"/>
            <a:ext cx="264960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paper/y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93F0-3635-407B-9525-2CC9FD17AD0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Restricted Kleene Clos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Serge Abiteboul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first-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Rick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first-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last-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Hull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last-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Victor Vianu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Jeffrey D. Ullman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: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first-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Rick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first-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42760" y="1828800"/>
            <a:ext cx="1288800" cy="47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//auth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62840" y="5513400"/>
            <a:ext cx="2084040" cy="42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bib//first-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0E4C-1D38-4EDC-AD15-1632453D6B0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Text No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: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ge Abitebou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effrey D. Ull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ck Hull doesn’t appear because he has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first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last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s in XPat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text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= matches the text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node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matches any node (= * or @* or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text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name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returns the name of the current t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11280" y="1905120"/>
            <a:ext cx="3426840" cy="47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/bib/book/author/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text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846B-4C12-47E5-B29D-7F92FD0511A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Wildc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first-na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Rick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first-na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last-na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Hull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last-na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Matches any el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18000" y="2011320"/>
            <a:ext cx="176580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/author/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BD7D-3018-43C6-92A4-AB867DDC477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Attribute No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: “55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@pri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ans that price is has to be an attrib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7600" y="1828800"/>
            <a:ext cx="304740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book/@pr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9D2C-8885-4619-B69E-17F02F86D5E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Predic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first-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Rick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first-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last-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Hull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last-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64280" y="1905120"/>
            <a:ext cx="41371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/bib/book/author[firstname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2344-2293-41F9-9FA7-2F85398A398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More Predic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last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…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last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last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…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last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94840" y="2209680"/>
            <a:ext cx="72795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bib/book/author[firstname][address[//zip][city]]/last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B978-24E8-4EF7-982B-4E223180D87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More Predic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903680" y="2286000"/>
            <a:ext cx="441144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book[@price &lt; “60”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01880" y="3657600"/>
            <a:ext cx="531828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book[author/@age &lt; “25”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04040" y="5105520"/>
            <a:ext cx="405324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book[author/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text()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5B57-C1B6-44F3-B35F-1ECC14EC5EB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550280" cy="48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ches a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ches any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ches the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o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ches a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lement under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ib/pap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ches a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ap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ib//pap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ches a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ap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t any dep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/pap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ches a paper at any dep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aper|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ches a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ap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a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@pric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ches a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trib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ib/book/@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ches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tribute in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in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ib/book/[@price&lt;“55”]/author/lastname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che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760F-C20A-44D2-A279-58680CDA403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Quilt, which is based on XML-Q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XPath to express more complex qu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5A2A-DB59-4B43-ADA4-5653BE67D58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14000" y="1752480"/>
            <a:ext cx="8310600" cy="30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gs: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tag: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,  end tag: 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s: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…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,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…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s are n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ty element: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abbrv.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XML document: sing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oot e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0760" y="593244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cc"/>
                </a:solidFill>
                <a:latin typeface="Arial"/>
              </a:rPr>
              <a:t>well formed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 XML document: if it has matching ta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102E-DD55-4FA3-A9BF-705C9BD2562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WR (“Flower”) 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133360" y="2819520"/>
            <a:ext cx="3429000" cy="234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4106-5256-4E18-90E4-7E10733105F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ll book titles published after 1995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6160" y="2895480"/>
            <a:ext cx="5397840" cy="157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gt; 19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03600" y="4876920"/>
            <a:ext cx="2713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bc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def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ghi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1E92-E023-413B-A9F8-F1BFE93D56B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book titles by the coauthors of “Database Theory”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29200" y="3200400"/>
            <a:ext cx="7679520" cy="138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[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= “Database Theory”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]/auth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[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=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]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113360" y="5105520"/>
            <a:ext cx="3759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bc &lt;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def &lt;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ghi &lt;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6600" y="5562720"/>
            <a:ext cx="257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The answer will</a:t>
            </a:r>
            <a:br>
              <a:rPr sz="2400"/>
            </a:b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contain duplicates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1110-DE6A-4BFD-8E68-3E771A66E54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as before, but eliminate duplica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9200" y="3200400"/>
            <a:ext cx="7679520" cy="138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[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= “Database Theory”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]/auth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[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=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]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113360" y="5105520"/>
            <a:ext cx="3759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bc &lt;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def &lt;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ghi &lt;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33280" y="5410080"/>
            <a:ext cx="36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a functio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eliminates duplic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8D9C-0FD1-4166-BA67-69339345B2E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Query: Nes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author of a book by Morgan Kaufmann, list all books she publish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16240" y="2971800"/>
            <a:ext cx="7261200" cy="253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33cc"/>
                </a:solidFill>
                <a:latin typeface="Times New Roman"/>
              </a:rPr>
              <a:t>distin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ublish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“Morgan Kaufmann”]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a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   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t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6B32-0453-49E3-ACEF-413DC78772A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913280" cy="394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Jones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abc 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def 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Smith 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ghi 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sult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86160" y="1371600"/>
            <a:ext cx="1188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681B-CC32-4794-92EC-B894AA8824C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expr  -- binds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each value in the list exp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expr   -- binds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the entire list exp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for common subexpressions and for aggreg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99DD-C092-4C27-9506-B0E5D1AB387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3480" y="5181480"/>
            <a:ext cx="866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= a (aggregate) function that returns the number of el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138320" y="1828800"/>
            <a:ext cx="6873840" cy="271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  <a:ea typeface="Courier New"/>
              </a:rPr>
              <a:t>big_publisher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Unicode MS"/>
                <a:ea typeface="Courier New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 Unicode MS"/>
                <a:ea typeface="Courier New"/>
              </a:rPr>
              <a:t>$p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Unicode MS"/>
                <a:ea typeface="Courier New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ff33cc"/>
                </a:solidFill>
                <a:latin typeface="Arial Unicode MS"/>
                <a:ea typeface="Courier New"/>
              </a:rPr>
              <a:t>distinc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(document("bib.xml")//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  <a:ea typeface="Courier New"/>
              </a:rPr>
              <a:t>publisher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Unicode MS"/>
                <a:ea typeface="Courier New"/>
              </a:rPr>
              <a:t>LE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 Unicode MS"/>
                <a:ea typeface="Courier New"/>
              </a:rPr>
              <a:t>$b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:= document("bib.xml")/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  <a:ea typeface="Courier New"/>
              </a:rPr>
              <a:t>book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[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  <a:ea typeface="Courier New"/>
              </a:rPr>
              <a:t>publisher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= </a:t>
            </a:r>
            <a:r>
              <a:rPr b="0" lang="en-US" sz="2000" spc="-1" strike="noStrike">
                <a:solidFill>
                  <a:srgbClr val="3333cc"/>
                </a:solidFill>
                <a:latin typeface="Arial Unicode MS"/>
                <a:ea typeface="Courier New"/>
              </a:rPr>
              <a:t>$p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]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Unicode MS"/>
                <a:ea typeface="Courier New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ff33cc"/>
                </a:solidFill>
                <a:latin typeface="Arial Unicode MS"/>
                <a:ea typeface="Courier New"/>
              </a:rPr>
              <a:t>cou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(</a:t>
            </a:r>
            <a:r>
              <a:rPr b="0" lang="en-US" sz="2000" spc="-1" strike="noStrike">
                <a:solidFill>
                  <a:srgbClr val="3333cc"/>
                </a:solidFill>
                <a:latin typeface="Arial Unicode MS"/>
                <a:ea typeface="Courier New"/>
              </a:rPr>
              <a:t>$b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) &gt; 10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Unicode MS"/>
                <a:ea typeface="Courier New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{ </a:t>
            </a:r>
            <a:r>
              <a:rPr b="0" lang="en-US" sz="2000" spc="-1" strike="noStrike">
                <a:solidFill>
                  <a:srgbClr val="3333cc"/>
                </a:solidFill>
                <a:latin typeface="Arial Unicode MS"/>
                <a:ea typeface="Courier New"/>
              </a:rPr>
              <a:t>$p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  <a:ea typeface="Courier New"/>
              </a:rPr>
              <a:t>big_publisher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0140-8273-4DEF-8CB7-E6A3943561B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books whose price is larger than averag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62760" y="2971800"/>
            <a:ext cx="5656320" cy="178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ff33cc"/>
                </a:solidFill>
                <a:latin typeface="Times New Roman"/>
              </a:rPr>
              <a:t>av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document("bib.xml"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document("bib.xml"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{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b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71CD-5488-437D-8A3A-F487037115C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-LET-WHERE-RETURN  = FLW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237480" y="3492360"/>
            <a:ext cx="2034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/LET Clau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352320" y="4594320"/>
            <a:ext cx="1803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Cla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302280" y="5726160"/>
            <a:ext cx="1904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Cla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254480" y="402120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254480" y="514656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75960" y="395460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of tup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475960" y="519588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of tup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477040" y="6248520"/>
            <a:ext cx="32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ance of Xquery data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0FE9-F779-4BAA-B80A-444773B956D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194600" cy="40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pri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“55”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currenc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“USD”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Foundations of Databases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Abiteboul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1995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0080" y="5654520"/>
            <a:ext cx="875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attributes are alternative ways to represent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3009-46F5-4211-BAB5-8EE4FD9206A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v.s. L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d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ode variab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t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d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llection variab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ne 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C543-E9F1-4855-8637-A29DEF60225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v.s. L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2120" y="2438280"/>
            <a:ext cx="575604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83480" y="2286000"/>
            <a:ext cx="325728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1040" y="4343400"/>
            <a:ext cx="572220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38800" y="4343400"/>
            <a:ext cx="252108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A89E-209B-4229-BCED-9CAE2F54395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ections in 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dered and unordered coll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an ordered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inct(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an unordered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col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 collection (several authors.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10200" y="4873680"/>
            <a:ext cx="5374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178320" y="4648320"/>
            <a:ext cx="274356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5B9F-4888-476E-93C9-77EA42E57C7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ections in 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collections in expressions 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st of n pric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* 0.7           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st of n number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quant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st of n x m numbers ?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* (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quant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quant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quant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quant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4293-F9BB-4071-8033-4DD9FEF5FBC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rting in 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66720" y="1905120"/>
            <a:ext cx="769140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1752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publisher_li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ff33cc"/>
                </a:solidFill>
                <a:latin typeface="Times New Roman"/>
                <a:ea typeface="Courier New"/>
              </a:rPr>
              <a:t>distin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document("bib.xml")/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publish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publish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 {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/text() }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 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document("bib.xml")/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boo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[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publish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=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]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boo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{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         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pr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boo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SORT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pr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DESCEND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publish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SORT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publisher_li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4F38-D718-41F8-9719-687BD9C056A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-Then-El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896120" y="2057400"/>
            <a:ext cx="4593240" cy="253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1752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IN /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hold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hold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{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/@type = "Journal"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edit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hold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SORT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(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43E6-0DEC-42D7-8D57-798D335DCB9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istential Quantifi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603800" y="2209680"/>
            <a:ext cx="6148800" cy="268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/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a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TISF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ins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"sailing"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tains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"windsurfing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FB7A-DD49-40F1-8298-5B19F57FB4F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versal Quantifi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454760" y="2362320"/>
            <a:ext cx="5757840" cy="212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/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a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TISF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ins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"sailing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116F-D3FC-4941-AFAB-F1D807B24B7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Stuff in 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FO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F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dealing with order in the in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IL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tes some edges in the result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ursive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ly: arbitrary recu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haps more restrictions in the futur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D091-E814-4238-888E-040023DBDDD7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0" y="464040"/>
            <a:ext cx="3117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365960" cy="392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“o555”&gt;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Jane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“o456”&gt;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Mary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childr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idre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“o123 o555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“o123”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mot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“o456”&gt;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John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25400" y="5886360"/>
            <a:ext cx="785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oids and references in XML are just synt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A260-0995-4B51-B167-57E1C53EBA0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Semantics: a Tree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-228600" y="2133720"/>
            <a:ext cx="3849840" cy="391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dat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person </a:t>
            </a:r>
            <a:r>
              <a:rPr b="0" lang="en-US" sz="1400" spc="-1" strike="noStrike">
                <a:solidFill>
                  <a:srgbClr val="cc3300"/>
                </a:solidFill>
                <a:latin typeface="Times New Roman"/>
              </a:rPr>
              <a:t>i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“o555”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 Mary &lt;/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stree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 Maple &lt;/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stree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n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 345 &lt;/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n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city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 Seattle &lt;/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city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 John &lt;/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 Thailand  &lt;/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 23456  &lt;/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dat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61120" y="1974960"/>
            <a:ext cx="7336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4710240"/>
            <a:ext cx="9424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51600" y="2500560"/>
            <a:ext cx="102204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437600" y="2805120"/>
            <a:ext cx="102204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57760" y="3719520"/>
            <a:ext cx="8758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007960" y="3643560"/>
            <a:ext cx="11170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00960" y="3948120"/>
            <a:ext cx="8758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62360" y="3872160"/>
            <a:ext cx="11170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620600" y="4633920"/>
            <a:ext cx="8758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stre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32480" y="4633920"/>
            <a:ext cx="54396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103440" y="4633920"/>
            <a:ext cx="68652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c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290480" y="5472360"/>
            <a:ext cx="10378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33120" y="5472360"/>
            <a:ext cx="68796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77880" y="5548320"/>
            <a:ext cx="10828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att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750360" y="4938840"/>
            <a:ext cx="8632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14640" y="4710240"/>
            <a:ext cx="83016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a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63" idx="3"/>
            <a:endCxn id="65" idx="7"/>
          </p:cNvCxnSpPr>
          <p:nvPr/>
        </p:nvCxnSpPr>
        <p:spPr>
          <a:xfrm flipH="1">
            <a:off x="6001920" y="2371680"/>
            <a:ext cx="386640" cy="20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63" idx="5"/>
            <a:endCxn id="66" idx="1"/>
          </p:cNvCxnSpPr>
          <p:nvPr/>
        </p:nvCxnSpPr>
        <p:spPr>
          <a:xfrm>
            <a:off x="6867360" y="2371680"/>
            <a:ext cx="74232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65" idx="3"/>
            <a:endCxn id="67" idx="7"/>
          </p:cNvCxnSpPr>
          <p:nvPr/>
        </p:nvCxnSpPr>
        <p:spPr>
          <a:xfrm flipH="1">
            <a:off x="4583880" y="2897280"/>
            <a:ext cx="739080" cy="90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65" idx="4"/>
            <a:endCxn id="68" idx="0"/>
          </p:cNvCxnSpPr>
          <p:nvPr/>
        </p:nvCxnSpPr>
        <p:spPr>
          <a:xfrm flipH="1">
            <a:off x="5567040" y="2962080"/>
            <a:ext cx="95760" cy="69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" name=""/>
          <p:cNvCxnSpPr>
            <a:stCxn id="66" idx="3"/>
            <a:endCxn id="69" idx="0"/>
          </p:cNvCxnSpPr>
          <p:nvPr/>
        </p:nvCxnSpPr>
        <p:spPr>
          <a:xfrm flipH="1">
            <a:off x="7038360" y="3201480"/>
            <a:ext cx="570600" cy="761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" name=""/>
          <p:cNvCxnSpPr>
            <a:stCxn id="66" idx="4"/>
            <a:endCxn id="70" idx="0"/>
          </p:cNvCxnSpPr>
          <p:nvPr/>
        </p:nvCxnSpPr>
        <p:spPr>
          <a:xfrm flipH="1">
            <a:off x="7921440" y="3267000"/>
            <a:ext cx="27360" cy="61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67" idx="4"/>
            <a:endCxn id="64" idx="0"/>
          </p:cNvCxnSpPr>
          <p:nvPr/>
        </p:nvCxnSpPr>
        <p:spPr>
          <a:xfrm flipH="1">
            <a:off x="4250880" y="4181400"/>
            <a:ext cx="45360" cy="54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"/>
          <p:cNvCxnSpPr>
            <a:stCxn id="68" idx="3"/>
            <a:endCxn id="71" idx="0"/>
          </p:cNvCxnSpPr>
          <p:nvPr/>
        </p:nvCxnSpPr>
        <p:spPr>
          <a:xfrm flipH="1">
            <a:off x="5059440" y="4039920"/>
            <a:ext cx="133560" cy="608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68" idx="4"/>
            <a:endCxn id="72" idx="0"/>
          </p:cNvCxnSpPr>
          <p:nvPr/>
        </p:nvCxnSpPr>
        <p:spPr>
          <a:xfrm>
            <a:off x="5567040" y="4105440"/>
            <a:ext cx="237240" cy="54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68" idx="5"/>
            <a:endCxn id="73" idx="0"/>
          </p:cNvCxnSpPr>
          <p:nvPr/>
        </p:nvCxnSpPr>
        <p:spPr>
          <a:xfrm>
            <a:off x="5940000" y="4039920"/>
            <a:ext cx="506880" cy="608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"/>
          <p:cNvCxnSpPr>
            <a:stCxn id="71" idx="4"/>
            <a:endCxn id="74" idx="0"/>
          </p:cNvCxnSpPr>
          <p:nvPr/>
        </p:nvCxnSpPr>
        <p:spPr>
          <a:xfrm flipH="1">
            <a:off x="4809240" y="5095440"/>
            <a:ext cx="250200" cy="3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72" idx="4"/>
            <a:endCxn id="75" idx="0"/>
          </p:cNvCxnSpPr>
          <p:nvPr/>
        </p:nvCxnSpPr>
        <p:spPr>
          <a:xfrm flipH="1">
            <a:off x="5776200" y="5095440"/>
            <a:ext cx="27720" cy="3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" name=""/>
          <p:cNvCxnSpPr>
            <a:stCxn id="73" idx="4"/>
            <a:endCxn id="76" idx="0"/>
          </p:cNvCxnSpPr>
          <p:nvPr/>
        </p:nvCxnSpPr>
        <p:spPr>
          <a:xfrm>
            <a:off x="6446520" y="5095440"/>
            <a:ext cx="173880" cy="467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69" idx="4"/>
            <a:endCxn id="77" idx="0"/>
          </p:cNvCxnSpPr>
          <p:nvPr/>
        </p:nvCxnSpPr>
        <p:spPr>
          <a:xfrm>
            <a:off x="7038720" y="4410000"/>
            <a:ext cx="143640" cy="54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70" idx="4"/>
            <a:endCxn id="78" idx="0"/>
          </p:cNvCxnSpPr>
          <p:nvPr/>
        </p:nvCxnSpPr>
        <p:spPr>
          <a:xfrm>
            <a:off x="7921800" y="4334040"/>
            <a:ext cx="8640" cy="390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>
            <a:off x="8215920" y="4100760"/>
            <a:ext cx="95976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ph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198280" y="5015160"/>
            <a:ext cx="97704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34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66" idx="5"/>
            <a:endCxn id="94" idx="0"/>
          </p:cNvCxnSpPr>
          <p:nvPr/>
        </p:nvCxnSpPr>
        <p:spPr>
          <a:xfrm>
            <a:off x="8287920" y="3201840"/>
            <a:ext cx="408600" cy="91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4" idx="4"/>
            <a:endCxn id="95" idx="0"/>
          </p:cNvCxnSpPr>
          <p:nvPr/>
        </p:nvCxnSpPr>
        <p:spPr>
          <a:xfrm flipH="1">
            <a:off x="8686440" y="4562640"/>
            <a:ext cx="10080" cy="467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3627720" y="3338640"/>
            <a:ext cx="47880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imes New Roman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322080" y="4253040"/>
            <a:ext cx="8326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55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65" idx="2"/>
            <a:endCxn id="98" idx="7"/>
          </p:cNvCxnSpPr>
          <p:nvPr/>
        </p:nvCxnSpPr>
        <p:spPr>
          <a:xfrm flipH="1">
            <a:off x="4014000" y="2738160"/>
            <a:ext cx="1167480" cy="68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8" idx="3"/>
            <a:endCxn id="99" idx="0"/>
          </p:cNvCxnSpPr>
          <p:nvPr/>
        </p:nvCxnSpPr>
        <p:spPr>
          <a:xfrm>
            <a:off x="3719160" y="3735000"/>
            <a:ext cx="19800" cy="53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2" name=""/>
          <p:cNvGrpSpPr/>
          <p:nvPr/>
        </p:nvGrpSpPr>
        <p:grpSpPr>
          <a:xfrm>
            <a:off x="3925440" y="1523880"/>
            <a:ext cx="5067360" cy="4701600"/>
            <a:chOff x="3925440" y="1523880"/>
            <a:chExt cx="5067360" cy="4701600"/>
          </a:xfrm>
        </p:grpSpPr>
        <p:sp>
          <p:nvSpPr>
            <p:cNvPr id="103" name=""/>
            <p:cNvSpPr/>
            <p:nvPr/>
          </p:nvSpPr>
          <p:spPr>
            <a:xfrm>
              <a:off x="7890120" y="1523880"/>
              <a:ext cx="1102680" cy="739080"/>
            </a:xfrm>
            <a:prstGeom prst="wedgeEllipseCallout">
              <a:avLst>
                <a:gd name="adj1" fmla="val -37958"/>
                <a:gd name="adj2" fmla="val 114361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lement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683840" y="5486400"/>
              <a:ext cx="752040" cy="739080"/>
            </a:xfrm>
            <a:prstGeom prst="wedgeEllipseCallout">
              <a:avLst>
                <a:gd name="adj1" fmla="val -115884"/>
                <a:gd name="adj2" fmla="val -15194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ext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925440" y="1752480"/>
              <a:ext cx="1176840" cy="739080"/>
            </a:xfrm>
            <a:prstGeom prst="wedgeEllipseCallout">
              <a:avLst>
                <a:gd name="adj1" fmla="val -52324"/>
                <a:gd name="adj2" fmla="val 152819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ttribut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4325760" y="6213600"/>
            <a:ext cx="225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Order matters 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CEBD-9EDE-4EBA-B800-E576868E353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is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self-describ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ema elements become part of th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tional schema: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ersons(name,phon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XML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ers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,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,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are part of the data, and are repeated many ti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equence: XML is much more flex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=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semistructur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B747-713C-4D5A-B963-C494921F320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90400" y="151200"/>
            <a:ext cx="5661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al Data as X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114800" y="3962160"/>
            <a:ext cx="4681440" cy="283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&gt; &lt;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John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3634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&gt; &lt;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Sue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6343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Dick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6363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47760" y="2060640"/>
          <a:ext cx="4029120" cy="427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7760" y="2060640"/>
                    <a:ext cx="4029120" cy="42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 flipH="1">
            <a:off x="5459400" y="1752480"/>
            <a:ext cx="9907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450120" y="1752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450120" y="1752480"/>
            <a:ext cx="9903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938480" y="2313000"/>
            <a:ext cx="5331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72000" y="231300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6081840" y="2313000"/>
            <a:ext cx="3808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450120" y="2286000"/>
            <a:ext cx="31752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7071840" y="2313000"/>
            <a:ext cx="381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453440" y="2313000"/>
            <a:ext cx="5331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82920" y="2184480"/>
            <a:ext cx="4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r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7320" y="2184480"/>
            <a:ext cx="4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r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164000" y="2184480"/>
            <a:ext cx="4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r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6400" y="3048120"/>
            <a:ext cx="6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92040" y="3048120"/>
            <a:ext cx="6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87320" y="3048120"/>
            <a:ext cx="6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81480" y="304812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400800" y="304812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848720" y="297180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481280" y="332568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hn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43760" y="33256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3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777280" y="3325680"/>
            <a:ext cx="61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996600" y="3325680"/>
            <a:ext cx="64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ck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463080" y="33256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34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911000" y="33256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36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440" y="1349280"/>
            <a:ext cx="126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29000" y="14130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943240" y="1574640"/>
            <a:ext cx="72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er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84EC-A128-44F5-859E-7010B0EA850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is Semi-structured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ssing attribu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ld represent i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able with nul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433240" y="2514600"/>
            <a:ext cx="3737880" cy="192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John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1234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Joe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1720" y="3962520"/>
            <a:ext cx="159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phone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5791320" y="4876920"/>
          <a:ext cx="2133360" cy="1295280"/>
        </p:xfrm>
        <a:graphic>
          <a:graphicData uri="http://schemas.openxmlformats.org/drawingml/2006/table">
            <a:tbl>
              <a:tblPr/>
              <a:tblGrid>
                <a:gridCol w="1066680"/>
                <a:gridCol w="1066680"/>
              </a:tblGrid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ph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243A-03AB-4BC7-B5EE-0BCF67856AE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Administrator</cp:lastModifiedBy>
  <dcterms:modified xsi:type="dcterms:W3CDTF">2002-10-25T01:28:48Z</dcterms:modified>
  <cp:revision>105</cp:revision>
  <dc:subject/>
  <dc:title>Lecture 09: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05518041</vt:r8>
  </property>
  <property fmtid="{D5CDD505-2E9C-101B-9397-08002B2CF9AE}" pid="3" name="_AuthorEmail">
    <vt:lpwstr>suciu@cs.washington.edu</vt:lpwstr>
  </property>
  <property fmtid="{D5CDD505-2E9C-101B-9397-08002B2CF9AE}" pid="4" name="_AuthorEmailDisplayName">
    <vt:lpwstr>Dan Suciu</vt:lpwstr>
  </property>
  <property fmtid="{D5CDD505-2E9C-101B-9397-08002B2CF9AE}" pid="5" name="_EmailSubject">
    <vt:lpwstr>lecture12</vt:lpwstr>
  </property>
</Properties>
</file>