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40DC-D803-4566-AA86-7D3400922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1370-3651-46C2-94EB-2281C5458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0800" y="4341960"/>
            <a:ext cx="50338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C4B-C0CE-4EA0-8647-0B0EA499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BE2-3594-4D72-ABBE-E8098566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3EC8-3A73-4E2D-9800-EF8EDE58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1F0-3012-4B9B-9DAE-9F92B8B0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D1E-8512-4E3D-8376-BCAA1185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3EC-371D-45B0-A264-B2431029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C94E-38B8-4EF7-B039-D04103D9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1F4-951D-4020-80E3-A47A8B23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DB7-FA43-45BC-9BAA-BCEF4DDE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D9A-13D7-4EEC-9537-D3E67E29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44EA-133E-4E58-8471-EBFFD1F3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608-78D2-43C8-9DD8-053B6FD9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A21C-AA87-421A-94DD-158CE5236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, XPath,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25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B0E-8C4D-4345-B1E3-8095960E74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3600" y="2590920"/>
            <a:ext cx="36100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95400" y="312408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419720" y="5105520"/>
          <a:ext cx="320040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06704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7925400" y="5486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C96-5701-4C29-92E8-EFF9A66912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93960" y="274320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 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3A6-7DF5-40CB-ADFB-2D6CB87EAE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 Type Defini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the original XML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XML document may have a 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ocu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-form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if tags are correctly 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f it has a DTD and conforms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is useful in data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955-3B5B-455E-A51F-FC52E290A3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4320" y="2057400"/>
            <a:ext cx="711396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864-1812-449A-AA44-9B3F98DF79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17960" y="2209680"/>
            <a:ext cx="455904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56789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432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987654321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im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123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... 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5120" y="16416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valid X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1C0-961F-4ED0-B1D8-D8469CEAF5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The Cont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= a regular expression over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-only = #PC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= 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=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ed content = (#PCDATA | A | B | C)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41040" y="1905120"/>
            <a:ext cx="4779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9040" y="2590920"/>
            <a:ext cx="1215720" cy="912600"/>
          </a:xfrm>
          <a:prstGeom prst="wedgeEllipseCallout">
            <a:avLst>
              <a:gd name="adj1" fmla="val -78328"/>
              <a:gd name="adj2" fmla="val -7050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7E9-0715-48F7-86C2-FDEE423F04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Regula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3040" y="2514600"/>
            <a:ext cx="3821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78120" y="2514600"/>
            <a:ext cx="297756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440" y="4038480"/>
            <a:ext cx="4642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irstNam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20800" y="1600200"/>
            <a:ext cx="1144800" cy="652680"/>
          </a:xfrm>
          <a:prstGeom prst="wedgeEllipseCallout">
            <a:avLst>
              <a:gd name="adj1" fmla="val -2500"/>
              <a:gd name="adj2" fmla="val 87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78240" y="1600200"/>
            <a:ext cx="1218240" cy="652680"/>
          </a:xfrm>
          <a:prstGeom prst="wedgeEllipseCallout">
            <a:avLst>
              <a:gd name="adj1" fmla="val -5245"/>
              <a:gd name="adj2" fmla="val 1141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800" y="5105520"/>
            <a:ext cx="4057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, phone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400" y="202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4680" y="3546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9160" y="6172200"/>
            <a:ext cx="4725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, (phone|emai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520" y="46483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eene 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3120" y="571500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274320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51055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1840" y="4419720"/>
            <a:ext cx="244116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. 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DAE-47AB-4C72-947F-60DB5195EF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= simple navigation through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 = the SQL of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T = recursive tra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no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78F-D4E5-440F-B3D4-3EBA0CB4F2F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7680" y="1645920"/>
            <a:ext cx="7616880" cy="50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ddison-Wesley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Principles of Database and Knowledge Base Syst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8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830-E0ED-45DA-8FCF-774A584369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 for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848040" y="1981080"/>
            <a:ext cx="609840" cy="1524240"/>
            <a:chOff x="3848040" y="1981080"/>
            <a:chExt cx="609840" cy="1524240"/>
          </a:xfrm>
        </p:grpSpPr>
        <p:sp>
          <p:nvSpPr>
            <p:cNvPr id="187" name=""/>
            <p:cNvSpPr/>
            <p:nvPr/>
          </p:nvSpPr>
          <p:spPr>
            <a:xfrm>
              <a:off x="3848040" y="19810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48040" y="28954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48006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120" y="4800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20004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209680" y="4343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4343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71800" y="4917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1800" y="59436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ddison-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440" y="5943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00920" y="2057400"/>
            <a:ext cx="1223640" cy="459720"/>
          </a:xfrm>
          <a:prstGeom prst="wedgeRectCallout">
            <a:avLst>
              <a:gd name="adj1" fmla="val -182763"/>
              <a:gd name="adj2" fmla="val -12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2560" y="3048120"/>
            <a:ext cx="2267280" cy="459720"/>
          </a:xfrm>
          <a:prstGeom prst="wedgeRectCallout">
            <a:avLst>
              <a:gd name="adj1" fmla="val -109736"/>
              <a:gd name="adj2" fmla="val -2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8DF-0624-405F-A6EB-2F1054A9EA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: syntax, semantics, data, DT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ly recommended read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java.sun.com/webservices/docs/ea2/tutorial/doc/JAXPXSLT2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w3.org/TR/xmlquery-use-cases/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xmlportfolio.com/xquery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A46-44EF-447E-8FFA-E744BEB59D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imple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8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empty          (there were no pap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9400" y="1752480"/>
            <a:ext cx="22579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9360" y="4038480"/>
            <a:ext cx="26496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paper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E4B-CBB7-4248-9E81-ADA41A1F04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Restricted Kleene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erge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ctor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effrey D. Ullma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2760" y="1828800"/>
            <a:ext cx="128880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/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840" y="5513400"/>
            <a:ext cx="2084040" cy="4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/first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E0E-76CA-45D5-84CE-BFD52CAC95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Text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ge Abitebo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ffrey D. Ull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ck Hull doesn’t appear because he has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in XPa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= matches the tex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od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matches any node (= * or @* or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am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turns the name of the current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1905120"/>
            <a:ext cx="34268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/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588B-8545-4C44-BF23-AB5A938C26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Wild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tches any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8000" y="2011320"/>
            <a:ext cx="1765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/author/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C2A-D364-4CE1-9781-4ED4AE8360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Attribute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“5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at price is has to be a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7600" y="1828800"/>
            <a:ext cx="3047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/@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D37-347D-4957-9E3A-DC06ED2D92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4280" y="1905120"/>
            <a:ext cx="4137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[firstnam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C2C3-6759-4884-B784-187DC44114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4840" y="2209680"/>
            <a:ext cx="7279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[//zip][city]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C36-98BD-4A9A-956E-F5AC3D329D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3680" y="2286000"/>
            <a:ext cx="44114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@price &lt; “60”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1880" y="3657600"/>
            <a:ext cx="5318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@age &lt; “25”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4040" y="5105520"/>
            <a:ext cx="40532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14B-F12B-48F7-9C57-93CDB35E9B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550280" cy="48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ny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the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 unde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t any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paper at any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per|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book/@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book/[@price&lt;“55”]/author/lastnam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9EF1-48AF-43F8-BE99-1CC9E70498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Quilt, which is based on XML-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XPath to express more complex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05A-7C04-4BEC-AB27-FFC7FC699EF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752480"/>
            <a:ext cx="8310600" cy="30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ar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brv.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ML document: sing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07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3F09-EFB0-4825-BE4F-F7D4587421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WR (“Flower”)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2819520"/>
            <a:ext cx="3429000" cy="23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40B-DB68-4D1A-AFE7-B3D9A55613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published after 199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6160" y="2895480"/>
            <a:ext cx="539784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03600" y="4876920"/>
            <a:ext cx="271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F2E-DA6B-4B2B-9FFA-E3B853611C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 titles by the coauthors of “Database Theory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200" y="3200400"/>
            <a:ext cx="7679520" cy="13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]/auth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13360" y="5105520"/>
            <a:ext cx="375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6600" y="5562720"/>
            <a:ext cx="25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he answer will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contain duplicat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154F-0ED8-4149-B3B6-12D017BD57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, but eliminate duplic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200" y="3200400"/>
            <a:ext cx="7679520" cy="13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]/auth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3360" y="5105520"/>
            <a:ext cx="375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3280" y="541008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57B-176E-4D14-A01D-A2CF00DF28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: N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 of a book by Morgan Kaufmann, list all books sh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6240" y="2971800"/>
            <a:ext cx="726120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Morgan Kaufmann”]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t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112-A854-482F-8455-96256BB2FD3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91328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Jones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6160" y="1371600"/>
            <a:ext cx="118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E90D-9303-47B8-A7C7-19EE8696229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xpr  -- bind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value in the list exp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xpr   -- bind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entire list exp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for common subexpressions and for aggre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24B-7A48-4479-9747-2AC0309D5F7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3480" y="5181480"/>
            <a:ext cx="86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a (aggregate) function that returns the number of el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38320" y="1828800"/>
            <a:ext cx="6873840" cy="271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big_publisher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Arial Unicode MS"/>
                <a:ea typeface="Courier New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:= document("bib.xml")/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= 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Arial Unicode MS"/>
                <a:ea typeface="Courier New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) &gt; 1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{ 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big_publisher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0DA-4FBB-4573-8747-D7F87B5A80D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s whose price is larger than ave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760" y="2971800"/>
            <a:ext cx="5656320" cy="178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cument("bib.xml"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cument("bib.xml"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DB9-87D5-4255-9413-F5519BCF373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-LET-WHERE-RETURN  = FL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37480" y="3492360"/>
            <a:ext cx="203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/LET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320" y="459432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02280" y="5726160"/>
            <a:ext cx="190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54480" y="4021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54480" y="51465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75960" y="39546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75960" y="5195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77040" y="624852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 of Xquery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9C1-900F-4DC8-8A69-3DF703E6A39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94600" cy="40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080" y="565452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ttributes are alternative ways to re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446-99F8-4467-9A54-682785CF98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de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6F2-40B1-4916-813F-82303D84732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120" y="2438280"/>
            <a:ext cx="575604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83480" y="2286000"/>
            <a:ext cx="32572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040" y="4343400"/>
            <a:ext cx="5722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38800" y="4343400"/>
            <a:ext cx="25210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BD8E-42C1-41C6-A958-E1D21925880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and unordered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an ordered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(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an unordered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llection (several author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0200" y="4873680"/>
            <a:ext cx="537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78320" y="4648320"/>
            <a:ext cx="2743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0B8-66EB-47DB-853F-656E0BAF78F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collections in expressions 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st of n pr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0.7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st of n numb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st of n x m numbers ?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315-C758-4635-A1BE-59AD113BFEF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6720" y="1905120"/>
            <a:ext cx="76914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Courier New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DESCEN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DD4-BD56-45ED-81B1-CB17AFBB363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96120" y="2057400"/>
            <a:ext cx="459324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N 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@type = "Journal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edi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94E8-56E1-44EC-AC3F-FD79D88B21C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03800" y="2209680"/>
            <a:ext cx="6148800" cy="26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sailing"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windsurfing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96B-4E9C-4D94-AC9E-DEA540F34DA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54760" y="2362320"/>
            <a:ext cx="575784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sailing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C11-D10E-45F2-A703-A5BA023EDAF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tuff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ealing with order in the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s some edges in the result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v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: arbitrary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more restrictions in the fu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24A-24B7-47C2-A962-3003D3167A7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0" y="464040"/>
            <a:ext cx="311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365960" cy="39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an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 o555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”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5400" y="588636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ids and references in XML are jus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D7C-2412-4278-980F-C740F4F2EA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emantics: a Tre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228600" y="2133720"/>
            <a:ext cx="3849840" cy="391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 </a:t>
            </a: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“o555”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Maple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345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Thailand 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23456 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61120" y="1974960"/>
            <a:ext cx="733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4710240"/>
            <a:ext cx="9424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51600" y="250056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37600" y="280512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57760" y="37195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07960" y="36435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00960" y="39481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62360" y="38721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20600" y="46339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32480" y="4633920"/>
            <a:ext cx="543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03440" y="4633920"/>
            <a:ext cx="68652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90480" y="5472360"/>
            <a:ext cx="1037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33120" y="5472360"/>
            <a:ext cx="687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77880" y="5548320"/>
            <a:ext cx="1082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50360" y="4938840"/>
            <a:ext cx="8632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14640" y="4710240"/>
            <a:ext cx="8301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3" idx="3"/>
            <a:endCxn id="65" idx="7"/>
          </p:cNvCxnSpPr>
          <p:nvPr/>
        </p:nvCxnSpPr>
        <p:spPr>
          <a:xfrm flipH="1">
            <a:off x="6001920" y="2371680"/>
            <a:ext cx="38664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63" idx="5"/>
            <a:endCxn id="66" idx="1"/>
          </p:cNvCxnSpPr>
          <p:nvPr/>
        </p:nvCxnSpPr>
        <p:spPr>
          <a:xfrm>
            <a:off x="6867360" y="2371680"/>
            <a:ext cx="74232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5" idx="3"/>
            <a:endCxn id="67" idx="7"/>
          </p:cNvCxnSpPr>
          <p:nvPr/>
        </p:nvCxnSpPr>
        <p:spPr>
          <a:xfrm flipH="1">
            <a:off x="4583880" y="2897280"/>
            <a:ext cx="739080" cy="90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5" idx="4"/>
            <a:endCxn id="68" idx="0"/>
          </p:cNvCxnSpPr>
          <p:nvPr/>
        </p:nvCxnSpPr>
        <p:spPr>
          <a:xfrm flipH="1">
            <a:off x="5567040" y="2962080"/>
            <a:ext cx="9576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6" idx="3"/>
            <a:endCxn id="69" idx="0"/>
          </p:cNvCxnSpPr>
          <p:nvPr/>
        </p:nvCxnSpPr>
        <p:spPr>
          <a:xfrm flipH="1">
            <a:off x="7038360" y="3201480"/>
            <a:ext cx="57060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6" idx="4"/>
            <a:endCxn id="70" idx="0"/>
          </p:cNvCxnSpPr>
          <p:nvPr/>
        </p:nvCxnSpPr>
        <p:spPr>
          <a:xfrm flipH="1">
            <a:off x="7921440" y="3267000"/>
            <a:ext cx="2736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7" idx="4"/>
            <a:endCxn id="64" idx="0"/>
          </p:cNvCxnSpPr>
          <p:nvPr/>
        </p:nvCxnSpPr>
        <p:spPr>
          <a:xfrm flipH="1">
            <a:off x="4250880" y="4181400"/>
            <a:ext cx="4536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68" idx="3"/>
            <a:endCxn id="71" idx="0"/>
          </p:cNvCxnSpPr>
          <p:nvPr/>
        </p:nvCxnSpPr>
        <p:spPr>
          <a:xfrm flipH="1">
            <a:off x="5059440" y="4039920"/>
            <a:ext cx="13356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8" idx="4"/>
            <a:endCxn id="72" idx="0"/>
          </p:cNvCxnSpPr>
          <p:nvPr/>
        </p:nvCxnSpPr>
        <p:spPr>
          <a:xfrm>
            <a:off x="5567040" y="4105440"/>
            <a:ext cx="2372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8" idx="5"/>
            <a:endCxn id="73" idx="0"/>
          </p:cNvCxnSpPr>
          <p:nvPr/>
        </p:nvCxnSpPr>
        <p:spPr>
          <a:xfrm>
            <a:off x="5940000" y="4039920"/>
            <a:ext cx="50688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1" idx="4"/>
            <a:endCxn id="74" idx="0"/>
          </p:cNvCxnSpPr>
          <p:nvPr/>
        </p:nvCxnSpPr>
        <p:spPr>
          <a:xfrm flipH="1">
            <a:off x="4809240" y="5095440"/>
            <a:ext cx="25020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2" idx="4"/>
            <a:endCxn id="75" idx="0"/>
          </p:cNvCxnSpPr>
          <p:nvPr/>
        </p:nvCxnSpPr>
        <p:spPr>
          <a:xfrm flipH="1">
            <a:off x="5776200" y="5095440"/>
            <a:ext cx="2772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3" idx="4"/>
            <a:endCxn id="76" idx="0"/>
          </p:cNvCxnSpPr>
          <p:nvPr/>
        </p:nvCxnSpPr>
        <p:spPr>
          <a:xfrm>
            <a:off x="6446520" y="5095440"/>
            <a:ext cx="17388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69" idx="4"/>
            <a:endCxn id="77" idx="0"/>
          </p:cNvCxnSpPr>
          <p:nvPr/>
        </p:nvCxnSpPr>
        <p:spPr>
          <a:xfrm>
            <a:off x="7038720" y="4410000"/>
            <a:ext cx="1436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0" idx="4"/>
            <a:endCxn id="78" idx="0"/>
          </p:cNvCxnSpPr>
          <p:nvPr/>
        </p:nvCxnSpPr>
        <p:spPr>
          <a:xfrm>
            <a:off x="7921800" y="4334040"/>
            <a:ext cx="8640" cy="39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8215920" y="4100760"/>
            <a:ext cx="9597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98280" y="5015160"/>
            <a:ext cx="977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34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66" idx="5"/>
            <a:endCxn id="94" idx="0"/>
          </p:cNvCxnSpPr>
          <p:nvPr/>
        </p:nvCxnSpPr>
        <p:spPr>
          <a:xfrm>
            <a:off x="8287920" y="3201840"/>
            <a:ext cx="40860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4" idx="4"/>
            <a:endCxn id="95" idx="0"/>
          </p:cNvCxnSpPr>
          <p:nvPr/>
        </p:nvCxnSpPr>
        <p:spPr>
          <a:xfrm flipH="1">
            <a:off x="8686440" y="4562640"/>
            <a:ext cx="1008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3627720" y="3338640"/>
            <a:ext cx="47880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22080" y="4253040"/>
            <a:ext cx="832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5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65" idx="2"/>
            <a:endCxn id="98" idx="7"/>
          </p:cNvCxnSpPr>
          <p:nvPr/>
        </p:nvCxnSpPr>
        <p:spPr>
          <a:xfrm flipH="1">
            <a:off x="4014000" y="2738160"/>
            <a:ext cx="1167480" cy="68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8" idx="3"/>
            <a:endCxn id="99" idx="0"/>
          </p:cNvCxnSpPr>
          <p:nvPr/>
        </p:nvCxnSpPr>
        <p:spPr>
          <a:xfrm>
            <a:off x="3719160" y="3735000"/>
            <a:ext cx="1980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2" name=""/>
          <p:cNvGrpSpPr/>
          <p:nvPr/>
        </p:nvGrpSpPr>
        <p:grpSpPr>
          <a:xfrm>
            <a:off x="3925440" y="1523880"/>
            <a:ext cx="5067360" cy="4701600"/>
            <a:chOff x="3925440" y="1523880"/>
            <a:chExt cx="5067360" cy="4701600"/>
          </a:xfrm>
        </p:grpSpPr>
        <p:sp>
          <p:nvSpPr>
            <p:cNvPr id="103" name=""/>
            <p:cNvSpPr/>
            <p:nvPr/>
          </p:nvSpPr>
          <p:spPr>
            <a:xfrm>
              <a:off x="7890120" y="1523880"/>
              <a:ext cx="1102680" cy="739080"/>
            </a:xfrm>
            <a:prstGeom prst="wedgeEllipseCallout">
              <a:avLst>
                <a:gd name="adj1" fmla="val -37958"/>
                <a:gd name="adj2" fmla="val 1143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83840" y="5486400"/>
              <a:ext cx="752040" cy="739080"/>
            </a:xfrm>
            <a:prstGeom prst="wedgeEllipseCallout">
              <a:avLst>
                <a:gd name="adj1" fmla="val -115884"/>
                <a:gd name="adj2" fmla="val -1519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25440" y="1752480"/>
              <a:ext cx="1176840" cy="739080"/>
            </a:xfrm>
            <a:prstGeom prst="wedgeEllipseCallout">
              <a:avLst>
                <a:gd name="adj1" fmla="val -52324"/>
                <a:gd name="adj2" fmla="val 15281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325760" y="621360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Order matter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AAF-214A-47B0-B320-5BA27BAE15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D96A-84EB-46FF-8A00-016EA8F233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90400" y="151200"/>
            <a:ext cx="5661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Data as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14800" y="3962160"/>
            <a:ext cx="46814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7760" y="2060640"/>
          <a:ext cx="4029120" cy="42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2060640"/>
                    <a:ext cx="402912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640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2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73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8128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4376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7728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630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110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440" y="134928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240" y="157464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27E-771B-4FC6-847C-9275BFC29B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present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with nu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3240" y="2514600"/>
            <a:ext cx="37378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1720" y="3962520"/>
            <a:ext cx="15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791320" y="4876920"/>
          <a:ext cx="213336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321-F5C3-481A-9F9D-688928556B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0-25T01:28:48Z</dcterms:modified>
  <cp:revision>105</cp:revision>
  <dc:subject/>
  <dc:title>Lecture 09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5518041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12</vt:lpwstr>
  </property>
</Properties>
</file>