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78C-86A2-4EF6-8DA8-4ADB9C41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terprise systems: 3-tier, strongly typ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tributed Object Technology (DCOM, CORB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b applications: multi-tier, loosely typ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mplicity wins : exploit XML’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common ill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ess data 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ultiple sourc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varied platform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ross many enterpri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mand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rtals demanding query support from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B31-245D-45A8-A571-C710ED3D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A1D-6D16-41CE-B444-670E594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FB6-7EBF-495E-A0D7-8E0CAA84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434-E014-4D61-887D-10446586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083-CA20-4195-A603-8042D250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5C6-13C4-4C4D-8E70-CB95A30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66A-287D-4324-A239-24BC624A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968-9068-4053-A63C-0EA0DCC6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C82-BBAC-49B9-8374-1C25DC6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F79-07C2-49E4-881D-FB97C2CA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D40-DBF5-4B66-B4FF-9814FF9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168-FF35-4216-ABBF-FBDB533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004-7F74-469F-8D93-D76FCEE7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3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A3A-FECA-48BE-97BE-4134A88D49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8D6-669E-45EF-B7E9-F8B03312D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C7B-1D29-4E26-8D90-E5DC28685E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064-B938-49F2-A951-69C16DE535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8" idx="6"/>
            <a:endCxn id="169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27944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36560" y="4876920"/>
            <a:ext cx="6720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5368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68400" y="59119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8320" y="6267600"/>
            <a:ext cx="345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8F6-FA02-48C4-A43A-9B75F0C6A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9852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1732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9880" y="3581280"/>
            <a:ext cx="1707120" cy="461160"/>
            <a:chOff x="3809880" y="3581280"/>
            <a:chExt cx="1707120" cy="461160"/>
          </a:xfrm>
        </p:grpSpPr>
        <p:sp>
          <p:nvSpPr>
            <p:cNvPr id="187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472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190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2057400"/>
            <a:ext cx="1729800" cy="461160"/>
            <a:chOff x="3352680" y="2057400"/>
            <a:chExt cx="1729800" cy="461160"/>
          </a:xfrm>
        </p:grpSpPr>
        <p:sp>
          <p:nvSpPr>
            <p:cNvPr id="193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3572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358-AA76-4AFC-8643-D5921AFAD1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384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2A5-32A4-4F7C-8F38-9ED204EE1B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704-AEC0-43DA-B8F5-7EAE4401F8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DA6-0910-47F0-A2AA-B183BAFF0B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XML is of Interest to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just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we have no syntax for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xciting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ans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o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hip XML over the Web (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put XML into an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: data sharing and exchange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AD3-2856-4C81-82B8-25A2DDDA8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35040" y="304560"/>
            <a:ext cx="8051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 Sharing and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514600"/>
            <a:ext cx="7543800" cy="2666880"/>
          </a:xfrm>
          <a:custGeom>
            <a:avLst/>
            <a:gdLst>
              <a:gd name="textAreaLeft" fmla="*/ 0 w 7543800"/>
              <a:gd name="textAreaRight" fmla="*/ 7544160 w 7543800"/>
              <a:gd name="textAreaTop" fmla="*/ 485640 h 2666880"/>
              <a:gd name="textAreaBottom" fmla="*/ 218124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967"/>
                </a:moveTo>
                <a:cubicBezTo>
                  <a:pt x="7200" y="-5001"/>
                  <a:pt x="14400" y="8935"/>
                  <a:pt x="21600" y="1967"/>
                </a:cubicBezTo>
                <a:lnTo>
                  <a:pt x="21600" y="19633"/>
                </a:lnTo>
                <a:cubicBezTo>
                  <a:pt x="14400" y="26601"/>
                  <a:pt x="7200" y="12665"/>
                  <a:pt x="0" y="19633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19720" y="5562720"/>
            <a:ext cx="609480" cy="5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76720" y="1752480"/>
            <a:ext cx="609480" cy="5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781680" y="1752480"/>
            <a:ext cx="609840" cy="5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1981080" y="5029200"/>
            <a:ext cx="708120" cy="9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7086600" y="5181480"/>
            <a:ext cx="70812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3048120"/>
            <a:ext cx="152388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3962520"/>
            <a:ext cx="167652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/>
          <p:nvPr/>
        </p:nvCxnSpPr>
        <p:spPr>
          <a:xfrm flipV="1" rot="16200000">
            <a:off x="6729480" y="4394160"/>
            <a:ext cx="686520" cy="888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905120" y="3886200"/>
            <a:ext cx="19047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/>
          <p:nvPr/>
        </p:nvCxnSpPr>
        <p:spPr>
          <a:xfrm flipH="1" flipV="1" rot="5400000">
            <a:off x="2242080" y="4462560"/>
            <a:ext cx="610200" cy="523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endCxn id="224" idx="1"/>
          </p:cNvCxnSpPr>
          <p:nvPr/>
        </p:nvCxnSpPr>
        <p:spPr>
          <a:xfrm flipV="1">
            <a:off x="2819520" y="3314160"/>
            <a:ext cx="1296000" cy="572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2"/>
            <a:endCxn id="219" idx="0"/>
          </p:cNvCxnSpPr>
          <p:nvPr/>
        </p:nvCxnSpPr>
        <p:spPr>
          <a:xfrm rot="5400000">
            <a:off x="3809160" y="4495680"/>
            <a:ext cx="1982160" cy="15336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832400" y="17575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800" y="54100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9625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6720" y="31240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4038480"/>
            <a:ext cx="16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2680" y="3282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8400" y="32828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(H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4952880" y="1295280"/>
            <a:ext cx="685800" cy="990720"/>
          </a:xfrm>
          <a:prstGeom prst="rect">
            <a:avLst/>
          </a:prstGeom>
          <a:ln w="0">
            <a:noFill/>
          </a:ln>
        </p:spPr>
      </p:pic>
      <p:cxnSp>
        <p:nvCxnSpPr>
          <p:cNvPr id="239" name=""/>
          <p:cNvCxnSpPr>
            <a:endCxn id="224" idx="3"/>
          </p:cNvCxnSpPr>
          <p:nvPr/>
        </p:nvCxnSpPr>
        <p:spPr>
          <a:xfrm rot="10800000">
            <a:off x="5637960" y="3314160"/>
            <a:ext cx="991440" cy="6483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 flipH="1" flipV="1" rot="5400000">
            <a:off x="2389680" y="2732400"/>
            <a:ext cx="1583280" cy="724680"/>
          </a:xfrm>
          <a:prstGeom prst="bentConnector3">
            <a:avLst>
              <a:gd name="adj1" fmla="val 49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/>
          <p:nvPr/>
        </p:nvCxnSpPr>
        <p:spPr>
          <a:xfrm flipH="1" flipV="1" rot="5400000">
            <a:off x="6067080" y="2923560"/>
            <a:ext cx="1677240" cy="40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8" idx="2"/>
            <a:endCxn id="224" idx="0"/>
          </p:cNvCxnSpPr>
          <p:nvPr/>
        </p:nvCxnSpPr>
        <p:spPr>
          <a:xfrm rot="5400000">
            <a:off x="4704840" y="2457360"/>
            <a:ext cx="762840" cy="419760"/>
          </a:xfrm>
          <a:prstGeom prst="bentConnector3">
            <a:avLst>
              <a:gd name="adj1" fmla="val 633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3356280" y="51055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7400" y="1909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4200" y="5562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52280" y="2290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45080" y="618660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data management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0A5-D163-4124-A462-3FB2D31CA1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: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(5.2, 5.3, 5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readings for X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w3.org/XML/1999/XML-in-10-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zvon.org/xxl/XMLTutorial/General/book_e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250-AF14-4BAC-A63E-518B68483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7478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608-A553-4332-A886-A83F8F95C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8B4-7861-4833-ABF6-4582D5B7E9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F18-14F4-4841-8412-125E763E9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310600" cy="30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5FB-3375-4744-B97F-8FF5FEE5C7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08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000-D034-4EB2-85BE-9D7C9C2445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68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32D-FB3B-46F8-9A0A-8DC681184C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888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05A-C383-4851-A611-5225E1E6D1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196-FBF0-4F67-AA5C-F27088F66E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8280" y="3276720"/>
            <a:ext cx="725292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AB0-3076-4046-825F-EBC9C61401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BA7-EB8D-4A03-9DFF-BC8B5F37EF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7AC-644C-48B4-894B-5D46F772C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952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68A-89CF-48B5-9ED5-1A00FD32FB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164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9816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287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063-E779-47E9-AE04-876B817332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800" y="272880"/>
            <a:ext cx="8175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6880" y="1447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DFB-63C9-46B0-B1F7-31E9C00056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E8C-8310-40C5-9458-99CCBB2AE6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A9A-DDC3-42E6-8159-CE4BD2F1FC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0B2-0A4D-47B6-BF93-95671CD9F0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53B-9393-4E97-8A26-1B94ACD581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DC6-A1B1-4212-A247-AF1AA584DF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00E-3524-4443-8DA8-AFA056487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⋈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CDF-2011-4FCA-8FF3-A6D635A51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8560" y="4191120"/>
            <a:ext cx="7674480" cy="782280"/>
            <a:chOff x="538560" y="4191120"/>
            <a:chExt cx="7674480" cy="782280"/>
          </a:xfrm>
        </p:grpSpPr>
        <p:sp>
          <p:nvSpPr>
            <p:cNvPr id="149" name=""/>
            <p:cNvSpPr/>
            <p:nvPr/>
          </p:nvSpPr>
          <p:spPr>
            <a:xfrm>
              <a:off x="53856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AAA-3D81-43B8-B4EC-F8791F976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22F-9AB3-4239-9D49-1B43746B7F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5C4-05D5-4F0B-87CB-98FCC7626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3T02:23:44Z</dcterms:modified>
  <cp:revision>67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743368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1, hw3</vt:lpwstr>
  </property>
</Properties>
</file>