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6D6BC-A69B-401F-AB56-6C0657CFF1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nterprise systems: 3-tier, strongly typ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istributed Object Technology (DCOM, CORB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eb applications: multi-tier, loosely typed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implicity wins : exploit XML’s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common illu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ccess data fr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ultiple sources,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n varied platforms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cross many enterpris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emand standar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ortals demanding query support from provid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3B8A-9148-4763-B064-FD3F7E32D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ADE9-04F7-4526-8E46-6283124BE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52D7-8BBC-42B2-84A1-F0704A95A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2C2E-A3DA-40EF-8D98-89F0189E6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9D4D-E1DC-40A1-B614-563E2B91A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2D0C-B1E9-47D8-9635-6B9FF745A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6F73-85B9-477E-ADAB-AB695DF5B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B965-C222-4CD6-9478-E9483E41A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0660-1D2C-4AE6-B6FE-6472CE4B0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F05D-179E-402B-A9C9-52CA653BE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1FF8-4587-4E53-8AFE-F57DFFC9E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7A41-D183-4938-958E-07FC8D80A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3BE9E-E703-4C65-A27A-EB6683E230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11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al Algebra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and Semistructured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dnesday, October 23,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4709-5D4C-40DD-97B9-F9166CA6D32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ta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join that involves a predic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2   =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R1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 any condi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9C33-FE0E-444F-88F4-D2B79578C04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q-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heta join wher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n equ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=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2   =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=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R1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loye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SSN=SS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penden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useful join in pract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29D8-5EDC-40B4-AB72-C77FA03370B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 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A1,…,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the attributes in 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loye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⋉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penden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6649-859A-4F2D-AADA-CB78BC42A79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joins in Distributed Datab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mijoins are used in distributed datab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219320" y="3581280"/>
          <a:ext cx="1904760" cy="730080"/>
        </p:xfrm>
        <a:graphic>
          <a:graphicData uri="http://schemas.openxmlformats.org/drawingml/2006/table">
            <a:tbl>
              <a:tblPr/>
              <a:tblGrid>
                <a:gridCol w="952560"/>
                <a:gridCol w="95220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.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.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5181480" y="3200400"/>
          <a:ext cx="2857680" cy="730080"/>
        </p:xfrm>
        <a:graphic>
          <a:graphicData uri="http://schemas.openxmlformats.org/drawingml/2006/table">
            <a:tbl>
              <a:tblPr/>
              <a:tblGrid>
                <a:gridCol w="952560"/>
                <a:gridCol w="952560"/>
                <a:gridCol w="95256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.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.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"/>
          <p:cNvSpPr/>
          <p:nvPr/>
        </p:nvSpPr>
        <p:spPr>
          <a:xfrm>
            <a:off x="838080" y="2743200"/>
            <a:ext cx="2667240" cy="2057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00600" y="2590920"/>
            <a:ext cx="3886200" cy="1904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0" name=""/>
          <p:cNvCxnSpPr>
            <a:stCxn id="168" idx="6"/>
            <a:endCxn id="169" idx="2"/>
          </p:cNvCxnSpPr>
          <p:nvPr/>
        </p:nvCxnSpPr>
        <p:spPr>
          <a:xfrm flipV="1">
            <a:off x="3505320" y="3542760"/>
            <a:ext cx="1296000" cy="229320"/>
          </a:xfrm>
          <a:prstGeom prst="bentConnector3">
            <a:avLst>
              <a:gd name="adj1" fmla="val 4998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71" name=""/>
          <p:cNvSpPr/>
          <p:nvPr/>
        </p:nvSpPr>
        <p:spPr>
          <a:xfrm>
            <a:off x="1279440" y="293688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loy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928480" y="255600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end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795120" y="377496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36560" y="4876920"/>
            <a:ext cx="6720120" cy="64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ploye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ssn=ss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ge&gt;7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endents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053680" y="5638680"/>
            <a:ext cx="39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S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ge&gt;7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enden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68400" y="5911920"/>
            <a:ext cx="248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= Employe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⋉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098320" y="6267600"/>
            <a:ext cx="3457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wer = 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pend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3657600" y="5867280"/>
            <a:ext cx="1295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657600" y="6248520"/>
            <a:ext cx="1295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6C04-678D-4EAF-A9F9-C52FBD5BF23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x RA Expre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5486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son         Purchase          Person          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898520" y="5029200"/>
            <a:ext cx="1647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ame=f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17320" y="5029200"/>
            <a:ext cx="1857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ame=giz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104960" y="4267080"/>
            <a:ext cx="903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p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122800" y="4267080"/>
            <a:ext cx="903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ss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3809880" y="3581280"/>
            <a:ext cx="1707120" cy="461160"/>
            <a:chOff x="3809880" y="3581280"/>
            <a:chExt cx="1707120" cy="461160"/>
          </a:xfrm>
        </p:grpSpPr>
        <p:sp>
          <p:nvSpPr>
            <p:cNvPr id="187" name=""/>
            <p:cNvSpPr/>
            <p:nvPr/>
          </p:nvSpPr>
          <p:spPr>
            <a:xfrm rot="16200000">
              <a:off x="3906000" y="3485160"/>
              <a:ext cx="193680" cy="385920"/>
            </a:xfrm>
            <a:prstGeom prst="flowChartCollat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194720" y="3705120"/>
              <a:ext cx="1322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eller-ssn=ss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6019920" y="2743200"/>
            <a:ext cx="1198080" cy="461160"/>
            <a:chOff x="6019920" y="2743200"/>
            <a:chExt cx="1198080" cy="461160"/>
          </a:xfrm>
        </p:grpSpPr>
        <p:sp>
          <p:nvSpPr>
            <p:cNvPr id="190" name=""/>
            <p:cNvSpPr/>
            <p:nvPr/>
          </p:nvSpPr>
          <p:spPr>
            <a:xfrm rot="16200000">
              <a:off x="6115680" y="2647080"/>
              <a:ext cx="193680" cy="385560"/>
            </a:xfrm>
            <a:prstGeom prst="flowChartCollat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401880" y="2867040"/>
              <a:ext cx="816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id=pi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352680" y="2057400"/>
            <a:ext cx="1729800" cy="461160"/>
            <a:chOff x="3352680" y="2057400"/>
            <a:chExt cx="1729800" cy="461160"/>
          </a:xfrm>
        </p:grpSpPr>
        <p:sp>
          <p:nvSpPr>
            <p:cNvPr id="193" name=""/>
            <p:cNvSpPr/>
            <p:nvPr/>
          </p:nvSpPr>
          <p:spPr>
            <a:xfrm rot="16200000">
              <a:off x="3448800" y="1961280"/>
              <a:ext cx="193680" cy="385920"/>
            </a:xfrm>
            <a:prstGeom prst="flowChartCollat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35720" y="2181240"/>
              <a:ext cx="1346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uyer-ssn=ss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3309480" y="1066680"/>
            <a:ext cx="1110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556272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762012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5562720" y="4876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7620120" y="49525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505320" y="4038480"/>
            <a:ext cx="53316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4038120" y="4038120"/>
            <a:ext cx="11430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4038480" y="3048120"/>
            <a:ext cx="19051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6324480" y="3048120"/>
            <a:ext cx="106704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3733920" y="2514240"/>
            <a:ext cx="22096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1600200" y="2514240"/>
            <a:ext cx="167652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3505320" y="1600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6057-423B-40D6-B33D-700D7BC36C1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rations on B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a set with repeated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perations need to be defined carefully on ba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a,b,b,c}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a,b,b,b,e,f,f}={a,a,b,b,b,b,b,c,e,f,f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a,b,b,b,c,c} – {b,c,c,c,d} = {a,b,b,d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: preserve the number of occur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: no duplicate elim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tesian product, join: no duplicate elim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ant ! Relational Engines work on bags, not sets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83840" y="6248520"/>
            <a:ext cx="38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ading assignment: 5.3 – 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45A1-05A4-4A88-80D7-337AB539B0E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lly: RA has Limitations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not compute “transitive closur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all direct and indirect relatives of F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not express in RA !!!  Need to write C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057400" y="2590920"/>
          <a:ext cx="4495680" cy="2508120"/>
        </p:xfrm>
        <a:graphic>
          <a:graphicData uri="http://schemas.openxmlformats.org/drawingml/2006/table">
            <a:tbl>
              <a:tblPr/>
              <a:tblGrid>
                <a:gridCol w="1498680"/>
                <a:gridCol w="1498680"/>
                <a:gridCol w="1498320"/>
              </a:tblGrid>
              <a:tr h="501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lationsh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t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us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ou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n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s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F4B4-CD42-4E60-A7C4-CCE2421D29F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ble Markup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1.0 – a recommendation from W3C, 19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ots: SGML (a very nasty languag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the roots: a format for sharing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AFEB-2105-4E2F-8A1E-DBB1C9CFDFA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XML is of Interest to 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is just syntax for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: we have no syntax for relational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XML is not relational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mistructu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exciting becaus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ransl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n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to X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ship XML over the Web (HTT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input XML into any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us: data sharing and exchange on the We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55CD-3849-4814-A18E-D0EEB38F70A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35040" y="304560"/>
            <a:ext cx="8051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Data Sharing and Excha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219320" y="2514600"/>
            <a:ext cx="7543800" cy="2666880"/>
          </a:xfrm>
          <a:custGeom>
            <a:avLst/>
            <a:gdLst>
              <a:gd name="textAreaLeft" fmla="*/ 0 w 7543800"/>
              <a:gd name="textAreaRight" fmla="*/ 7544160 w 7543800"/>
              <a:gd name="textAreaTop" fmla="*/ 485640 h 2666880"/>
              <a:gd name="textAreaBottom" fmla="*/ 218124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1967"/>
                </a:moveTo>
                <a:cubicBezTo>
                  <a:pt x="7200" y="-5001"/>
                  <a:pt x="14400" y="8935"/>
                  <a:pt x="21600" y="1967"/>
                </a:cubicBezTo>
                <a:lnTo>
                  <a:pt x="21600" y="19633"/>
                </a:lnTo>
                <a:cubicBezTo>
                  <a:pt x="14400" y="26601"/>
                  <a:pt x="7200" y="12665"/>
                  <a:pt x="0" y="19633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4419720" y="5562720"/>
            <a:ext cx="609480" cy="550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3276720" y="1752480"/>
            <a:ext cx="609480" cy="551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>
            <a:off x="6781680" y="1752480"/>
            <a:ext cx="609840" cy="551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1981080" y="5029200"/>
            <a:ext cx="708120" cy="9907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7086600" y="5181480"/>
            <a:ext cx="708120" cy="9907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4114800" y="3048120"/>
            <a:ext cx="1523880" cy="533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715000" y="3962520"/>
            <a:ext cx="1676520" cy="533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6" name=""/>
          <p:cNvCxnSpPr/>
          <p:nvPr/>
        </p:nvCxnSpPr>
        <p:spPr>
          <a:xfrm flipV="1" rot="16200000">
            <a:off x="6729480" y="4394160"/>
            <a:ext cx="686520" cy="888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7" name=""/>
          <p:cNvSpPr/>
          <p:nvPr/>
        </p:nvSpPr>
        <p:spPr>
          <a:xfrm>
            <a:off x="1905120" y="3886200"/>
            <a:ext cx="190476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8" name=""/>
          <p:cNvCxnSpPr/>
          <p:nvPr/>
        </p:nvCxnSpPr>
        <p:spPr>
          <a:xfrm flipH="1" flipV="1" rot="5400000">
            <a:off x="2242080" y="4462560"/>
            <a:ext cx="610200" cy="523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"/>
          <p:cNvCxnSpPr>
            <a:endCxn id="224" idx="1"/>
          </p:cNvCxnSpPr>
          <p:nvPr/>
        </p:nvCxnSpPr>
        <p:spPr>
          <a:xfrm flipV="1">
            <a:off x="2819520" y="3314160"/>
            <a:ext cx="1296000" cy="572040"/>
          </a:xfrm>
          <a:prstGeom prst="bentConnector3">
            <a:avLst>
              <a:gd name="adj1" fmla="val 499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"/>
          <p:cNvCxnSpPr>
            <a:stCxn id="224" idx="2"/>
            <a:endCxn id="219" idx="0"/>
          </p:cNvCxnSpPr>
          <p:nvPr/>
        </p:nvCxnSpPr>
        <p:spPr>
          <a:xfrm rot="5400000">
            <a:off x="3809160" y="4495680"/>
            <a:ext cx="1982160" cy="15336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832400" y="175752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60800" y="5410080"/>
            <a:ext cx="16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al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133720" y="396252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266720" y="3124080"/>
            <a:ext cx="125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791320" y="4038480"/>
            <a:ext cx="163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reho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2680" y="3282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088400" y="3282840"/>
            <a:ext cx="197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B (HTT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7"/>
          <a:stretch/>
        </p:blipFill>
        <p:spPr>
          <a:xfrm>
            <a:off x="4952880" y="1295280"/>
            <a:ext cx="685800" cy="990720"/>
          </a:xfrm>
          <a:prstGeom prst="rect">
            <a:avLst/>
          </a:prstGeom>
          <a:ln w="0">
            <a:noFill/>
          </a:ln>
        </p:spPr>
      </p:pic>
      <p:cxnSp>
        <p:nvCxnSpPr>
          <p:cNvPr id="239" name=""/>
          <p:cNvCxnSpPr>
            <a:endCxn id="224" idx="3"/>
          </p:cNvCxnSpPr>
          <p:nvPr/>
        </p:nvCxnSpPr>
        <p:spPr>
          <a:xfrm rot="10800000">
            <a:off x="5637960" y="3314160"/>
            <a:ext cx="991440" cy="648360"/>
          </a:xfrm>
          <a:prstGeom prst="bentConnector3">
            <a:avLst>
              <a:gd name="adj1" fmla="val 499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0" name=""/>
          <p:cNvCxnSpPr/>
          <p:nvPr/>
        </p:nvCxnSpPr>
        <p:spPr>
          <a:xfrm flipH="1" flipV="1" rot="5400000">
            <a:off x="2389680" y="2732400"/>
            <a:ext cx="1583280" cy="724680"/>
          </a:xfrm>
          <a:prstGeom prst="bentConnector3">
            <a:avLst>
              <a:gd name="adj1" fmla="val 4994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1" name=""/>
          <p:cNvCxnSpPr/>
          <p:nvPr/>
        </p:nvCxnSpPr>
        <p:spPr>
          <a:xfrm flipH="1" flipV="1" rot="5400000">
            <a:off x="6067080" y="2923560"/>
            <a:ext cx="1677240" cy="400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"/>
          <p:cNvCxnSpPr>
            <a:stCxn id="238" idx="2"/>
            <a:endCxn id="224" idx="0"/>
          </p:cNvCxnSpPr>
          <p:nvPr/>
        </p:nvCxnSpPr>
        <p:spPr>
          <a:xfrm rot="5400000">
            <a:off x="4704840" y="2457360"/>
            <a:ext cx="762840" cy="419760"/>
          </a:xfrm>
          <a:prstGeom prst="bentConnector3">
            <a:avLst>
              <a:gd name="adj1" fmla="val 6331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3" name=""/>
          <p:cNvSpPr/>
          <p:nvPr/>
        </p:nvSpPr>
        <p:spPr>
          <a:xfrm>
            <a:off x="3356280" y="510552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547400" y="190980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794200" y="556272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gacy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652280" y="2290680"/>
            <a:ext cx="178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-relat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045080" y="6186600"/>
            <a:ext cx="344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 data management ta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881E-8E60-437F-B954-A2BA5FD3C8F6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: 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onal algebra (5.2, 5.3, 5.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ML (4.6, 4.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lecture: syntax, semistructure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lectures: DTDs, XPath, X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tional readings for XM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www.w3.org/XML/1999/XML-in-10-po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ww.zvon.org/xxl/XMLTutorial/General/book_en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source: www.w3.org (but hard to rea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D50D-29F2-44B9-9CC6-D6F4C106D65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HTML to X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1857240" y="1700280"/>
            <a:ext cx="5429520" cy="381456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1747800" y="5786280"/>
            <a:ext cx="564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imes New Roman"/>
              </a:rPr>
              <a:t>HTML describes the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EFB9-B181-4BF4-9C4B-E20C324B081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h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Bibliography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h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Foundations of Databases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iteboul, Hull, Vian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br&gt; Addison Wesley, 199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Data on the Web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iteoul, Buneman, Suci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b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Morgan Kaufmann, 19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AC19-92BA-4831-B755-28DA93DCD6D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234200" cy="480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liograph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Foundations…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Abiteboul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Hull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Vianu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ublish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Addison Wesley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ublish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1995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liograph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22800" y="6202440"/>
            <a:ext cx="499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XML describes the cont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9640-7666-4F7A-9FEA-A422CAE1778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Termi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14000" y="1752480"/>
            <a:ext cx="8310600" cy="30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gs: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tag: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,  end tag: 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s: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…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,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…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s are n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ty element: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abbrv.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XML document: sing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oot e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00760" y="593244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cc"/>
                </a:solidFill>
                <a:latin typeface="Arial"/>
              </a:rPr>
              <a:t>well formed</a:t>
            </a: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 XML document: if it has matching ta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726F-C6A9-49EF-8B57-F0EE217BCEE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XML: Attribu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194600" cy="401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pri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“55”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currenc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“USD”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Foundations of Databases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Abiteboul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1995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90080" y="5654520"/>
            <a:ext cx="875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attributes are alternative ways to represent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02A7-6BE3-4595-B6FB-097A61145BE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26840" y="464040"/>
            <a:ext cx="7691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XML: Oids and Re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365960" cy="392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“o555”&gt;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Jane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“o456”&gt;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Mary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childr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idre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“o123 o555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“o123”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moth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“o456”&gt;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John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25400" y="5886360"/>
            <a:ext cx="785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oids and references in XML are just synt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5609-7BC8-4856-88D4-0097C07BDD3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XML: CDATA S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tax: &lt;![CDATA[ .....any text here...]]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48880" y="4191120"/>
            <a:ext cx="7128720" cy="137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examp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&lt;![CDATA[ some text here &lt;/notAtag&gt; &lt;&gt;]]&gt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examp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ABDA-41F7-4911-93BB-12FDF56C874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XML: Entity Re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tax: &amp;entitynam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ele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this is less than &amp;lt;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ele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entit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4114800" y="3886200"/>
          <a:ext cx="3200400" cy="2819520"/>
        </p:xfrm>
        <a:graphic>
          <a:graphicData uri="http://schemas.openxmlformats.org/drawingml/2006/table">
            <a:tbl>
              <a:tblPr/>
              <a:tblGrid>
                <a:gridCol w="1600200"/>
                <a:gridCol w="1600200"/>
              </a:tblGrid>
              <a:tr h="46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l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amp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apos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quo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#38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code ch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9A62-F8CF-4E25-98A0-E06292E1AD6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XML: Processing Instru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tax: &lt;?target argument?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o they mean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908280" y="3276720"/>
            <a:ext cx="7252920" cy="184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Alarm Clock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&lt;?ringBell 20?&gt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19.99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1EE2-AC83-4E34-BF0E-2BA4D799F6D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XML: Com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tax &lt;!-- .... Comment text... --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es, they are part of the data model 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4E75-2719-4A4F-AAA2-A234FEB3604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al Alg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ve operato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on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ce: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on: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ion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tesian Product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rived or auxiliary operato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section, comp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s (natural,equi-join, theta join, semi-jo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naming: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DD6B-F15A-45EB-999B-6978E9061A3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Namespa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w3.org/TR/REC-xml-names (1/9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e ::= [prefix:]localp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469520" y="4071960"/>
            <a:ext cx="5034960" cy="225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boo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xmlns:isb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“www.isbn-org.org/def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…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n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15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n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isbn:n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….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isbn:n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boo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B057-3D7A-48F8-B8D1-90060B434D4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971640" y="3141720"/>
            <a:ext cx="6968880" cy="311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ta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xmlns:mysty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“http://…”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mystyle:tit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 … &lt;/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mystyle:tit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mystyle:numb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ta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Namespa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229520" cy="17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tactic: 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numb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, 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isbn:numb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mantic: provide URL for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898160" y="3780720"/>
            <a:ext cx="3947040" cy="5637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long to this name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205160" y="3886200"/>
            <a:ext cx="824040" cy="549360"/>
          </a:xfrm>
          <a:custGeom>
            <a:avLst/>
            <a:gdLst/>
            <a:ahLst/>
            <a:rect l="l" t="t" r="r" b="b"/>
            <a:pathLst>
              <a:path w="1045" h="270">
                <a:moveTo>
                  <a:pt x="0" y="270"/>
                </a:moveTo>
                <a:cubicBezTo>
                  <a:pt x="54" y="232"/>
                  <a:pt x="151" y="78"/>
                  <a:pt x="325" y="39"/>
                </a:cubicBezTo>
                <a:cubicBezTo>
                  <a:pt x="499" y="0"/>
                  <a:pt x="895" y="39"/>
                  <a:pt x="1045" y="3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898880" y="4267080"/>
            <a:ext cx="663840" cy="671760"/>
          </a:xfrm>
          <a:custGeom>
            <a:avLst/>
            <a:gdLst/>
            <a:ahLst/>
            <a:rect l="l" t="t" r="r" b="b"/>
            <a:pathLst>
              <a:path w="711" h="471">
                <a:moveTo>
                  <a:pt x="0" y="471"/>
                </a:moveTo>
                <a:cubicBezTo>
                  <a:pt x="34" y="428"/>
                  <a:pt x="78" y="302"/>
                  <a:pt x="197" y="223"/>
                </a:cubicBezTo>
                <a:cubicBezTo>
                  <a:pt x="316" y="144"/>
                  <a:pt x="534" y="63"/>
                  <a:pt x="7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819760" y="3605040"/>
            <a:ext cx="1038240" cy="281160"/>
          </a:xfrm>
          <a:custGeom>
            <a:avLst/>
            <a:gdLst/>
            <a:ahLst/>
            <a:rect l="l" t="t" r="r" b="b"/>
            <a:pathLst>
              <a:path w="234" h="163">
                <a:moveTo>
                  <a:pt x="234" y="163"/>
                </a:moveTo>
                <a:cubicBezTo>
                  <a:pt x="154" y="125"/>
                  <a:pt x="74" y="87"/>
                  <a:pt x="37" y="60"/>
                </a:cubicBezTo>
                <a:cubicBezTo>
                  <a:pt x="0" y="33"/>
                  <a:pt x="5" y="16"/>
                  <a:pt x="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3987720" y="4422600"/>
            <a:ext cx="1501920" cy="1135080"/>
            <a:chOff x="3987720" y="4422600"/>
            <a:chExt cx="1501920" cy="1135080"/>
          </a:xfrm>
        </p:grpSpPr>
        <p:sp>
          <p:nvSpPr>
            <p:cNvPr id="287" name=""/>
            <p:cNvSpPr/>
            <p:nvPr/>
          </p:nvSpPr>
          <p:spPr>
            <a:xfrm>
              <a:off x="3987720" y="4422600"/>
              <a:ext cx="914400" cy="465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125960" y="4970520"/>
              <a:ext cx="1363680" cy="587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50C6-051A-4A32-8C0D-DB15BF23081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69800" y="272880"/>
            <a:ext cx="8175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Relational Data to XML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114800" y="3962160"/>
            <a:ext cx="4681440" cy="283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ers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&gt; &lt;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John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3634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&gt; &lt;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Sue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6343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Dick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6363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ers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347760" y="2060640"/>
          <a:ext cx="4029120" cy="427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7760" y="2060640"/>
                    <a:ext cx="4029120" cy="42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"/>
          <p:cNvSpPr/>
          <p:nvPr/>
        </p:nvSpPr>
        <p:spPr>
          <a:xfrm flipH="1">
            <a:off x="5459400" y="1752480"/>
            <a:ext cx="9907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450120" y="1752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450120" y="1752480"/>
            <a:ext cx="9903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4938480" y="2313000"/>
            <a:ext cx="5331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472000" y="231300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6081840" y="2313000"/>
            <a:ext cx="3808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450120" y="2286000"/>
            <a:ext cx="31752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7071840" y="2313000"/>
            <a:ext cx="381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453440" y="2313000"/>
            <a:ext cx="5331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182920" y="2184480"/>
            <a:ext cx="4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r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097320" y="2184480"/>
            <a:ext cx="4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r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164000" y="2184480"/>
            <a:ext cx="4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r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496400" y="3048120"/>
            <a:ext cx="62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792040" y="3048120"/>
            <a:ext cx="62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087320" y="3048120"/>
            <a:ext cx="62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181480" y="304812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400800" y="304812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848720" y="297180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481280" y="332568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hn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243760" y="33256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63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777280" y="3325680"/>
            <a:ext cx="61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996600" y="3325680"/>
            <a:ext cx="64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ck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463080" y="33256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34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911000" y="33256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36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86880" y="14479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29000" y="14130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942880" y="1574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ers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F058-F8A6-45B1-9954-21665B83380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is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self-describ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ema elements become part of the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tional schema: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ersons(name,phon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XML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ers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,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,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are part of the data, and are repeated many ti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equence: XML is much more flex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=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semistructur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8388-71AD-4680-9FD0-F35F1E3C9C6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structured Data Explain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ssing attribu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ld represent i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able with nul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433240" y="2514600"/>
            <a:ext cx="3737880" cy="192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John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1234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Joe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471720" y="3962520"/>
            <a:ext cx="159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phone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5791320" y="4876920"/>
          <a:ext cx="2133360" cy="1295280"/>
        </p:xfrm>
        <a:graphic>
          <a:graphicData uri="http://schemas.openxmlformats.org/drawingml/2006/table">
            <a:tbl>
              <a:tblPr/>
              <a:tblGrid>
                <a:gridCol w="1066680"/>
                <a:gridCol w="1066680"/>
              </a:tblGrid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ph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364F-21BA-4338-B043-78D13DEF513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structured Data Explain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eated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ssible in tab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433600" y="2590920"/>
            <a:ext cx="3610080" cy="131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Mary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2345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3456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395400" y="3124080"/>
            <a:ext cx="181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 phones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4419720" y="5105520"/>
          <a:ext cx="3200400" cy="1295280"/>
        </p:xfrm>
        <a:graphic>
          <a:graphicData uri="http://schemas.openxmlformats.org/drawingml/2006/table">
            <a:tbl>
              <a:tblPr/>
              <a:tblGrid>
                <a:gridCol w="1066680"/>
                <a:gridCol w="1066680"/>
                <a:gridCol w="1067040"/>
              </a:tblGrid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ph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2" name=""/>
          <p:cNvSpPr/>
          <p:nvPr/>
        </p:nvSpPr>
        <p:spPr>
          <a:xfrm>
            <a:off x="7925400" y="548640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D548-7846-4958-92DA-BF848E409EA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structured Data Explain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ributes with different types in different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sted collections (no 1N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terogeneous collec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&lt;db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tains both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and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ublisher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990720" y="2590920"/>
            <a:ext cx="5125680" cy="1739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fir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John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fir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la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Smith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la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1234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393960" y="2743200"/>
            <a:ext cx="228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uctured name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284D-C804-4D36-A62A-BAE6DAB9AF5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na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s the schema, not the ins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ation: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B1,…,B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LastName, SocSocN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Employe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 schema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swer(LastName, SocSocN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8905-5BDA-4219-B278-7B446223649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naming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9400" y="1946160"/>
            <a:ext cx="1288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mploy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9400" y="2317680"/>
            <a:ext cx="729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06080" y="2317680"/>
            <a:ext cx="558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2287440"/>
            <a:ext cx="331488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4360" y="2287440"/>
            <a:ext cx="2232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46680" y="2287440"/>
            <a:ext cx="329220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90480" y="2671920"/>
            <a:ext cx="576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05000" y="2671920"/>
            <a:ext cx="137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99999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2652840"/>
            <a:ext cx="3314880" cy="111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924360" y="2652840"/>
            <a:ext cx="11160" cy="111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35520" y="2652840"/>
            <a:ext cx="3303360" cy="111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90120" y="3016080"/>
            <a:ext cx="643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005000" y="3016080"/>
            <a:ext cx="137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7777777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3352680"/>
            <a:ext cx="331488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924360" y="3352680"/>
            <a:ext cx="2232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946680" y="3352680"/>
            <a:ext cx="329220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40960" y="5060880"/>
            <a:ext cx="1254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t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157640" y="5060880"/>
            <a:ext cx="1287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Soc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5030640"/>
            <a:ext cx="331452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076640" y="5030640"/>
            <a:ext cx="2232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98960" y="5030640"/>
            <a:ext cx="329256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42760" y="5415120"/>
            <a:ext cx="576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157280" y="5415120"/>
            <a:ext cx="137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99999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2120" y="5396040"/>
            <a:ext cx="3314520" cy="111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076640" y="5396040"/>
            <a:ext cx="11160" cy="111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087800" y="5396040"/>
            <a:ext cx="3303720" cy="111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42760" y="5759280"/>
            <a:ext cx="643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157280" y="5759280"/>
            <a:ext cx="137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7777777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6095880"/>
            <a:ext cx="331452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076640" y="6095880"/>
            <a:ext cx="2232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098960" y="6095880"/>
            <a:ext cx="329256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3505320"/>
            <a:ext cx="7467480" cy="13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Symbol" charset="2"/>
              <a:buChar char="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LastName, SocSocNo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mploye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DCB1-8B5E-4532-A47B-4CD0F8B118E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tural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ation: R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 R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eaning:  R1 ⋈ R2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R1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2)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he selectio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hecks equality of all common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he projection eliminates the duplicate common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3641-43FD-48DA-B35B-291630EE9D6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222560" y="407880"/>
            <a:ext cx="2881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tural Join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62440" y="878040"/>
            <a:ext cx="1288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mploy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162440" y="1249200"/>
            <a:ext cx="729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479120" y="1249200"/>
            <a:ext cx="558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82520" y="1219320"/>
            <a:ext cx="331488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97400" y="1219320"/>
            <a:ext cx="2232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19720" y="1219320"/>
            <a:ext cx="329220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63520" y="1603440"/>
            <a:ext cx="576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478040" y="1603440"/>
            <a:ext cx="137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99999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82520" y="1584360"/>
            <a:ext cx="3314880" cy="111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397400" y="1584360"/>
            <a:ext cx="11160" cy="111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08560" y="1584360"/>
            <a:ext cx="3303360" cy="111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63160" y="1947960"/>
            <a:ext cx="643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78040" y="1947960"/>
            <a:ext cx="137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7777777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82520" y="2284560"/>
            <a:ext cx="331488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397400" y="2284560"/>
            <a:ext cx="2232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19720" y="2284560"/>
            <a:ext cx="329220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63880" y="2654280"/>
            <a:ext cx="1524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pend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64600" y="3025800"/>
            <a:ext cx="558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77320" y="3025800"/>
            <a:ext cx="881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82520" y="2995560"/>
            <a:ext cx="331488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397400" y="2995560"/>
            <a:ext cx="2232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19720" y="2995560"/>
            <a:ext cx="329220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63160" y="3379680"/>
            <a:ext cx="137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99999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476240" y="3379680"/>
            <a:ext cx="747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082520" y="3363840"/>
            <a:ext cx="3314880" cy="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397400" y="3363840"/>
            <a:ext cx="11160" cy="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08560" y="3363840"/>
            <a:ext cx="3303360" cy="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63160" y="3724200"/>
            <a:ext cx="137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7777777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78040" y="3724200"/>
            <a:ext cx="40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82520" y="4062240"/>
            <a:ext cx="331488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397400" y="4062240"/>
            <a:ext cx="2232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19720" y="4062240"/>
            <a:ext cx="329220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82320" y="5022720"/>
            <a:ext cx="729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648880" y="5022720"/>
            <a:ext cx="558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267800" y="5022720"/>
            <a:ext cx="881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43000" y="4992840"/>
            <a:ext cx="136224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05240" y="4992840"/>
            <a:ext cx="2052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25760" y="4992840"/>
            <a:ext cx="166212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87880" y="4992840"/>
            <a:ext cx="2232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210200" y="4992840"/>
            <a:ext cx="163656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84840" y="5376960"/>
            <a:ext cx="576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48160" y="5376960"/>
            <a:ext cx="137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99999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329360" y="5376960"/>
            <a:ext cx="747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143000" y="5359320"/>
            <a:ext cx="1362240" cy="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05240" y="5359320"/>
            <a:ext cx="10800" cy="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16040" y="5359320"/>
            <a:ext cx="1671840" cy="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87880" y="5359320"/>
            <a:ext cx="11160" cy="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99040" y="5359320"/>
            <a:ext cx="1647720" cy="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87720" y="5721480"/>
            <a:ext cx="643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648160" y="5721480"/>
            <a:ext cx="137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7777777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29360" y="5721480"/>
            <a:ext cx="40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6058080"/>
            <a:ext cx="136224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505240" y="6058080"/>
            <a:ext cx="2052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25760" y="6058080"/>
            <a:ext cx="166212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187880" y="6058080"/>
            <a:ext cx="2232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210200" y="6058080"/>
            <a:ext cx="163656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538560" y="4191120"/>
            <a:ext cx="7674480" cy="782280"/>
            <a:chOff x="538560" y="4191120"/>
            <a:chExt cx="7674480" cy="782280"/>
          </a:xfrm>
        </p:grpSpPr>
        <p:sp>
          <p:nvSpPr>
            <p:cNvPr id="149" name=""/>
            <p:cNvSpPr/>
            <p:nvPr/>
          </p:nvSpPr>
          <p:spPr>
            <a:xfrm>
              <a:off x="538560" y="4191120"/>
              <a:ext cx="7674480" cy="78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mployee         Dependents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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ame, SSN, Dnam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SSN=SSN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Employee x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SSN2, Dnam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Dependents)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16200000">
              <a:off x="1848600" y="4247280"/>
              <a:ext cx="193680" cy="385560"/>
            </a:xfrm>
            <a:prstGeom prst="flowChartCollat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D8C0-10BD-40E6-A2D1-6D99B20100F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tural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=                                S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752480" y="2133720"/>
          <a:ext cx="2514600" cy="1825560"/>
        </p:xfrm>
        <a:graphic>
          <a:graphicData uri="http://schemas.openxmlformats.org/drawingml/2006/table">
            <a:tbl>
              <a:tblPr/>
              <a:tblGrid>
                <a:gridCol w="1257480"/>
                <a:gridCol w="1257120"/>
              </a:tblGrid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5410080" y="2133720"/>
          <a:ext cx="2514600" cy="1460520"/>
        </p:xfrm>
        <a:graphic>
          <a:graphicData uri="http://schemas.openxmlformats.org/drawingml/2006/table">
            <a:tbl>
              <a:tblPr/>
              <a:tblGrid>
                <a:gridCol w="1257480"/>
                <a:gridCol w="1257120"/>
              </a:tblGrid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2590920" y="4191120"/>
          <a:ext cx="4495680" cy="2371680"/>
        </p:xfrm>
        <a:graphic>
          <a:graphicData uri="http://schemas.openxmlformats.org/drawingml/2006/table">
            <a:tbl>
              <a:tblPr/>
              <a:tblGrid>
                <a:gridCol w="1498320"/>
                <a:gridCol w="1498680"/>
                <a:gridCol w="149868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FB39-2ECB-4582-94E1-CEA73A0CA2E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tural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the schemas R(A, B, C, D), S(A, C, E), what is the schema of 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R(A, B, C),  S(D, E), what is 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 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R(A, B),  S(A, B),  what is  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 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2163-B1E2-40C2-B746-93CAB5880E9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Administrator</cp:lastModifiedBy>
  <dcterms:modified xsi:type="dcterms:W3CDTF">2002-10-23T02:23:44Z</dcterms:modified>
  <cp:revision>67</cp:revision>
  <dc:subject/>
  <dc:title>Lecture 09: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7743368</vt:r8>
  </property>
  <property fmtid="{D5CDD505-2E9C-101B-9397-08002B2CF9AE}" pid="3" name="_AuthorEmail">
    <vt:lpwstr>suciu@cs.washington.edu</vt:lpwstr>
  </property>
  <property fmtid="{D5CDD505-2E9C-101B-9397-08002B2CF9AE}" pid="4" name="_AuthorEmailDisplayName">
    <vt:lpwstr>Dan Suciu</vt:lpwstr>
  </property>
  <property fmtid="{D5CDD505-2E9C-101B-9397-08002B2CF9AE}" pid="5" name="_EmailSubject">
    <vt:lpwstr>Lecture11, hw3</vt:lpwstr>
  </property>
</Properties>
</file>