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347-4A66-4C28-B77B-B06D2FF5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6B4-DF3C-4434-B11E-C31DE000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3A7-8BE6-4E50-898D-F7BFA5B3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4E1-DE8F-4541-A307-27AC93E5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2C1-E1DD-4B70-9C21-864CE01F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876-CE60-42E3-BA64-F7AC2E58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B46-6BA4-4FE0-A25E-63FBEF42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28E-1727-439A-B6E7-E272D2DA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D95-3C6A-4A93-A178-4D50B5AA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182-6263-4755-8595-F7C6A786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D99-FFF1-4592-820B-C633E1E0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702-4D84-4461-905E-73A7026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D9B3-331A-4BEB-8D94-38E478634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2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764-06A8-4D54-A981-4301A22E30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less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s.t.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, the decomposition into R1(A,B), R2(A,C) is loss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FCBF-DAC4-487E-8E94-1C5A1B0C6A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040" y="2244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304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4920" y="175248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6160" y="35812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724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105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400" y="2701800"/>
            <a:ext cx="69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BCNF violation, and we decom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7720" y="39211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61040" y="51055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4760" y="6019920"/>
            <a:ext cx="65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loose the FD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A4E-F9E8-499F-B4A0-703F8A8EA5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9360" y="4835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9360" y="498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240" y="43434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560" y="1600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600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5520" y="2098800"/>
            <a:ext cx="70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UW                  Galaga99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UW                  Bingo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600" y="30132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6440" y="5070600"/>
            <a:ext cx="60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4680" y="613728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olates the dependency:   company, product -&gt; un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D8F-7025-4705-AE74-1BE7E7A7C8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528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040" y="281952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840" y="54100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= no anomalies, but may lose some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 = keeps all FDs, but may have som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64B-E84B-4462-92D8-0CD1D6982C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6600" y="442260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88600" y="478800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00600" y="478800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23" idx="1"/>
          </p:cNvCxnSpPr>
          <p:nvPr/>
        </p:nvCxnSpPr>
        <p:spPr>
          <a:xfrm>
            <a:off x="2603520" y="5017680"/>
            <a:ext cx="158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3"/>
            <a:endCxn id="124" idx="1"/>
          </p:cNvCxnSpPr>
          <p:nvPr/>
        </p:nvCxnSpPr>
        <p:spPr>
          <a:xfrm>
            <a:off x="5357880" y="5017680"/>
            <a:ext cx="124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05520" y="59086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63440" y="58071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EF4-14BA-4DDA-9375-AEE7B8DFDE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A90-9833-4039-8BD0-6027E3C328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862-AFA7-4F40-9261-FF2C580510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B0B-A4A9-4BE2-9590-B6EDEB858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F85-F7B8-4FFE-B725-B8C06A9979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582480"/>
            <a:ext cx="8077320" cy="558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6600" y="3800520"/>
            <a:ext cx="73983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nd all employees with salary more than $4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B34-6F42-4C99-ADDD-BA0FB61A03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(5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on bags (5.3, 5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5.3 and 5.4 (won’t have time to cover 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CEB-498C-41AC-8EEA-36406A1A0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D50-16FD-4514-9294-39934D63DE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480" y="584280"/>
            <a:ext cx="7391520" cy="5306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96240" y="3429000"/>
            <a:ext cx="33678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BB2-F3FC-416D-B7B2-42AABAD507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F36-6BBE-43CC-92A0-F95E9E535B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41F-F611-4F51-8499-83D95EA2C1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E15-9230-4FCD-B089-BB5295CCB9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48F-22CC-4918-9A89-4A02999A9E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940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0608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096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648-25D3-4356-8475-DC6735F59C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⋈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A74-D87E-4C27-81E7-55C181DB5A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244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7912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6388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6460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7624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823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4888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8484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4816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2936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8772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4816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2936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38560" y="4191120"/>
            <a:ext cx="7674480" cy="782280"/>
            <a:chOff x="538560" y="4191120"/>
            <a:chExt cx="7674480" cy="782280"/>
          </a:xfrm>
        </p:grpSpPr>
        <p:sp>
          <p:nvSpPr>
            <p:cNvPr id="245" name=""/>
            <p:cNvSpPr/>
            <p:nvPr/>
          </p:nvSpPr>
          <p:spPr>
            <a:xfrm>
              <a:off x="53856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1848600" y="42472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DCD-076E-455C-858D-D1B83CBEE4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23E-2A12-41CF-B8D7-43287514C5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200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90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732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533-ED46-4983-B3B9-068C4B8B8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708-D529-487E-835A-BF8B8FF33A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AAC-015E-47A5-8BC2-7C100CDAC5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A49-8B5A-479B-A66C-B6B12AAB17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A45-2884-443A-8080-5381BB08C3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4" idx="6"/>
            <a:endCxn id="265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127944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36560" y="4876920"/>
            <a:ext cx="67201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5368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68400" y="591192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98320" y="6267600"/>
            <a:ext cx="345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539-62EA-4297-AD14-776C9C27BF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         Purchase          Person       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9852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1732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2280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809880" y="3581280"/>
            <a:ext cx="1707120" cy="461160"/>
            <a:chOff x="3809880" y="3581280"/>
            <a:chExt cx="1707120" cy="461160"/>
          </a:xfrm>
        </p:grpSpPr>
        <p:sp>
          <p:nvSpPr>
            <p:cNvPr id="283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9472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286" name="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352680" y="2057400"/>
            <a:ext cx="1729800" cy="461160"/>
            <a:chOff x="3352680" y="2057400"/>
            <a:chExt cx="1729800" cy="461160"/>
          </a:xfrm>
        </p:grpSpPr>
        <p:sp>
          <p:nvSpPr>
            <p:cNvPr id="289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3572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DD4-28DD-424B-8007-8ACB1BA856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384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9FE-3722-4855-9DFE-50CB59B8AF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057400" y="2590920"/>
          <a:ext cx="4495680" cy="250812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1498320"/>
              </a:tblGrid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FC9-89B1-480D-9E47-7E12FABD95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9960" y="43434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97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3B0-C873-438D-BE93-EE0CC232B7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3520" y="4384800"/>
            <a:ext cx="38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19320" y="2057400"/>
          <a:ext cx="6019560" cy="1674720"/>
        </p:xfrm>
        <a:graphic>
          <a:graphicData uri="http://schemas.openxmlformats.org/drawingml/2006/table">
            <a:tbl>
              <a:tblPr/>
              <a:tblGrid>
                <a:gridCol w="1504440"/>
                <a:gridCol w="150516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286-5DCC-4D11-A33E-6F66645D8E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2209680"/>
          <a:ext cx="4514760" cy="1004760"/>
        </p:xfrm>
        <a:graphic>
          <a:graphicData uri="http://schemas.openxmlformats.org/drawingml/2006/table">
            <a:tbl>
              <a:tblPr/>
              <a:tblGrid>
                <a:gridCol w="150480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676520" y="3886200"/>
          <a:ext cx="3009960" cy="1674720"/>
        </p:xfrm>
        <a:graphic>
          <a:graphicData uri="http://schemas.openxmlformats.org/drawingml/2006/table">
            <a:tbl>
              <a:tblPr/>
              <a:tblGrid>
                <a:gridCol w="1505160"/>
                <a:gridCol w="150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7D9-0D97-45A5-B02A-E275A634D6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516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2840" y="3089160"/>
            <a:ext cx="7587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find all keys (How ? Compu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various sets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now 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500-BAC8-4804-8664-09D964E603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:  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tions of BCNF: 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,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,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C:  split into  R1(A,BC)   R2(A,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we pick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  fir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1C0-6532-40DA-8BBF-5A5ECDD070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less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composition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oss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we can re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(A,B)      R2(A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’(A,B,C)   should be the same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743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880" y="613728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’ is in general larger than R.  Must ensure R’ 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2652840"/>
            <a:ext cx="1750680" cy="496440"/>
          </a:xfrm>
          <a:prstGeom prst="wedgeRoundRectCallout">
            <a:avLst>
              <a:gd name="adj1" fmla="val -140601"/>
              <a:gd name="adj2" fmla="val 36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840" y="4572000"/>
            <a:ext cx="1292760" cy="496440"/>
          </a:xfrm>
          <a:prstGeom prst="wedgeRoundRectCallout">
            <a:avLst>
              <a:gd name="adj1" fmla="val -193481"/>
              <a:gd name="adj2" fmla="val -13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998-373A-4009-A978-41B1BEEF1C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0-21T16:30:29Z</dcterms:modified>
  <cp:revision>103</cp:revision>
  <dc:subject/>
  <dc:title>Lecture 09:</dc:title>
</cp:coreProperties>
</file>