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933-0770-4E0E-ABBD-D2A3B0EB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2D8-6B00-47CB-9AB6-44917076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180-21CE-4D15-9F1D-9A8ACAFE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960-CBF5-4E58-8E78-45427991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65C-8A8F-4A3A-B010-080A9836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451-539E-4B36-A251-5495272C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F64-0038-433C-BA4E-2E4F04D1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908-8E3B-4452-9F8E-9CB5AA50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4A3-ACC8-44E7-924E-F99DF5D0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7F5-CA6E-463D-B989-D2BC68C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E6C-6C80-4163-83EF-D695C0C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024-5025-4EF8-9EA4-1A856B8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F713-9B8B-44F0-B81D-3DD49DE76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2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9B7-69AB-4404-BCCC-07825E36B5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less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s.t.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, the decomposition into R1(A,B), R2(A,C) is loss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C07-EF02-47F5-830B-97C1562B9E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040" y="2244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304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4920" y="175248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6160" y="35812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724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105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400" y="2701800"/>
            <a:ext cx="69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BCNF violation, and we decom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7720" y="39211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61040" y="51055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4760" y="6019920"/>
            <a:ext cx="65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loose the FD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6AE-1485-48AF-8223-10C2B2588E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9360" y="4835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9360" y="498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240" y="43434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560" y="1600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600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5520" y="2098800"/>
            <a:ext cx="70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UW                  Galaga99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UW                  Bingo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600" y="30132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6440" y="5070600"/>
            <a:ext cx="60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4680" y="613728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olates the dependency:   company, product -&gt; un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948-2C9D-4177-A6B9-BC2486BE4D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528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040" y="281952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840" y="54100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= no anomalies, but may lose some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 = keeps all FDs, but may have som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A7D-E2E8-4DCF-9F43-A7468777A8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6600" y="442260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88600" y="478800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00600" y="478800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23" idx="1"/>
          </p:cNvCxnSpPr>
          <p:nvPr/>
        </p:nvCxnSpPr>
        <p:spPr>
          <a:xfrm>
            <a:off x="2603520" y="5017680"/>
            <a:ext cx="158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3"/>
            <a:endCxn id="124" idx="1"/>
          </p:cNvCxnSpPr>
          <p:nvPr/>
        </p:nvCxnSpPr>
        <p:spPr>
          <a:xfrm>
            <a:off x="5357880" y="5017680"/>
            <a:ext cx="124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05520" y="59086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63440" y="58071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AE8-8310-42F8-A31F-A6E4A7C620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724-F0B0-44FF-9256-F2A8F4196A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B48-8E99-4DDC-A8AC-2036937E76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700-6D60-496C-8EBD-9F16E7607B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EC2-B6D1-440C-9915-0A351180D9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582480"/>
            <a:ext cx="8077320" cy="558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6600" y="3800520"/>
            <a:ext cx="73983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nd all employees with salary more than $4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333-E4D8-4592-9419-3FF804D357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(5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on bags (5.3, 5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5.3 and 5.4 (won’t have time to cover 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237-5F9F-464B-8BCE-036738FA31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FD3-AB43-410F-BCA3-B74691B99E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480" y="584280"/>
            <a:ext cx="7391520" cy="5306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96240" y="3429000"/>
            <a:ext cx="33678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013-669B-4FEF-9140-4B5F741DB2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5C5-8362-48EB-BF3E-AACC91EAD9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041-69F0-4222-905D-08FF38A67D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6FA-4C92-4D6D-B44A-18B8E37B07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32E-E103-4128-BCD9-18A2F96487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940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0608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096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E99-F11B-408E-AACB-9A85B52AB1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⋈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D1C-E05C-440A-9BB3-7864894840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244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7912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6388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6460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7624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823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4888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8484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4816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2936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8772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4816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2936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38560" y="4191120"/>
            <a:ext cx="7674480" cy="782280"/>
            <a:chOff x="538560" y="4191120"/>
            <a:chExt cx="7674480" cy="782280"/>
          </a:xfrm>
        </p:grpSpPr>
        <p:sp>
          <p:nvSpPr>
            <p:cNvPr id="245" name=""/>
            <p:cNvSpPr/>
            <p:nvPr/>
          </p:nvSpPr>
          <p:spPr>
            <a:xfrm>
              <a:off x="53856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1848600" y="42472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65F-C06B-4BDF-BE56-FB90AE2F36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589-A5A0-4296-AD88-664CFBB785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200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90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732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528-C340-48D5-89E0-2F41D955CB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A05-89A0-4DA1-9F16-2E97844D43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658-0D2A-4F61-A52E-C972DCCE60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3E5-E5F4-4996-BB2E-8F320241A1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635-4B56-4FF5-A162-ADCFE69509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4" idx="6"/>
            <a:endCxn id="265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127944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36560" y="4876920"/>
            <a:ext cx="67201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5368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68400" y="591192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98320" y="6267600"/>
            <a:ext cx="345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53F-5264-413A-A1BA-3473BC82C7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         Purchase          Person       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9852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1732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2280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809880" y="3581280"/>
            <a:ext cx="1707120" cy="461160"/>
            <a:chOff x="3809880" y="3581280"/>
            <a:chExt cx="1707120" cy="461160"/>
          </a:xfrm>
        </p:grpSpPr>
        <p:sp>
          <p:nvSpPr>
            <p:cNvPr id="283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9472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286" name="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352680" y="2057400"/>
            <a:ext cx="1729800" cy="461160"/>
            <a:chOff x="3352680" y="2057400"/>
            <a:chExt cx="1729800" cy="461160"/>
          </a:xfrm>
        </p:grpSpPr>
        <p:sp>
          <p:nvSpPr>
            <p:cNvPr id="289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3572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58E-C324-4C71-A9F2-5EE9DD3F4D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384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0B6-00BA-448C-838A-76D0B07F10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057400" y="2590920"/>
          <a:ext cx="4495680" cy="250812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1498320"/>
              </a:tblGrid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08D-FB32-4D5B-BA4B-0C41C477C8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9960" y="43434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97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AA7-619A-4C11-A1AF-E06C4FC1F7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3520" y="4384800"/>
            <a:ext cx="38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19320" y="2057400"/>
          <a:ext cx="6019560" cy="1674720"/>
        </p:xfrm>
        <a:graphic>
          <a:graphicData uri="http://schemas.openxmlformats.org/drawingml/2006/table">
            <a:tbl>
              <a:tblPr/>
              <a:tblGrid>
                <a:gridCol w="1504440"/>
                <a:gridCol w="150516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583-4A14-4544-BB9B-DE4F7BFA99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2209680"/>
          <a:ext cx="4514760" cy="1004760"/>
        </p:xfrm>
        <a:graphic>
          <a:graphicData uri="http://schemas.openxmlformats.org/drawingml/2006/table">
            <a:tbl>
              <a:tblPr/>
              <a:tblGrid>
                <a:gridCol w="150480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676520" y="3886200"/>
          <a:ext cx="3009960" cy="1674720"/>
        </p:xfrm>
        <a:graphic>
          <a:graphicData uri="http://schemas.openxmlformats.org/drawingml/2006/table">
            <a:tbl>
              <a:tblPr/>
              <a:tblGrid>
                <a:gridCol w="1505160"/>
                <a:gridCol w="150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BDF-596D-4D87-8264-2AB9B4789F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516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2840" y="3089160"/>
            <a:ext cx="7587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find all keys (How ? Compu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various sets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now 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758-EDA0-440B-9A21-F844C9EA0F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:  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tions of BCNF: 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,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,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C:  split into  R1(A,BC)   R2(A,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we pick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  fir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0A3-DEE5-49E6-B172-65DC7ED313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less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composition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oss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we can re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(A,B)      R2(A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’(A,B,C)   should be the same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743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880" y="613728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’ is in general larger than R.  Must ensure R’ 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2652840"/>
            <a:ext cx="1750680" cy="496440"/>
          </a:xfrm>
          <a:prstGeom prst="wedgeRoundRectCallout">
            <a:avLst>
              <a:gd name="adj1" fmla="val -140601"/>
              <a:gd name="adj2" fmla="val 36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840" y="4572000"/>
            <a:ext cx="1292760" cy="496440"/>
          </a:xfrm>
          <a:prstGeom prst="wedgeRoundRectCallout">
            <a:avLst>
              <a:gd name="adj1" fmla="val -193481"/>
              <a:gd name="adj2" fmla="val -13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2C0-32B0-476F-8AF7-24C30731AD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0-21T16:30:29Z</dcterms:modified>
  <cp:revision>103</cp:revision>
  <dc:subject/>
  <dc:title>Lecture 09:</dc:title>
</cp:coreProperties>
</file>