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62680"/>
            <a:ext cx="3005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74E9-298C-4E7F-9C80-EEB0E3FCB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A3D-FE08-492E-8102-A6973AC4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F81-F773-4951-8D90-9FF5ED88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C60-BE13-457D-A027-BED77956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2F6-1F38-44B3-8A00-EDBFDB4C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945-51F9-4753-B8A4-386C2B71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BBE-1131-49B5-A45B-3CBC5691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54B-6245-41B3-9C00-0CC42E93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0E5-A97F-4AFD-82FD-2CDF85EE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CA2-4D17-46BC-AD10-FF494E80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16E-B337-4319-ACBA-FD3CB66A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CEB-BA15-474F-B88B-1975D53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F94-F6C1-4FA6-A14B-E0BE410E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5F02-520F-43DA-8FE1-D96595EB6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759-4FCD-415A-B0C8-522C12C063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ules in the book – please rea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85E-5105-4613-873C-E276053CB5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4440" y="25495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2920" y="2751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0120" y="2751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08200" y="2751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96920" y="277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1320" y="25495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79800" y="2736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37000" y="2736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75080" y="2736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39211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60480" y="4122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17680" y="4122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56120" y="4122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4840" y="414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35560" y="4073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26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888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445464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60480" y="46562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17680" y="46562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56120" y="46562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44840" y="4683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35560" y="4606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8880" y="441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68320" y="552132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36800" y="5722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4000" y="5722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2080" y="5722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21160" y="574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1520" y="5673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520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236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840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813-B515-4FEF-9C9E-3B4EE046BE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39720" y="247320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08200" y="26748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65400" y="26748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03480" y="26748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92560" y="270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59240" y="27018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30640" y="24732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4724280"/>
          <a:ext cx="308592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64212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7C1-FECA-48E0-8FF9-2A77838669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55960" y="35323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3733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733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733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08440" y="376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289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55960" y="45226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472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472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472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8440" y="4751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55960" y="551340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5715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5715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715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08440" y="5742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593680" y="3532320"/>
            <a:ext cx="1851840" cy="596520"/>
            <a:chOff x="5593680" y="3532320"/>
            <a:chExt cx="1851840" cy="596520"/>
          </a:xfrm>
        </p:grpSpPr>
        <p:sp>
          <p:nvSpPr>
            <p:cNvPr id="208" name=""/>
            <p:cNvSpPr/>
            <p:nvPr/>
          </p:nvSpPr>
          <p:spPr>
            <a:xfrm>
              <a:off x="5775480" y="37605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93680" y="353232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, B  …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32680" y="37605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47080" y="37605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701680" y="4522680"/>
            <a:ext cx="1851120" cy="596880"/>
            <a:chOff x="5701680" y="4522680"/>
            <a:chExt cx="1851120" cy="596880"/>
          </a:xfrm>
        </p:grpSpPr>
        <p:sp>
          <p:nvSpPr>
            <p:cNvPr id="213" name=""/>
            <p:cNvSpPr/>
            <p:nvPr/>
          </p:nvSpPr>
          <p:spPr>
            <a:xfrm>
              <a:off x="5883120" y="47512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1680" y="45226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 , C  …,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0320" y="47512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54720" y="47512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778000" y="5513400"/>
            <a:ext cx="1851120" cy="596880"/>
            <a:chOff x="5778000" y="5513400"/>
            <a:chExt cx="1851120" cy="596880"/>
          </a:xfrm>
        </p:grpSpPr>
        <p:sp>
          <p:nvSpPr>
            <p:cNvPr id="218" name=""/>
            <p:cNvSpPr/>
            <p:nvPr/>
          </p:nvSpPr>
          <p:spPr>
            <a:xfrm>
              <a:off x="5959440" y="57420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78000" y="551340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 , C  …,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16640" y="57420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31040" y="57420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016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A00-0295-42F3-905A-E398AA9340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533520" y="2514600"/>
          <a:ext cx="802476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  <a:gridCol w="617760"/>
                <a:gridCol w="617400"/>
                <a:gridCol w="615960"/>
                <a:gridCol w="617400"/>
                <a:gridCol w="617760"/>
                <a:gridCol w="617400"/>
                <a:gridCol w="617400"/>
                <a:gridCol w="6177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036-4C39-4A51-8D81-64B868502F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3AD-47EC-4966-A163-3890C138CA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720" y="1981080"/>
            <a:ext cx="839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 set of attributes  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1, …, An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a set of dependencie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ble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find all attribute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 relation which satisfies S also satisf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1, …, An     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33526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9240" y="4156200"/>
            <a:ext cx="64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A1, …, An}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A1, …, An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all such attribu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276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440-42BF-43E8-948F-F28638423F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2080" y="1946160"/>
            <a:ext cx="528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                                    is in 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is not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342900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351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3044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43560" y="33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39625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06560" y="4240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63760" y="4240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4191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396252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ll in X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BA6-96A2-4727-BA4D-C53A2A85DD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9120" y="1641600"/>
            <a:ext cx="65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D          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      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F             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of {A,B}: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of  {A, F}: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4480" y="9144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298-92C8-47D7-879A-B77383F21D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he Algorithm Correc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he following by in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1, …, An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{A1, …, An}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on step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1, …, B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1, …, An      B1, …, 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lso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1, …, Bm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ransitivity we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1, …, An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hows that the algorithm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need to show i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5B5-B1F4-47AB-991F-8A9C4DB2AF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 (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about FDs (3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68E-FC4B-4063-9188-9658DAF67C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F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5DC-D6CB-42F0-889A-BB6D69255C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: data is rep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anomalies: need to change in several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anomalies: may lose data when we don’t w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195-E1F3-4027-9AA0-171BC4CE0A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8600" y="4648320"/>
            <a:ext cx="6785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= repea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= Fred moves to “Bell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Fred drops all phone number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224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4080" y="419112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but no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295280" y="2286000"/>
          <a:ext cx="6019920" cy="167472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625-9BF5-4EA5-B16C-07FF8B2AE2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204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600200" y="2209680"/>
          <a:ext cx="4514760" cy="1004760"/>
        </p:xfrm>
        <a:graphic>
          <a:graphicData uri="http://schemas.openxmlformats.org/drawingml/2006/table">
            <a:tbl>
              <a:tblPr/>
              <a:tblGrid>
                <a:gridCol w="150480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676520" y="3886200"/>
          <a:ext cx="3009960" cy="1674720"/>
        </p:xfrm>
        <a:graphic>
          <a:graphicData uri="http://schemas.openxmlformats.org/drawingml/2006/table">
            <a:tbl>
              <a:tblPr/>
              <a:tblGrid>
                <a:gridCol w="1505160"/>
                <a:gridCol w="1504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F39A-9D94-40B3-82EA-2F73DFAA28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275" name="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51588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660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4800" y="525780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809880" y="3809880"/>
          <a:ext cx="152424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867280" y="3809880"/>
          <a:ext cx="1905120" cy="590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800600" y="5181480"/>
          <a:ext cx="1143000" cy="78768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248520" y="5181480"/>
          <a:ext cx="380880" cy="78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7010280" y="5181480"/>
          <a:ext cx="76212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3581280" y="5181480"/>
          <a:ext cx="762120" cy="78732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8D4-EDEC-47BC-9F12-2E0AC453C7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3560" y="175248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87840" y="2666880"/>
            <a:ext cx="70005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wo relation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1(B1, ..., B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2(C1, ..., 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1, ..., B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1, ..., C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1, ...,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B9C-A051-4ADD-984C-E8C001197B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in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359360" y="4876920"/>
            <a:ext cx="59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mpose on 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ame, Categ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ice, 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AC4-CD4C-46A3-B97D-82773791E9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676520" y="2819520"/>
          <a:ext cx="2408040" cy="1452600"/>
        </p:xfrm>
        <a:graphic>
          <a:graphicData uri="http://schemas.openxmlformats.org/drawingml/2006/table">
            <a:tbl>
              <a:tblPr/>
              <a:tblGrid>
                <a:gridCol w="1258560"/>
                <a:gridCol w="1149480"/>
              </a:tblGrid>
              <a:tr h="41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105520" y="28195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114800" y="4572000"/>
          <a:ext cx="2895480" cy="2025720"/>
        </p:xfrm>
        <a:graphic>
          <a:graphicData uri="http://schemas.openxmlformats.org/drawingml/2006/table">
            <a:tbl>
              <a:tblPr/>
              <a:tblGrid>
                <a:gridCol w="1142640"/>
                <a:gridCol w="782640"/>
                <a:gridCol w="970200"/>
              </a:tblGrid>
              <a:tr h="3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434340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343400" y="38095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38098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9080" y="51814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e put it ba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1440" y="583236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nnot recov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E32-8603-4F42-A4A0-CE3B866F66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3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C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DC5-16F2-4874-B087-4A95AE5B7F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200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90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23760" y="2438280"/>
            <a:ext cx="7679160" cy="22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EAC-52D4-4D06-B9BD-4EE8095BF1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in R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t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(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43000" y="4038480"/>
          <a:ext cx="617220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760"/>
                <a:gridCol w="615960"/>
                <a:gridCol w="61740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 rot="16200000">
            <a:off x="26287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1433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8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520" y="5181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040" y="3546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14D-19FE-4BB6-805B-A9A3742F46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2800" y="4384800"/>
            <a:ext cx="474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219320" y="2057400"/>
          <a:ext cx="6019560" cy="1674720"/>
        </p:xfrm>
        <a:graphic>
          <a:graphicData uri="http://schemas.openxmlformats.org/drawingml/2006/table">
            <a:tbl>
              <a:tblPr/>
              <a:tblGrid>
                <a:gridCol w="1504440"/>
                <a:gridCol w="150516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8B48-8537-456B-8D2C-1F98A991AC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e it into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600200" y="2209680"/>
          <a:ext cx="4514760" cy="1004760"/>
        </p:xfrm>
        <a:graphic>
          <a:graphicData uri="http://schemas.openxmlformats.org/drawingml/2006/table">
            <a:tbl>
              <a:tblPr/>
              <a:tblGrid>
                <a:gridCol w="150480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676520" y="3886200"/>
          <a:ext cx="3009960" cy="1674720"/>
        </p:xfrm>
        <a:graphic>
          <a:graphicData uri="http://schemas.openxmlformats.org/drawingml/2006/table">
            <a:tbl>
              <a:tblPr/>
              <a:tblGrid>
                <a:gridCol w="1505160"/>
                <a:gridCol w="1504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638-82E0-4559-BFDF-89A15AE7C0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960" y="187020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dependency that violates the BCNF cond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24382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683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255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6396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35560" y="2625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92760" y="2625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30840" y="26258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969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4484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834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02920" y="4835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152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9764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380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400" y="3013200"/>
            <a:ext cx="67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uristics: choose B , B , … B  “as large as possi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32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004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38480" y="3200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040" y="4079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4080" y="510552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13920" y="4537080"/>
            <a:ext cx="225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u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E4C-D858-4FC3-852E-05A216E922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516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8880" y="3089160"/>
            <a:ext cx="4079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find all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now decom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94F-718E-4CEA-902E-193F932601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B,C,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     B,    B     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: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ations of BCNF: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  B,  A   C,  A  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   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split into  R1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R2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,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we pick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 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fir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485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915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62720" y="5257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1D6-1BA2-409F-BBD1-FD08C4A85F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composition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oss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we can re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(A,B)      R2(A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’(A,B,C)   should be the same 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R(A,B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52680" y="27432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4191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0880" y="613728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’ is in general larger than R.  Must ensure R’ =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65840" y="2652840"/>
            <a:ext cx="1750680" cy="496440"/>
          </a:xfrm>
          <a:prstGeom prst="wedgeRoundRectCallout">
            <a:avLst>
              <a:gd name="adj1" fmla="val -140601"/>
              <a:gd name="adj2" fmla="val 36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840" y="4572000"/>
            <a:ext cx="1292760" cy="496440"/>
          </a:xfrm>
          <a:prstGeom prst="wedgeRoundRectCallout">
            <a:avLst>
              <a:gd name="adj1" fmla="val -193481"/>
              <a:gd name="adj2" fmla="val -13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415-9293-4A8A-8E69-2AD169AE4D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s.t.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, the decomposition into R1(A,B), R2(A,C) is loss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6B7-C9D9-44C4-A7FD-C3BC6A6B94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: A Problem with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3040" y="2244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304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94920" y="175248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954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412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6160" y="35812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47242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3962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4038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5105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5181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4400" y="2701800"/>
            <a:ext cx="69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BCNF violation, and we decom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87720" y="39211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61040" y="51055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5EE-6050-4C68-BB87-19FAC87307C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9360" y="4835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9360" y="498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240" y="43434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10080" y="449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560" y="16002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43400" y="1600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088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4340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5740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19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5520" y="2098800"/>
            <a:ext cx="70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UW                  Galaga99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UW                  Bingo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1600" y="30132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26440" y="5070600"/>
            <a:ext cx="607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4680" y="6137280"/>
            <a:ext cx="70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olates the dependency:   company, product -&gt; un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F5D-C435-4205-BCB7-5727659898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 (3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5280" y="19461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040" y="2971800"/>
            <a:ext cx="7919640" cy="224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768-15C4-4462-B8AE-7B49EB957D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definition of a k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.t. for any other attribute B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al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which is a key and for which no subset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calls the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23D-D36C-4C13-8B06-518166B75C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are:    {name, category} and all super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are:  [in clas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453-9DF8-4B12-9C01-6E558CEB9A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 of a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196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6040" y="2590920"/>
            <a:ext cx="794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4648320"/>
            <a:ext cx="4723920" cy="1396800"/>
            <a:chOff x="228600" y="4648320"/>
            <a:chExt cx="4723920" cy="1396800"/>
          </a:xfrm>
        </p:grpSpPr>
        <p:sp>
          <p:nvSpPr>
            <p:cNvPr id="68" name=""/>
            <p:cNvSpPr/>
            <p:nvPr/>
          </p:nvSpPr>
          <p:spPr>
            <a:xfrm>
              <a:off x="228600" y="5561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3800" y="5507640"/>
              <a:ext cx="101952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32640" y="5507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17040" y="4648320"/>
              <a:ext cx="1771560" cy="53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140480" y="5185440"/>
              <a:ext cx="11811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2000" y="5185440"/>
              <a:ext cx="2145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2000" y="5185440"/>
              <a:ext cx="171756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333040" y="46483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, nam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E4F-A4F9-4237-82AC-437480E58C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5840" y="3321000"/>
            <a:ext cx="1822320" cy="55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21040" y="3154320"/>
            <a:ext cx="1104840" cy="9939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97200" y="3443400"/>
            <a:ext cx="1546200" cy="552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58760" y="293364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1998720" y="3321000"/>
            <a:ext cx="1094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052720" y="39830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33680" y="3651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5880" y="36511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195960" y="3871800"/>
            <a:ext cx="38736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83320" y="3871800"/>
            <a:ext cx="44136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65680" y="6033960"/>
            <a:ext cx="33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, 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78280" y="445788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1800" y="415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2320" y="1219320"/>
            <a:ext cx="805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f the relation comes from a many-many relations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ll attribute key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corresponding to the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A5D-F8B8-482B-8775-8E28105066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960" y="137160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057400" y="2514600"/>
            <a:ext cx="5029200" cy="2239920"/>
            <a:chOff x="2057400" y="2514600"/>
            <a:chExt cx="5029200" cy="2239920"/>
          </a:xfrm>
        </p:grpSpPr>
        <p:sp>
          <p:nvSpPr>
            <p:cNvPr id="99" name=""/>
            <p:cNvSpPr/>
            <p:nvPr/>
          </p:nvSpPr>
          <p:spPr>
            <a:xfrm>
              <a:off x="4069080" y="3017160"/>
              <a:ext cx="914040" cy="822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40280" y="2514600"/>
              <a:ext cx="13255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40480" y="429732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0720" y="320004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83480" y="34286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2628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66160" y="2971800"/>
              <a:ext cx="5029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7400" y="4205880"/>
              <a:ext cx="1325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redit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382920" y="3428640"/>
              <a:ext cx="685800" cy="7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6860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474-7299-4EC8-BC8B-917E24D8D3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ng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9320" y="137160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: “the CreditCard determines the Pers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68720" y="3017880"/>
            <a:ext cx="914400" cy="822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39920" y="25146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40120" y="429732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61080" y="32004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83120" y="342900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25920" y="3840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5440" y="2971800"/>
            <a:ext cx="503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420516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dit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382560" y="3429000"/>
            <a:ext cx="685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6860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42080" y="3581280"/>
            <a:ext cx="2209680" cy="1692360"/>
          </a:xfrm>
          <a:prstGeom prst="wedgeEllipseCallout">
            <a:avLst>
              <a:gd name="adj1" fmla="val -148921"/>
              <a:gd name="adj2" fmla="val -21291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a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47080" y="62895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-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E0D-B2FE-483C-A78F-68F351F399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Yana K</cp:lastModifiedBy>
  <dcterms:modified xsi:type="dcterms:W3CDTF">2002-10-18T04:37:49Z</dcterms:modified>
  <cp:revision>42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40165793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09</vt:lpwstr>
  </property>
</Properties>
</file>