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26A0-6DF5-4FD8-A481-50A7E2084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D2C-1DF8-44F1-BD84-F9E12856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A5C-A26C-4944-B82C-502CB8B9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1FD-3AF2-4F94-AC84-78197C50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5CB-E596-4EE5-8742-528901D7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D07-A351-4EC7-8627-577D52D2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6AD-8A30-406F-8BE4-4093CADC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7F7-9EE2-45C1-B8BA-9FE40BA3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7C6-A56C-465E-9812-66B4A4DB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E46-894F-4402-80AE-5418716F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788-5316-4F49-9AA5-9205E835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099-25CA-46AE-9841-D18F0B44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369-C005-498B-B4D0-BAA1470D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C89B-B9D8-4657-9169-6D7CA60D7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1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027-1553-413D-B842-24D029BFA5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ules in the book – please rea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CAE-1E59-4E90-B5DF-F3C3560419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4440" y="25495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2920" y="27511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0120" y="27511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08200" y="27511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96920" y="277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1320" y="254952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79800" y="2736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37000" y="2736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75080" y="2736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39211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60480" y="4122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17680" y="4122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56120" y="4122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4840" y="414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35560" y="4073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26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888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445464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60480" y="46562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17680" y="46562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56120" y="46562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44840" y="4683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35560" y="4606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8880" y="441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68320" y="552132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36800" y="5722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4000" y="5722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2080" y="5722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21160" y="574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1520" y="5673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520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236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840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562720" y="4419720"/>
          <a:ext cx="3222360" cy="1752480"/>
        </p:xfrm>
        <a:graphic>
          <a:graphicData uri="http://schemas.openxmlformats.org/drawingml/2006/table">
            <a:tbl>
              <a:tblPr/>
              <a:tblGrid>
                <a:gridCol w="358560"/>
                <a:gridCol w="357120"/>
                <a:gridCol w="358920"/>
                <a:gridCol w="357120"/>
                <a:gridCol w="358920"/>
                <a:gridCol w="358560"/>
                <a:gridCol w="357480"/>
                <a:gridCol w="358560"/>
                <a:gridCol w="3571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013-F780-499B-911A-202F6849A3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39720" y="247320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08200" y="26748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65400" y="26748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03480" y="26748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92560" y="270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59240" y="27018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30640" y="24732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4724280"/>
          <a:ext cx="308592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642120" y="31654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 = 1, 2, ...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61C-B5EF-40EF-9447-48155336A6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55960" y="35323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3733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733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733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08440" y="3760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28960" y="2505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55960" y="45226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472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472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472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8440" y="4751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55960" y="551340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5715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5715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715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08440" y="5742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593680" y="3532320"/>
            <a:ext cx="1851840" cy="596520"/>
            <a:chOff x="5593680" y="3532320"/>
            <a:chExt cx="1851840" cy="596520"/>
          </a:xfrm>
        </p:grpSpPr>
        <p:sp>
          <p:nvSpPr>
            <p:cNvPr id="208" name=""/>
            <p:cNvSpPr/>
            <p:nvPr/>
          </p:nvSpPr>
          <p:spPr>
            <a:xfrm>
              <a:off x="5775480" y="37605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93680" y="353232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 , B  …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32680" y="37605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47080" y="37605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701680" y="4522680"/>
            <a:ext cx="1851120" cy="596880"/>
            <a:chOff x="5701680" y="4522680"/>
            <a:chExt cx="1851120" cy="596880"/>
          </a:xfrm>
        </p:grpSpPr>
        <p:sp>
          <p:nvSpPr>
            <p:cNvPr id="213" name=""/>
            <p:cNvSpPr/>
            <p:nvPr/>
          </p:nvSpPr>
          <p:spPr>
            <a:xfrm>
              <a:off x="5883120" y="47512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1680" y="45226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 , C  …,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0320" y="47512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54720" y="47512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778000" y="5513400"/>
            <a:ext cx="1851120" cy="596880"/>
            <a:chOff x="5778000" y="5513400"/>
            <a:chExt cx="1851120" cy="596880"/>
          </a:xfrm>
        </p:grpSpPr>
        <p:sp>
          <p:nvSpPr>
            <p:cNvPr id="218" name=""/>
            <p:cNvSpPr/>
            <p:nvPr/>
          </p:nvSpPr>
          <p:spPr>
            <a:xfrm>
              <a:off x="5959440" y="57420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78000" y="551340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 , C  …,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16640" y="57420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31040" y="57420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80520" y="347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572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0160" y="552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3760" y="6095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0CA-83B3-4EBC-A335-155741951E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533520" y="2514600"/>
          <a:ext cx="802476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  <a:gridCol w="617760"/>
                <a:gridCol w="617400"/>
                <a:gridCol w="615960"/>
                <a:gridCol w="617400"/>
                <a:gridCol w="617760"/>
                <a:gridCol w="617400"/>
                <a:gridCol w="617400"/>
                <a:gridCol w="6177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387-D73C-4374-AEC4-A4DBF3B642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major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can we infer ? [in clas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3B1-CEA5-42A8-A613-CCBD12F58B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720" y="1981080"/>
            <a:ext cx="839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 set of attributes  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1, …, An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a set of dependencie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ble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find all attribute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 relation which satisfies S also satisf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1, …, An     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33526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9240" y="4156200"/>
            <a:ext cx="64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A1, …, An}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A1, …, An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all such attribu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276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08C-C507-4ECD-ABA4-8CD1F8B1B9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2080" y="1946160"/>
            <a:ext cx="528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X={A1, …, An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oesn’t chang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                                       is in 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is not 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 t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342900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3516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3044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43560" y="33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39625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06560" y="4240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63760" y="4240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41911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3200" y="396252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ll in X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2A2-ED59-4C6F-BFBE-2C9829BFA5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9120" y="1641600"/>
            <a:ext cx="650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D          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         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F             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of {A,B}: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of  {A, F}: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190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4480" y="91440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5B0-5999-4A31-AB59-0E97675BA6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the Algorithm Correc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he following by in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1, …, An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{A1, …, An}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on step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1, …, B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1, …, An      B1, …, 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lso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1, …, Bm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ransitivity we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1, …, An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hows that the algorithm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need to show i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7BC-0052-4946-95AD-7ED83EA8F1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 (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about FDs (3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2CF-DC0C-47E8-9CBF-E26F144B38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F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CF5-8B29-434A-9134-7A7B73B012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database is poorly designed we get anomal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: data is rep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anomalies: need to change in several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anomalies: may lose data when we don’t w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C8B-5B9C-43C6-B947-985F342C09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8600" y="4648320"/>
            <a:ext cx="6785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= repea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= Fred moves to “Bellv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Fred drops all phone number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is c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224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4080" y="419112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but no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295280" y="2286000"/>
          <a:ext cx="6019920" cy="167472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56D-F915-4788-BF2E-75E0477737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204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600200" y="2209680"/>
          <a:ext cx="4514760" cy="1004760"/>
        </p:xfrm>
        <a:graphic>
          <a:graphicData uri="http://schemas.openxmlformats.org/drawingml/2006/table">
            <a:tbl>
              <a:tblPr/>
              <a:tblGrid>
                <a:gridCol w="150480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676520" y="3886200"/>
          <a:ext cx="3009960" cy="1674720"/>
        </p:xfrm>
        <a:graphic>
          <a:graphicData uri="http://schemas.openxmlformats.org/drawingml/2006/table">
            <a:tbl>
              <a:tblPr/>
              <a:tblGrid>
                <a:gridCol w="1505160"/>
                <a:gridCol w="1504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D78-FA01-4360-85CE-C2864C5916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275" name="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51588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660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F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4800" y="525780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809880" y="3809880"/>
          <a:ext cx="152424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867280" y="3809880"/>
          <a:ext cx="1905120" cy="5904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800600" y="5181480"/>
          <a:ext cx="1143000" cy="78768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6248520" y="5181480"/>
          <a:ext cx="380880" cy="78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7010280" y="5181480"/>
          <a:ext cx="76212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3581280" y="5181480"/>
          <a:ext cx="762120" cy="78732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8D6-35C5-4C93-8218-D6533339E6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3560" y="175248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87840" y="2666880"/>
            <a:ext cx="70005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wo relation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1(B1, ..., B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2(C1, ..., 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1, ..., B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1, ..., C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1, ...,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AA8-74C3-4969-836D-50ADE802EF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in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359360" y="4876920"/>
            <a:ext cx="59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mpose on 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ame, Categ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ice, 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9D3-BD90-4723-BF1F-52D6792029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676520" y="2819520"/>
          <a:ext cx="2408040" cy="1452600"/>
        </p:xfrm>
        <a:graphic>
          <a:graphicData uri="http://schemas.openxmlformats.org/drawingml/2006/table">
            <a:tbl>
              <a:tblPr/>
              <a:tblGrid>
                <a:gridCol w="1258560"/>
                <a:gridCol w="1149480"/>
              </a:tblGrid>
              <a:tr h="41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105520" y="28195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114800" y="4572000"/>
          <a:ext cx="2895480" cy="2025720"/>
        </p:xfrm>
        <a:graphic>
          <a:graphicData uri="http://schemas.openxmlformats.org/drawingml/2006/table">
            <a:tbl>
              <a:tblPr/>
              <a:tblGrid>
                <a:gridCol w="1142640"/>
                <a:gridCol w="782640"/>
                <a:gridCol w="970200"/>
              </a:tblGrid>
              <a:tr h="3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434340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343400" y="38095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3400" y="38098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9080" y="51814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e put it ba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1440" y="583236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nnot recov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D7A-46E0-4CC8-ABCA-7D0A84EE9F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3NF) = 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CNF) = 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88B-EECE-43D9-A649-AF03E06D2F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200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9080" y="4917960"/>
            <a:ext cx="850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(though a bit vagu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ing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23760" y="2438280"/>
            <a:ext cx="7679160" cy="22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0C7-E47D-4890-BF55-007F2C1A20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in R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t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(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43000" y="4038480"/>
          <a:ext cx="617220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760"/>
                <a:gridCol w="615960"/>
                <a:gridCol w="61740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 rot="16200000">
            <a:off x="26287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51433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8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520" y="5181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4040" y="3546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8F2-DC37-4975-A7B7-ADEA5855F1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2800" y="4384800"/>
            <a:ext cx="474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in BCN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219320" y="2057400"/>
          <a:ext cx="6019560" cy="1674720"/>
        </p:xfrm>
        <a:graphic>
          <a:graphicData uri="http://schemas.openxmlformats.org/drawingml/2006/table">
            <a:tbl>
              <a:tblPr/>
              <a:tblGrid>
                <a:gridCol w="1504440"/>
                <a:gridCol w="150516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961-E097-4457-81A2-8F2829C224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e it into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600200" y="2209680"/>
          <a:ext cx="4514760" cy="1004760"/>
        </p:xfrm>
        <a:graphic>
          <a:graphicData uri="http://schemas.openxmlformats.org/drawingml/2006/table">
            <a:tbl>
              <a:tblPr/>
              <a:tblGrid>
                <a:gridCol w="150480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676520" y="3886200"/>
          <a:ext cx="3009960" cy="1674720"/>
        </p:xfrm>
        <a:graphic>
          <a:graphicData uri="http://schemas.openxmlformats.org/drawingml/2006/table">
            <a:tbl>
              <a:tblPr/>
              <a:tblGrid>
                <a:gridCol w="1505160"/>
                <a:gridCol w="1504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801-C386-4DF0-A38B-CEAE5C4A85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960" y="187020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dependency that violates the BCNF cond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24382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6832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2552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6396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35560" y="26258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92760" y="26258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30840" y="26258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969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4484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834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02920" y="4835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152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97640" y="6172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3800" y="6172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400" y="3013200"/>
            <a:ext cx="67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uristics: choose B , B , … B  “as large as possi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3200" y="3200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00400" y="3200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38480" y="3200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040" y="4079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4080" y="510552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13920" y="4537080"/>
            <a:ext cx="225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u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BEE-CA56-4567-B0C4-476B7168CA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516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8880" y="3089160"/>
            <a:ext cx="4079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find all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now decom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AC0-5DAA-4845-8805-6949303245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B,C,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     B,    B     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: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ations of BCNF: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  B,  A   C,  A   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   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split into  R1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R2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we pick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 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fir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8620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55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485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915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62720" y="5257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07C-7301-4270-B056-E921486EC10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composition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oss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we can re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(A,B)      R2(A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’(A,B,C)   should be the same 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R(A,B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52680" y="27432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4191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0880" y="613728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’ is in general larger than R.  Must ensure R’ =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65840" y="2652840"/>
            <a:ext cx="1750680" cy="496440"/>
          </a:xfrm>
          <a:prstGeom prst="wedgeRoundRectCallout">
            <a:avLst>
              <a:gd name="adj1" fmla="val -140601"/>
              <a:gd name="adj2" fmla="val 36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840" y="4572000"/>
            <a:ext cx="1292760" cy="496440"/>
          </a:xfrm>
          <a:prstGeom prst="wedgeRoundRectCallout">
            <a:avLst>
              <a:gd name="adj1" fmla="val -193481"/>
              <a:gd name="adj2" fmla="val -13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586-7E7B-4DFF-B37A-28568D08B22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s.t.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, the decomposition into R1(A,B), R2(A,C) is loss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D98-246B-4A9A-ADD3-D97CD0C5E57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: A Problem with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3040" y="2244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304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94920" y="175248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954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412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6160" y="35812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47242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3962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4038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5105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5181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4400" y="2701800"/>
            <a:ext cx="69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BCNF violation, and we decom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87720" y="39211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61040" y="51055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52F-100E-415E-933B-9240DCC486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’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9360" y="4835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9360" y="498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240" y="434340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10080" y="4495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560" y="16002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43400" y="1600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088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4340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5740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19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5520" y="2098800"/>
            <a:ext cx="70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UW                  Galaga99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o                 UW                  Bingo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1600" y="301320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so far. All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D’s ar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put all the data back into a single table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26440" y="5070600"/>
            <a:ext cx="607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o     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4680" y="6137280"/>
            <a:ext cx="70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olates the dependency:   company, product -&gt; un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9FC-9B2B-4924-BFEC-A0A97ECCD0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3rd Normal Form (3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5280" y="19461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040" y="2971800"/>
            <a:ext cx="7919640" cy="224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3rd normal form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then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a super-key for 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B is part of a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A10-7025-43A3-87A2-8EAA2B3EA3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definition of a k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.t. for any other attribute B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al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which is a key and for which no subset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calls the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222-1728-476C-AF53-50DA568CFE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are:    {name, category} and all super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are:  [in clas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55D-E4E4-4365-A9EF-260168421E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 of a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1960" y="202248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ven a relation constructed from an E/R diagram, what is it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6040" y="2590920"/>
            <a:ext cx="794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f the relation comes from an entity s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ttributes which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he entit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" y="4648320"/>
            <a:ext cx="4723920" cy="1396800"/>
            <a:chOff x="228600" y="4648320"/>
            <a:chExt cx="4723920" cy="1396800"/>
          </a:xfrm>
        </p:grpSpPr>
        <p:sp>
          <p:nvSpPr>
            <p:cNvPr id="68" name=""/>
            <p:cNvSpPr/>
            <p:nvPr/>
          </p:nvSpPr>
          <p:spPr>
            <a:xfrm>
              <a:off x="228600" y="5561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3800" y="5507640"/>
              <a:ext cx="101952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32640" y="5507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17040" y="4648320"/>
              <a:ext cx="1771560" cy="537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140480" y="5185440"/>
              <a:ext cx="118116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2000" y="5185440"/>
              <a:ext cx="2145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2000" y="5185440"/>
              <a:ext cx="1717560" cy="42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333040" y="46483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, nam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4952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7C4-A94A-45DA-8205-96EE80A0DE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5840" y="3321000"/>
            <a:ext cx="1822320" cy="55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21040" y="3154320"/>
            <a:ext cx="1104840" cy="9939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97200" y="3443400"/>
            <a:ext cx="1546200" cy="552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58760" y="293364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1998720" y="3321000"/>
            <a:ext cx="10944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052720" y="39830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33680" y="3651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5880" y="365112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195960" y="3871800"/>
            <a:ext cx="38736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83320" y="3871800"/>
            <a:ext cx="44136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65680" y="6033960"/>
            <a:ext cx="33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, 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78280" y="445788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1800" y="415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2320" y="1219320"/>
            <a:ext cx="805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If the relation comes from a many-many relations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ll attribute key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corresponding to the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DF8-0F7E-4B11-82E2-8CB6802851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960" y="137160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an arrow from the relationship to 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the key of E as part of the relatio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057400" y="2514600"/>
            <a:ext cx="5029200" cy="2239920"/>
            <a:chOff x="2057400" y="2514600"/>
            <a:chExt cx="5029200" cy="2239920"/>
          </a:xfrm>
        </p:grpSpPr>
        <p:sp>
          <p:nvSpPr>
            <p:cNvPr id="99" name=""/>
            <p:cNvSpPr/>
            <p:nvPr/>
          </p:nvSpPr>
          <p:spPr>
            <a:xfrm>
              <a:off x="4069080" y="3017160"/>
              <a:ext cx="914040" cy="822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40280" y="2514600"/>
              <a:ext cx="13255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40480" y="429732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0720" y="320004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83480" y="342864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26280" y="384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66160" y="2971800"/>
              <a:ext cx="5029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7400" y="4205880"/>
              <a:ext cx="1325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redit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382920" y="3428640"/>
              <a:ext cx="685800" cy="77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6860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518-7C7C-43A3-B7B4-2DA0FFE18C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ng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9320" y="137160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: “the CreditCard determines the Pers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68720" y="3017880"/>
            <a:ext cx="914400" cy="822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39920" y="25146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40120" y="429732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61080" y="32004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83120" y="342900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25920" y="3840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5440" y="2971800"/>
            <a:ext cx="503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420516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dit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382560" y="3429000"/>
            <a:ext cx="685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6860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42080" y="3581280"/>
            <a:ext cx="2209680" cy="1692360"/>
          </a:xfrm>
          <a:prstGeom prst="wedgeEllipseCallout">
            <a:avLst>
              <a:gd name="adj1" fmla="val -148921"/>
              <a:gd name="adj2" fmla="val -21291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a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47080" y="62895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-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1F0-02E4-437A-A25D-97048D202E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Yana K</cp:lastModifiedBy>
  <dcterms:modified xsi:type="dcterms:W3CDTF">2002-10-18T04:37:49Z</dcterms:modified>
  <cp:revision>42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40165793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09</vt:lpwstr>
  </property>
</Properties>
</file>