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C48-DB06-4E96-B612-372F3C99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tn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82C-A9FA-474A-BE5E-D051B18D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0A4-EB23-4FE0-BAC0-751C353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728-B5A9-4058-AC08-FFEFFAD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62A-A3C5-4B9E-973A-2C988EB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00B-7DDA-4262-BE41-5301B2F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8AE-A5C9-4491-BAD5-F8390381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EC8-E70E-46FC-8290-96AED92E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A22-88F2-4190-BABF-CB66F01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01D-6095-49C3-97B0-A6D73E92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B5E-659D-4C77-860F-36DC53B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FC2-8AC4-4B7E-9F32-206E9B6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DF0-1F48-458C-89C6-83D8A32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9CA5-7BAD-4BD4-9580-31AFE149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D9C-6509-47B3-A7D6-00DF616DEF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6" idx="0"/>
            <a:endCxn id="174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7" idx="0"/>
            <a:endCxn id="180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4" idx="0"/>
            <a:endCxn id="179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0"/>
            <a:endCxn id="179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C81-1C6B-4A3F-9759-35C41DB149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8D1-B644-4E55-8A9F-751426320B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D03-CC01-49E4-8C45-779B79922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44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97520" y="5221440"/>
            <a:ext cx="192132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6DD-FED8-491C-B14B-D3C194842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800-8826-4896-8FB5-2FC75785E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03A-DFB8-4C8D-B907-CC87FB1C60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A02-EF63-4928-9A0C-0BDF980C53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AD0-E67E-4389-8D26-69EA1F304A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48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3224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3936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836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080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778-A0F6-41D8-8B6F-E6BE99A25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42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460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724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3D4-E94B-4503-A138-4D38FA12C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6F2-A799-4208-80F2-423611CC0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2E0-3F9A-4ED9-98D9-72284B0BB8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DB8-EFF0-49E9-BA66-B769A15FF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307" name=""/>
            <p:cNvSpPr/>
            <p:nvPr/>
          </p:nvSpPr>
          <p:spPr>
            <a:xfrm>
              <a:off x="98640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B11-49C8-40FF-AD2A-3931EDD3AF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1312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541044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015-1259-4020-B2BE-40D34816C0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F7B-04D2-4E1B-9885-6806F549AB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4648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495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67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4484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4038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83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55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63960" y="4226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3048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683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255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46483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164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736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1720" y="483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79D-16EC-4A02-B8DB-BB82CADBD7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         Name, Phone,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      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but  Phone        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5638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2160" y="175428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2040" y="1754280"/>
            <a:ext cx="14763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68520" y="175428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08400" y="1754280"/>
            <a:ext cx="12780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6520" y="175428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86400" y="1754280"/>
            <a:ext cx="13176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64120" y="175428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4000" y="1754280"/>
            <a:ext cx="16365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2160" y="21654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00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32040" y="21654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68520" y="21654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08400" y="21654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6520" y="21654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86400" y="21654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64120" y="21654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04000" y="21654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92160" y="2576520"/>
            <a:ext cx="1355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8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32040" y="2576520"/>
            <a:ext cx="14763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8520" y="2576520"/>
            <a:ext cx="1157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08400" y="2576520"/>
            <a:ext cx="12780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6520" y="2576520"/>
            <a:ext cx="1197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86400" y="2576520"/>
            <a:ext cx="13176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4120" y="2576520"/>
            <a:ext cx="151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04000" y="2576520"/>
            <a:ext cx="16365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2160" y="29862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32040" y="29862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8520" y="29862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8400" y="29862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6520" y="29862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86400" y="29862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64120" y="29862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29862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339732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9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2040" y="339732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8520" y="339732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08400" y="339732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6520" y="339732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86400" y="339732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64120" y="339732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04000" y="339732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1752480"/>
            <a:ext cx="5715000" cy="2057400"/>
          </a:xfrm>
          <a:prstGeom prst="rect">
            <a:avLst/>
          </a:prstGeom>
          <a:noFill/>
          <a:ln w="648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896-6777-44B8-8C18-44DA73FBB0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4446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92F-86F8-4B46-BF69-BED459FC7C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2800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052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6524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2244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1188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052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6488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2208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188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016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6488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3892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1188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5052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6488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3892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1188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016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6488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2A3-7346-443A-A8EF-C854D2B5CD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8400" y="2133720"/>
            <a:ext cx="540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ck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7FD-D01A-4591-B2E4-483DC839D1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54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333-735A-49D4-804C-F6D35425D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7236720" y="350532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E22-B379-47C8-8AED-CF59177A6B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definition of a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al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which is a key and for which no subset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calls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46A-3190-4B9B-95C5-EF468BFF49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  {name, category} and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46A-A1A3-4F26-B45F-F451B4C854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6040" y="25909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547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328-92B1-40CB-AA31-3B55FF6917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2320" y="1219320"/>
            <a:ext cx="80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89C-482D-40A2-910D-4523959E9A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960" y="13716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578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yment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CA4-B6D7-42C5-AA00-80BA2B5A99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93F-FA6C-4760-8808-A647361F16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81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C41-F8C9-4D34-BC87-26866C64B4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101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B52-FCDF-4F20-899F-15806A639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117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716-09BB-4646-9EE4-7E3E163CD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4" idx="0"/>
            <a:endCxn id="143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3" idx="0"/>
            <a:endCxn id="132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2" idx="2"/>
            <a:endCxn id="141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1" idx="3"/>
            <a:endCxn id="133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4" idx="2"/>
            <a:endCxn id="142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2" idx="3"/>
            <a:endCxn id="135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0" idx="0"/>
            <a:endCxn id="133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35" idx="0"/>
            <a:endCxn id="140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37" idx="2"/>
            <a:endCxn id="134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36" idx="2"/>
            <a:endCxn id="133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838-EFD7-438E-BB24-CB7215822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156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F57-26BC-4A01-A459-955454137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163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711-6A3B-44CB-B7E2-5DB2FDD70C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Administrator</cp:lastModifiedBy>
  <dcterms:modified xsi:type="dcterms:W3CDTF">2002-10-16T03:48:12Z</dcterms:modified>
  <cp:revision>2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547319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8</vt:lpwstr>
  </property>
</Properties>
</file>