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1DBE-1D90-47D0-8DA1-60CA40C09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Dep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tn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C63-BB88-4E82-87E0-8897C053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7FE-C637-441A-B66C-8D8E2091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224-ABEA-4C35-856A-F31C60FD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522-6DD2-434A-9099-D45FB8F8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B81-9C9D-4F34-BC97-5884569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362-A474-44A9-B004-E5935AAF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54A-469C-4EBE-B65C-3D391EC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767-F452-4ABF-B0EE-D5195903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2B8-8FB0-498C-8A9A-24D14183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56D-BFF5-46BF-92F9-945889A0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CDB-F141-4E0A-9895-6E8D556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A25-36EA-4EFF-9007-5FCC1B04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0CC-7C66-42C2-8E0F-6AF946F3E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6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BA5-CE60-48A2-85C5-F3038C0B63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6" idx="0"/>
            <a:endCxn id="174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7" idx="0"/>
            <a:endCxn id="180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4" idx="0"/>
            <a:endCxn id="179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0"/>
            <a:endCxn id="179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6D2-AD4D-4295-B979-5FE91DB315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304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FC1-E2BC-41C6-9E3A-8C167CB381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4B5-06B5-4847-B49E-D5BB295C5A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7844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97520" y="5221440"/>
            <a:ext cx="192132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643-4D96-44FB-B474-E2B5CC4A26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E7B-D69C-49DF-AD85-E0B02437A1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76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85D-5802-45EC-B8DB-34ED8D41AE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0720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44E-B4CB-4F6D-8B30-E1CDE7F809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72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3C9-9541-49A4-8B66-3972F96571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48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3224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936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836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080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BCA-3573-43B7-9BCA-F6E7CF91D2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9424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6080" y="5985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460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7240" y="83808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D72-CD31-40B2-90AF-6B2EAF05E9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/R diagrams to relations (3.2,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427-F295-464E-B1FB-CDDEC91DA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add the domain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Name, Address, Phone)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l mathematics, not to be confused with SQL tabl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551-96F6-4BFE-A7D9-646FD76D70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corresponding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…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B7C-BA56-4FEA-BBC2-21645C7F32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307" name=""/>
            <p:cNvSpPr/>
            <p:nvPr/>
          </p:nvSpPr>
          <p:spPr>
            <a:xfrm>
              <a:off x="98640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667-531D-4087-AEAE-9F2D70C5D3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21312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541044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AA0-4FCE-4EA9-B7D3-D85BEF55EF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7AC-B3C2-4539-B1A4-71FF73C5D6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916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46483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495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67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4484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6404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40384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683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255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63960" y="42260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064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30481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683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255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6396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46483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164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736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11720" y="4835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ADE-8744-4CB5-BE9A-B2A42F2625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         Name, Phone,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      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but  Phone        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1460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5638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2160" y="175428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32040" y="1754280"/>
            <a:ext cx="147636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68520" y="175428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08400" y="1754280"/>
            <a:ext cx="127800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6520" y="175428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86400" y="1754280"/>
            <a:ext cx="131760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64120" y="175428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04000" y="1754280"/>
            <a:ext cx="163656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92160" y="216540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00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32040" y="216540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68520" y="216540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08400" y="216540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6520" y="216540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86400" y="216540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64120" y="216540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04000" y="216540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92160" y="2576520"/>
            <a:ext cx="1355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8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32040" y="2576520"/>
            <a:ext cx="147636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68520" y="2576520"/>
            <a:ext cx="1157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08400" y="2576520"/>
            <a:ext cx="127800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6520" y="2576520"/>
            <a:ext cx="1197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86400" y="2576520"/>
            <a:ext cx="131760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4120" y="2576520"/>
            <a:ext cx="151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04000" y="2576520"/>
            <a:ext cx="163656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2160" y="298620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32040" y="298620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8520" y="298620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8400" y="298620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6520" y="298620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86400" y="298620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64120" y="298620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298620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339732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9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2040" y="339732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68520" y="339732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08400" y="339732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6520" y="339732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86400" y="339732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64120" y="339732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04000" y="339732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28800" y="1752480"/>
            <a:ext cx="5715000" cy="2057400"/>
          </a:xfrm>
          <a:prstGeom prst="rect">
            <a:avLst/>
          </a:prstGeom>
          <a:noFill/>
          <a:ln w="648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66C-CEBD-478D-B772-0D5B93A82E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 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erase all othe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remaining relation is many-one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athema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438280" y="2666880"/>
          <a:ext cx="4330800" cy="23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4330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444600" y="5791320"/>
            <a:ext cx="68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ote: this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the mathematical definition of a function.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ook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EC2-EA0E-41AA-90D4-05F4499E66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0040" y="231948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28000" y="2336760"/>
            <a:ext cx="120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5080" y="231948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50520" y="2336760"/>
            <a:ext cx="97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65240" y="2336760"/>
            <a:ext cx="10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22440" y="2336760"/>
            <a:ext cx="133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0040" y="230040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95720" y="230040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14800" y="230040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100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27720" y="230040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84920" y="230040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527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95720" y="231948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819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70040" y="280656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11880" y="282240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5080" y="280656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0520" y="282240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64880" y="282240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22080" y="2822400"/>
            <a:ext cx="906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Cl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527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0040" y="278604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95720" y="278604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14800" y="278604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100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27720" y="278604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84920" y="278604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819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527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5720" y="280656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672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819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70040" y="3282840"/>
            <a:ext cx="152568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11880" y="329868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8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5080" y="3282840"/>
            <a:ext cx="130500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50160" y="3298680"/>
            <a:ext cx="77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64880" y="329868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38920" y="329868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27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0040" y="327348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95720" y="32734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05080" y="327348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18000" y="327348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75200" y="327348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819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527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95720" y="328284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672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819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70040" y="375912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11880" y="377676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5080" y="375912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50520" y="377676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64880" y="377676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38920" y="377676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527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0040" y="374976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95720" y="37497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5080" y="374976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18000" y="374976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672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75200" y="374976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819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527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95720" y="3759120"/>
            <a:ext cx="936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672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819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0040" y="423720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11880" y="425304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9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05080" y="423720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0160" y="4253040"/>
            <a:ext cx="88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64880" y="425304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38200" y="4253040"/>
            <a:ext cx="124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527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70040" y="4703760"/>
            <a:ext cx="152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95720" y="423720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95720" y="4703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14800" y="4703760"/>
            <a:ext cx="1295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100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27720" y="4703760"/>
            <a:ext cx="1339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84920" y="4703760"/>
            <a:ext cx="16970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819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486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486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562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9B2-960F-4A89-B876-287FA3E116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58400" y="2133720"/>
            <a:ext cx="540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ckprice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183-BF08-4810-AC74-34F6D7BA1C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54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3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C2C-8367-4BCD-8703-1C203EB26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: Find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62120" y="2133720"/>
          <a:ext cx="6095880" cy="4140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"/>
          <p:cNvSpPr/>
          <p:nvPr/>
        </p:nvSpPr>
        <p:spPr>
          <a:xfrm>
            <a:off x="7236720" y="350532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679-8E92-4B66-9CF8-98B64B9604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definition of a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al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which is a key and for which no subset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calls th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F7B-0188-4711-AF49-3A5DC0966B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  {name, category} and all super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C1A-1E37-48D7-A4C2-4209DEDAE1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 of a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6040" y="259092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547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013-FBBC-4366-B3D4-7CFAF5BAC0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6568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2320" y="1219320"/>
            <a:ext cx="805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FB5-797F-4C2E-A091-D02CFF91DE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960" y="13716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578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yment Met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31F-78DF-4B09-96C9-270561A83D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783-CA73-4B11-9EC2-8A07FEB32B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81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9B1-0F60-4305-B831-81EC88632D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101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D67-3A23-4658-93A1-7D0D43AF76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117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2B4-6243-45ED-85E6-9426AC7C0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180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44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4" idx="0"/>
            <a:endCxn id="143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3" idx="0"/>
            <a:endCxn id="132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2" idx="2"/>
            <a:endCxn id="141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1" idx="3"/>
            <a:endCxn id="133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4" idx="2"/>
            <a:endCxn id="142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2" idx="3"/>
            <a:endCxn id="135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0" idx="0"/>
            <a:endCxn id="133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35" idx="0"/>
            <a:endCxn id="140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37" idx="2"/>
            <a:endCxn id="134" idx="0"/>
          </p:cNvCxnSpPr>
          <p:nvPr/>
        </p:nvCxnSpPr>
        <p:spPr>
          <a:xfrm>
            <a:off x="1144080" y="3260880"/>
            <a:ext cx="7995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36" idx="2"/>
            <a:endCxn id="133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128-20C2-4239-ADB4-12BBC6E762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156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556-3AB5-435D-8057-4777FA4740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163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BCF-D33D-4341-941A-950264CFB4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Administrator</cp:lastModifiedBy>
  <dcterms:modified xsi:type="dcterms:W3CDTF">2002-10-16T03:48:12Z</dcterms:modified>
  <cp:revision>2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85473190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08</vt:lpwstr>
  </property>
</Properties>
</file>