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728-AB00-4C59-B7BB-745CAF1F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666-992F-4C53-A9BF-215527C9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D16-3FC4-49A8-A7B0-74323B77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20C-6314-438F-BAAF-9241ED13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B46-7E06-47AD-8A04-21C6C7CB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0D5-14B3-444E-BCF5-4D2D229C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B56-D892-4282-9FAF-1DB27AB8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E6D-0403-4265-8639-E3E3D89F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ECC-18AA-4DD4-B54B-5AD52E42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492-E6F0-4614-8CC2-2C2E4BF0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0FB-CD67-47BD-B816-1AAA9C36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A64-350D-4271-A041-D102AB03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5907-325B-4190-9F85-0B97E310F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: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14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6FD4-7A05-4B29-B9B2-3769890383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56" idx="0"/>
            <a:endCxn id="157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7" idx="2"/>
            <a:endCxn id="161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3696120" y="3200400"/>
            <a:ext cx="2099880" cy="1172520"/>
          </a:xfrm>
          <a:prstGeom prst="wedgeEllipseCallout">
            <a:avLst>
              <a:gd name="adj1" fmla="val 77217"/>
              <a:gd name="adj2" fmla="val -6758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ACC-4AC5-47C8-9A79-CC219B735C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440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14400" y="2666880"/>
            <a:ext cx="7391160" cy="3416040"/>
            <a:chOff x="914400" y="2666880"/>
            <a:chExt cx="7391160" cy="3416040"/>
          </a:xfrm>
        </p:grpSpPr>
        <p:sp>
          <p:nvSpPr>
            <p:cNvPr id="182" name=""/>
            <p:cNvSpPr/>
            <p:nvPr/>
          </p:nvSpPr>
          <p:spPr>
            <a:xfrm>
              <a:off x="3703320" y="3433680"/>
              <a:ext cx="1394640" cy="1254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14400" y="26668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4840" y="538596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83440" y="37126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98320" y="4061160"/>
              <a:ext cx="11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00640" y="468864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36520" y="3363840"/>
              <a:ext cx="7668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60600" y="613728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ill model as a mathematical set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DEC-D33C-408C-91AA-FC677FB7FD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I know the store, person, invoice, I know the movie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981080" y="2514600"/>
            <a:ext cx="5257800" cy="2742840"/>
            <a:chOff x="1981080" y="2514600"/>
            <a:chExt cx="5257800" cy="2742840"/>
          </a:xfrm>
        </p:grpSpPr>
        <p:sp>
          <p:nvSpPr>
            <p:cNvPr id="192" name=""/>
            <p:cNvSpPr/>
            <p:nvPr/>
          </p:nvSpPr>
          <p:spPr>
            <a:xfrm>
              <a:off x="3965040" y="3461040"/>
              <a:ext cx="991080" cy="849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1080" y="2940120"/>
              <a:ext cx="143784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17000" y="4784400"/>
              <a:ext cx="143892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01040" y="3650040"/>
              <a:ext cx="1437840" cy="47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6480" y="388656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61480" y="4311000"/>
              <a:ext cx="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461480" y="2987640"/>
              <a:ext cx="69444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09720" y="2514600"/>
              <a:ext cx="143928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18920" y="3413160"/>
              <a:ext cx="54612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13D-7EB0-4959-A409-F5FE0D5EC5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do these arrow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tore, person, invoice determines movie  and store, invoice, movie determines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5400" y="3460680"/>
            <a:ext cx="990720" cy="8510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2940120"/>
            <a:ext cx="143856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8080" y="478476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00680" y="364968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6120" y="3886200"/>
            <a:ext cx="84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62560" y="431172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462560" y="2987640"/>
            <a:ext cx="69372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10080" y="2514600"/>
            <a:ext cx="14400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413160"/>
            <a:ext cx="54576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456-97A3-42CC-AF86-AC39C86B41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ow do I say: “invoice determines store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 good way; best approxi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y is this incomplet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895480" y="3200400"/>
            <a:ext cx="4343040" cy="2265120"/>
            <a:chOff x="2895480" y="3200400"/>
            <a:chExt cx="4343040" cy="2265120"/>
          </a:xfrm>
        </p:grpSpPr>
        <p:sp>
          <p:nvSpPr>
            <p:cNvPr id="215" name=""/>
            <p:cNvSpPr/>
            <p:nvPr/>
          </p:nvSpPr>
          <p:spPr>
            <a:xfrm>
              <a:off x="4534560" y="3981960"/>
              <a:ext cx="818280" cy="7023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95480" y="355176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30080" y="507492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0520" y="413748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52840" y="4332960"/>
              <a:ext cx="69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44960" y="468432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944960" y="3591000"/>
              <a:ext cx="572760" cy="3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84560" y="3200400"/>
              <a:ext cx="118908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83480" y="3942360"/>
              <a:ext cx="45108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3C1-C59C-47D4-BEF4-48B4C9CBF0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i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9000" y="1793880"/>
            <a:ext cx="69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 need an entity set twice in on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42864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1480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51814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676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6AF-15A3-43A9-AC79-666ECF0F20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o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4C4-8383-40F9-A943-F296BA6651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Multi-way Relationships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5812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5638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39625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21337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657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1828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5257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76520" y="251460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1447560" y="4343040"/>
            <a:ext cx="19047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5146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1905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219320" y="259056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95B-DFF4-414C-9A0F-D0F1B6AC4C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/R Diagra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se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978-3D4C-4FA4-9EE0-4B4D283E81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Set to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35053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2590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3733920" y="3200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49568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105520" y="23619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2440" y="457200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category                   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gadgets                     $1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06560" y="590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06560" y="5978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3536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5452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E1F-147E-4C9D-867E-26AC2B60DD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/R diagrams to relations (3.2, 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0C9-86B4-4C75-8A0D-EF3DDA2994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40" y="4308480"/>
            <a:ext cx="89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uct-name, product-category, company-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yea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-name    Product-Category  Company-name    Starting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gadgets            gizmoWorks         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5486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5562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82" idx="0"/>
            <a:endCxn id="297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82" idx="0"/>
            <a:endCxn id="283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"/>
          <p:cNvCxnSpPr>
            <a:stCxn id="282" idx="0"/>
            <a:endCxn id="284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80" idx="0"/>
            <a:endCxn id="291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80" idx="3"/>
            <a:endCxn id="281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2046240" y="628020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atch out for attribute name confli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69B-5074-4667-8829-C7612D55BC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5920" y="44956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Modif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category   price    StartYear   company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gadgets    19.99    1963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6736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5749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08" idx="0"/>
            <a:endCxn id="323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08" idx="0"/>
            <a:endCxn id="309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08" idx="0"/>
            <a:endCxn id="310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06" idx="0"/>
            <a:endCxn id="317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06" idx="3"/>
            <a:endCxn id="307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38098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1FF-BAF5-4AC0-8301-7DD9612599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6480" y="2824200"/>
            <a:ext cx="1393920" cy="12556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205740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7280" y="477684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26240" y="310356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0400" y="3451320"/>
            <a:ext cx="11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3440" y="4079880"/>
            <a:ext cx="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79680" y="2754360"/>
            <a:ext cx="76680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32004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31240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3392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18288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91520" y="17524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2743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4674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74320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54864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9160" y="5334120"/>
            <a:ext cx="3620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       ,          ,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57A-9FDD-4BBC-B332-4B4D180B4A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19051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8520" y="2209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7080" y="137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4800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51814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181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528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36196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5360" y="62895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  be faith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25C-7EB2-4AEA-A783-D25BDFFA96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94360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14800" y="51814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5638680"/>
            <a:ext cx="175248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437920" y="5181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50360" y="5146560"/>
            <a:ext cx="29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pick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nd of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4A8-55C4-4BD7-850D-421D2A14CC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67480" y="220968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91120" y="22860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400800" y="2590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40" y="4917960"/>
            <a:ext cx="30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do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icate lif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an it already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B96-DE17-4B2E-BA12-A1B93CAD80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360" y="20988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in a class may be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 defin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76000" y="40035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9000" y="48769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09000" y="487692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048120" y="44956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44956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6920" y="606096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--- we define subclasses in E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69A-B26D-4048-A926-C02478692E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26668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812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17524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358092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34340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952880" y="15235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3868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5257800"/>
            <a:ext cx="26668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5257800"/>
            <a:ext cx="23623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676160" y="4572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7220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819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960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599840" y="6019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53080" y="60199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008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73400" y="22860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C8F-CCE5-4ECF-A9A3-73745C9F23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terms of rec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257800" y="2514600"/>
            <a:ext cx="1218960" cy="838080"/>
            <a:chOff x="5257800" y="2514600"/>
            <a:chExt cx="1218960" cy="838080"/>
          </a:xfrm>
        </p:grpSpPr>
        <p:sp>
          <p:nvSpPr>
            <p:cNvPr id="422" name=""/>
            <p:cNvSpPr/>
            <p:nvPr/>
          </p:nvSpPr>
          <p:spPr>
            <a:xfrm>
              <a:off x="5257800" y="25146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57800" y="29718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257800" y="3733920"/>
            <a:ext cx="1218960" cy="838080"/>
            <a:chOff x="5257800" y="3733920"/>
            <a:chExt cx="1218960" cy="838080"/>
          </a:xfrm>
        </p:grpSpPr>
        <p:sp>
          <p:nvSpPr>
            <p:cNvPr id="425" name=""/>
            <p:cNvSpPr/>
            <p:nvPr/>
          </p:nvSpPr>
          <p:spPr>
            <a:xfrm>
              <a:off x="5257800" y="37339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57800" y="41911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257800" y="5257800"/>
            <a:ext cx="1218960" cy="838080"/>
            <a:chOff x="5257800" y="5257800"/>
            <a:chExt cx="1218960" cy="838080"/>
          </a:xfrm>
        </p:grpSpPr>
        <p:sp>
          <p:nvSpPr>
            <p:cNvPr id="428" name=""/>
            <p:cNvSpPr/>
            <p:nvPr/>
          </p:nvSpPr>
          <p:spPr>
            <a:xfrm>
              <a:off x="5257800" y="52578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57800" y="57150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257800" y="45720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8769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477120" y="457164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57800" y="6095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63244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6477120" y="60955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63244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65530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477120" y="63241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94240" y="2479680"/>
            <a:ext cx="893880" cy="916920"/>
            <a:chOff x="5394240" y="2479680"/>
            <a:chExt cx="893880" cy="916920"/>
          </a:xfrm>
        </p:grpSpPr>
        <p:sp>
          <p:nvSpPr>
            <p:cNvPr id="440" name=""/>
            <p:cNvSpPr/>
            <p:nvPr/>
          </p:nvSpPr>
          <p:spPr>
            <a:xfrm>
              <a:off x="5394240" y="24796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94240" y="29368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410080" y="3733920"/>
            <a:ext cx="893880" cy="916920"/>
            <a:chOff x="5410080" y="3733920"/>
            <a:chExt cx="893880" cy="916920"/>
          </a:xfrm>
        </p:grpSpPr>
        <p:sp>
          <p:nvSpPr>
            <p:cNvPr id="443" name=""/>
            <p:cNvSpPr/>
            <p:nvPr/>
          </p:nvSpPr>
          <p:spPr>
            <a:xfrm>
              <a:off x="5410080" y="37339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10080" y="41911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410080" y="5257800"/>
            <a:ext cx="893880" cy="916920"/>
            <a:chOff x="5410080" y="5257800"/>
            <a:chExt cx="893880" cy="916920"/>
          </a:xfrm>
        </p:grpSpPr>
        <p:sp>
          <p:nvSpPr>
            <p:cNvPr id="446" name=""/>
            <p:cNvSpPr/>
            <p:nvPr/>
          </p:nvSpPr>
          <p:spPr>
            <a:xfrm>
              <a:off x="541008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10080" y="57150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471280" y="4533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87120" y="60436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7120" y="62722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D95-B107-48D5-AA9B-FB2DFE0BEC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to Relations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6320" y="1981080"/>
            <a:ext cx="5866920" cy="3927240"/>
            <a:chOff x="76320" y="1981080"/>
            <a:chExt cx="5866920" cy="3927240"/>
          </a:xfrm>
        </p:grpSpPr>
        <p:sp>
          <p:nvSpPr>
            <p:cNvPr id="453" name=""/>
            <p:cNvSpPr/>
            <p:nvPr/>
          </p:nvSpPr>
          <p:spPr>
            <a:xfrm>
              <a:off x="2115000" y="3174120"/>
              <a:ext cx="13917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13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57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67800" y="25776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2313720" y="2975040"/>
              <a:ext cx="1987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810880" y="24278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208680" y="2427840"/>
              <a:ext cx="49716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6844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616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06480" y="4864680"/>
              <a:ext cx="173988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ucational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4400" y="4864680"/>
              <a:ext cx="15411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ftware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1070280" y="4417200"/>
              <a:ext cx="74556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04280" y="4417200"/>
              <a:ext cx="34812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816560" y="3671280"/>
              <a:ext cx="2980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9860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32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t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1020600" y="5361840"/>
              <a:ext cx="69588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53040" y="5361840"/>
              <a:ext cx="7455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07120" y="3671280"/>
              <a:ext cx="49716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2" name=""/>
          <p:cNvGraphicFramePr/>
          <p:nvPr/>
        </p:nvGraphicFramePr>
        <p:xfrm>
          <a:off x="5486400" y="914400"/>
          <a:ext cx="3429000" cy="1981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6248520" y="3276720"/>
          <a:ext cx="2666880" cy="9903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lat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172200" y="4800600"/>
          <a:ext cx="2666880" cy="1486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g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"/>
          <p:cNvSpPr/>
          <p:nvPr/>
        </p:nvSpPr>
        <p:spPr>
          <a:xfrm>
            <a:off x="5563440" y="15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3800" y="3200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w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06240" y="4267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157-C460-47A6-B2D0-E62A66C706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A37-0FD4-4EBF-8896-478A2FFBFD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:   classes are dis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135520" y="3409920"/>
            <a:ext cx="3939480" cy="1454400"/>
            <a:chOff x="2135520" y="3409920"/>
            <a:chExt cx="3939480" cy="1454400"/>
          </a:xfrm>
        </p:grpSpPr>
        <p:sp>
          <p:nvSpPr>
            <p:cNvPr id="480" name=""/>
            <p:cNvSpPr/>
            <p:nvPr/>
          </p:nvSpPr>
          <p:spPr>
            <a:xfrm>
              <a:off x="3125520" y="350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12760" y="3409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16240" y="3733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35520" y="396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68320" y="44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06240" y="365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3440" y="4114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82560" y="44960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3429000"/>
            <a:ext cx="167652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2757600">
            <a:off x="2017080" y="40784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358128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6760" y="2971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5480" y="42670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560" y="3962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7CB-2039-4599-9308-C8580AF87F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   entity sets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3200" y="4572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560" y="41911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211480" y="3657600"/>
            <a:ext cx="3940200" cy="1454400"/>
            <a:chOff x="2211480" y="3657600"/>
            <a:chExt cx="3940200" cy="1454400"/>
          </a:xfrm>
        </p:grpSpPr>
        <p:sp>
          <p:nvSpPr>
            <p:cNvPr id="500" name=""/>
            <p:cNvSpPr/>
            <p:nvPr/>
          </p:nvSpPr>
          <p:spPr>
            <a:xfrm>
              <a:off x="3202200" y="37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89440" y="36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9256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11480" y="4210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45000" y="466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82920" y="3905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40120" y="43624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59240" y="47437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1828800" y="3581280"/>
            <a:ext cx="4648320" cy="17528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2720" y="3276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2757600">
            <a:off x="2093400" y="43070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73392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6FF-CFB2-4C66-90CE-558CD695259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for multiple inheritance in E/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ree entity sets, but four different kind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ed if we want extra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5480" y="3962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1840" y="35812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364120" y="3048120"/>
            <a:ext cx="3939480" cy="1454400"/>
            <a:chOff x="2364120" y="3048120"/>
            <a:chExt cx="3939480" cy="1454400"/>
          </a:xfrm>
        </p:grpSpPr>
        <p:sp>
          <p:nvSpPr>
            <p:cNvPr id="516" name=""/>
            <p:cNvSpPr/>
            <p:nvPr/>
          </p:nvSpPr>
          <p:spPr>
            <a:xfrm>
              <a:off x="3354120" y="3143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136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44840" y="3372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64120" y="3600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96920" y="4057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34840" y="3295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92040" y="3753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11160" y="41342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981080" y="2971800"/>
            <a:ext cx="4648320" cy="1752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53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52680" y="3263760"/>
            <a:ext cx="3060720" cy="1320840"/>
          </a:xfrm>
          <a:custGeom>
            <a:avLst/>
            <a:gdLst/>
            <a:ahLst/>
            <a:rect l="l" t="t" r="r" b="b"/>
            <a:pathLst>
              <a:path w="1560" h="832">
                <a:moveTo>
                  <a:pt x="880" y="104"/>
                </a:moveTo>
                <a:cubicBezTo>
                  <a:pt x="920" y="32"/>
                  <a:pt x="1104" y="0"/>
                  <a:pt x="1216" y="56"/>
                </a:cubicBezTo>
                <a:cubicBezTo>
                  <a:pt x="1328" y="112"/>
                  <a:pt x="1544" y="328"/>
                  <a:pt x="1552" y="440"/>
                </a:cubicBezTo>
                <a:cubicBezTo>
                  <a:pt x="1560" y="552"/>
                  <a:pt x="1440" y="664"/>
                  <a:pt x="1264" y="728"/>
                </a:cubicBezTo>
                <a:cubicBezTo>
                  <a:pt x="1088" y="792"/>
                  <a:pt x="704" y="832"/>
                  <a:pt x="496" y="824"/>
                </a:cubicBezTo>
                <a:cubicBezTo>
                  <a:pt x="288" y="816"/>
                  <a:pt x="32" y="728"/>
                  <a:pt x="16" y="680"/>
                </a:cubicBezTo>
                <a:cubicBezTo>
                  <a:pt x="0" y="632"/>
                  <a:pt x="240" y="568"/>
                  <a:pt x="400" y="536"/>
                </a:cubicBezTo>
                <a:cubicBezTo>
                  <a:pt x="560" y="504"/>
                  <a:pt x="896" y="560"/>
                  <a:pt x="976" y="488"/>
                </a:cubicBezTo>
                <a:cubicBezTo>
                  <a:pt x="1056" y="416"/>
                  <a:pt x="840" y="176"/>
                  <a:pt x="880" y="104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0" y="3530520"/>
            <a:ext cx="2654280" cy="1155960"/>
          </a:xfrm>
          <a:custGeom>
            <a:avLst/>
            <a:gdLst/>
            <a:ahLst/>
            <a:rect l="l" t="t" r="r" b="b"/>
            <a:pathLst>
              <a:path w="1672" h="728">
                <a:moveTo>
                  <a:pt x="0" y="128"/>
                </a:moveTo>
                <a:cubicBezTo>
                  <a:pt x="0" y="48"/>
                  <a:pt x="216" y="0"/>
                  <a:pt x="336" y="32"/>
                </a:cubicBezTo>
                <a:cubicBezTo>
                  <a:pt x="456" y="64"/>
                  <a:pt x="560" y="280"/>
                  <a:pt x="720" y="320"/>
                </a:cubicBezTo>
                <a:cubicBezTo>
                  <a:pt x="880" y="360"/>
                  <a:pt x="1144" y="264"/>
                  <a:pt x="1296" y="272"/>
                </a:cubicBezTo>
                <a:cubicBezTo>
                  <a:pt x="1448" y="280"/>
                  <a:pt x="1592" y="304"/>
                  <a:pt x="1632" y="368"/>
                </a:cubicBezTo>
                <a:cubicBezTo>
                  <a:pt x="1672" y="432"/>
                  <a:pt x="1648" y="600"/>
                  <a:pt x="1536" y="656"/>
                </a:cubicBezTo>
                <a:cubicBezTo>
                  <a:pt x="1424" y="712"/>
                  <a:pt x="1160" y="728"/>
                  <a:pt x="960" y="704"/>
                </a:cubicBezTo>
                <a:cubicBezTo>
                  <a:pt x="760" y="680"/>
                  <a:pt x="496" y="608"/>
                  <a:pt x="336" y="512"/>
                </a:cubicBezTo>
                <a:cubicBezTo>
                  <a:pt x="176" y="416"/>
                  <a:pt x="0" y="208"/>
                  <a:pt x="0" y="12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3080" y="4191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92560" y="41148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C05-CF6C-414D-84F7-76E006FD96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 Stru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05320" y="152388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34290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3581280"/>
            <a:ext cx="221004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44840" y="5562720"/>
            <a:ext cx="220968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-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545240" y="236232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800" y="243828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64400" y="5527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654520" y="5866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4648320"/>
            <a:ext cx="83808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2666880"/>
            <a:ext cx="838080" cy="60984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48006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27432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3" idx="0"/>
            <a:endCxn id="542" idx="3"/>
          </p:cNvCxnSpPr>
          <p:nvPr/>
        </p:nvCxnSpPr>
        <p:spPr>
          <a:xfrm flipV="1">
            <a:off x="1943280" y="3351960"/>
            <a:ext cx="1372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42" idx="0"/>
            <a:endCxn id="531" idx="2"/>
          </p:cNvCxnSpPr>
          <p:nvPr/>
        </p:nvCxnSpPr>
        <p:spPr>
          <a:xfrm flipV="1">
            <a:off x="3314880" y="251388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1" idx="2"/>
            <a:endCxn id="540" idx="0"/>
          </p:cNvCxnSpPr>
          <p:nvPr/>
        </p:nvCxnSpPr>
        <p:spPr>
          <a:xfrm>
            <a:off x="4609800" y="2514240"/>
            <a:ext cx="1600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3"/>
            <a:endCxn id="532" idx="0"/>
          </p:cNvCxnSpPr>
          <p:nvPr/>
        </p:nvCxnSpPr>
        <p:spPr>
          <a:xfrm>
            <a:off x="6210360" y="3276360"/>
            <a:ext cx="12960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33" idx="2"/>
            <a:endCxn id="541" idx="0"/>
          </p:cNvCxnSpPr>
          <p:nvPr/>
        </p:nvCxnSpPr>
        <p:spPr>
          <a:xfrm>
            <a:off x="1943280" y="4571640"/>
            <a:ext cx="915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1" idx="3"/>
            <a:endCxn id="534" idx="0"/>
          </p:cNvCxnSpPr>
          <p:nvPr/>
        </p:nvCxnSpPr>
        <p:spPr>
          <a:xfrm>
            <a:off x="2857680" y="5410080"/>
            <a:ext cx="16927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0"/>
            <a:endCxn id="532" idx="2"/>
          </p:cNvCxnSpPr>
          <p:nvPr/>
        </p:nvCxnSpPr>
        <p:spPr>
          <a:xfrm flipV="1">
            <a:off x="6819480" y="441900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34" idx="0"/>
            <a:endCxn id="539" idx="3"/>
          </p:cNvCxnSpPr>
          <p:nvPr/>
        </p:nvCxnSpPr>
        <p:spPr>
          <a:xfrm flipV="1">
            <a:off x="4549680" y="5257080"/>
            <a:ext cx="2270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36" idx="2"/>
            <a:endCxn id="533" idx="0"/>
          </p:cNvCxnSpPr>
          <p:nvPr/>
        </p:nvCxnSpPr>
        <p:spPr>
          <a:xfrm>
            <a:off x="1144080" y="3260880"/>
            <a:ext cx="79956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535" idx="2"/>
            <a:endCxn id="532" idx="0"/>
          </p:cNvCxnSpPr>
          <p:nvPr/>
        </p:nvCxnSpPr>
        <p:spPr>
          <a:xfrm flipH="1">
            <a:off x="7504920" y="3184200"/>
            <a:ext cx="73260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FB1-2758-44E9-9EE2-D8400D9B1B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442960" y="2517840"/>
            <a:ext cx="4573800" cy="1679040"/>
            <a:chOff x="2442960" y="2517840"/>
            <a:chExt cx="4573800" cy="1679040"/>
          </a:xfrm>
        </p:grpSpPr>
        <p:sp>
          <p:nvSpPr>
            <p:cNvPr id="555" name=""/>
            <p:cNvSpPr/>
            <p:nvPr/>
          </p:nvSpPr>
          <p:spPr>
            <a:xfrm>
              <a:off x="358488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PlaceHolder 2"/>
            <p:cNvSpPr>
              <a:spLocks noGrp="1"/>
            </p:cNvSpPr>
            <p:nvPr>
              <p:ph/>
            </p:nvPr>
          </p:nvSpPr>
          <p:spPr>
            <a:xfrm>
              <a:off x="5638680" y="3580920"/>
              <a:ext cx="1378080" cy="466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87B-BB6C-45C6-93FE-A79BE29F65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225440" y="3809880"/>
            <a:ext cx="7086240" cy="2558880"/>
            <a:chOff x="1225440" y="3809880"/>
            <a:chExt cx="7086240" cy="2558880"/>
          </a:xfrm>
        </p:grpSpPr>
        <p:sp>
          <p:nvSpPr>
            <p:cNvPr id="562" name=""/>
            <p:cNvSpPr/>
            <p:nvPr/>
          </p:nvSpPr>
          <p:spPr>
            <a:xfrm>
              <a:off x="366120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PlaceHolder 3"/>
            <p:cNvSpPr>
              <a:spLocks noGrp="1"/>
            </p:cNvSpPr>
            <p:nvPr>
              <p:ph/>
            </p:nvPr>
          </p:nvSpPr>
          <p:spPr>
            <a:xfrm>
              <a:off x="6933960" y="3809880"/>
              <a:ext cx="1377720" cy="466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E10-23D4-44AA-8C40-FCB308487F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6120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2344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>
            <a:stCxn id="575" idx="0"/>
            <a:endCxn id="573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76" idx="0"/>
            <a:endCxn id="579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73" idx="0"/>
            <a:endCxn id="578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5" name=""/>
          <p:cNvCxnSpPr>
            <a:stCxn id="579" idx="0"/>
            <a:endCxn id="578" idx="3"/>
          </p:cNvCxnSpPr>
          <p:nvPr/>
        </p:nvCxnSpPr>
        <p:spPr>
          <a:xfrm flipV="1" rot="16200000">
            <a:off x="6039000" y="2076480"/>
            <a:ext cx="453240" cy="225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0B2-5D31-4DF9-BF2D-48368D7B7D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Formal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Object Definition Language (ODL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r in spirit to object-oriente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not cover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Entity/Relationship model (E/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elational in n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widely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 be translated (semi-automatically) to relational sche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 to OO-schema: direct transformation (C++ or Smalltalk based syste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20D-ECF8-410A-865C-4A85ECDF5E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4160" y="2743200"/>
            <a:ext cx="630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rst class citizens (not associated with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61C-02D8-45BE-AFC0-310FC86AB2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3" idx="0"/>
            <a:endCxn id="64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64" idx="2"/>
            <a:endCxn id="68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D28-4F31-4579-A0F4-A30603F2B9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ntity set must hav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105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191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74284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053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114800" y="39621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44A-77EC-4694-A31C-6E3CC2F80B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l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hematic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B are sets, then a relation R is a subset of A x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1,2,3},   B={a,b,c,d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{(1,a), (1,c), (3,b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e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335920" y="3048120"/>
            <a:ext cx="3366720" cy="2320920"/>
            <a:chOff x="5335920" y="3048120"/>
            <a:chExt cx="3366720" cy="2320920"/>
          </a:xfrm>
        </p:grpSpPr>
        <p:sp>
          <p:nvSpPr>
            <p:cNvPr id="97" name=""/>
            <p:cNvSpPr/>
            <p:nvPr/>
          </p:nvSpPr>
          <p:spPr>
            <a:xfrm>
              <a:off x="64026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2600" y="37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026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78400" y="3048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79120" y="363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78400" y="421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9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12080" y="3083040"/>
              <a:ext cx="9144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88240" y="3083040"/>
              <a:ext cx="9144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1560" y="3311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21560" y="338796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721560" y="392112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920" y="3886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40680" y="47246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438280" y="5562720"/>
            <a:ext cx="3810240" cy="709200"/>
            <a:chOff x="2438280" y="5562720"/>
            <a:chExt cx="3810240" cy="709200"/>
          </a:xfrm>
        </p:grpSpPr>
        <p:sp>
          <p:nvSpPr>
            <p:cNvPr id="112" name=""/>
            <p:cNvSpPr/>
            <p:nvPr/>
          </p:nvSpPr>
          <p:spPr>
            <a:xfrm>
              <a:off x="3820320" y="5562720"/>
              <a:ext cx="747000" cy="67212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k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65280" y="5712120"/>
              <a:ext cx="108324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8280" y="5898600"/>
              <a:ext cx="104580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67320" y="5898600"/>
              <a:ext cx="59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483720" y="5898600"/>
              <a:ext cx="33588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FFC-C3C2-4709-9B41-BC3EF63B28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E/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981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3124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267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94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0288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2378160"/>
            <a:ext cx="1143000" cy="1008000"/>
            <a:chOff x="2438280" y="2378160"/>
            <a:chExt cx="1143000" cy="1008000"/>
          </a:xfrm>
        </p:grpSpPr>
        <p:sp>
          <p:nvSpPr>
            <p:cNvPr id="129" name=""/>
            <p:cNvSpPr/>
            <p:nvPr/>
          </p:nvSpPr>
          <p:spPr>
            <a:xfrm>
              <a:off x="2438280" y="237816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78080" y="237816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3200" y="2590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74320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2971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514600" y="3581280"/>
            <a:ext cx="1143000" cy="1008000"/>
            <a:chOff x="2514600" y="3581280"/>
            <a:chExt cx="1143000" cy="1008000"/>
          </a:xfrm>
        </p:grpSpPr>
        <p:sp>
          <p:nvSpPr>
            <p:cNvPr id="135" name=""/>
            <p:cNvSpPr/>
            <p:nvPr/>
          </p:nvSpPr>
          <p:spPr>
            <a:xfrm>
              <a:off x="2514600" y="358128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54400" y="358128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90920" y="5105520"/>
            <a:ext cx="1143000" cy="1008000"/>
            <a:chOff x="2590920" y="5105520"/>
            <a:chExt cx="1143000" cy="1008000"/>
          </a:xfrm>
        </p:grpSpPr>
        <p:sp>
          <p:nvSpPr>
            <p:cNvPr id="138" name=""/>
            <p:cNvSpPr/>
            <p:nvPr/>
          </p:nvSpPr>
          <p:spPr>
            <a:xfrm>
              <a:off x="2590920" y="510552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30720" y="510552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19520" y="3809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95480" y="5486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D70-CCAE-482D-A897-3B61FC5EF5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Administrator</cp:lastModifiedBy>
  <dcterms:modified xsi:type="dcterms:W3CDTF">2002-10-14T18:31:18Z</dcterms:modified>
  <cp:revision>277</cp:revision>
  <dc:subject/>
  <dc:title>PowerPoint Presentation</dc:title>
</cp:coreProperties>
</file>