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584-EF68-4723-9140-1D80985D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7C8-9B6F-48BD-9CCF-A81E3F30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D54-6BD6-45A1-A09B-2BFA21B1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848-9D12-42B7-8B60-4935BE24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623-5006-4FB4-A826-5125A11B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48C-0459-4679-A9A0-CA1566E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A3A-E1B2-43FB-9719-CF537167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68D-09E0-4A56-971D-4E8C6532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F2E-F1E9-4536-B450-E2826F91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43D-BB0B-4372-B034-E14B4AC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A31-385B-45F8-BF20-B4257A80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B9E-A767-4ED1-A501-4405685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2BE-1CBB-4605-A50A-5CEACB64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76E-EAA5-43FB-9081-490EFD0412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6" idx="0"/>
            <a:endCxn id="157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7" idx="2"/>
            <a:endCxn id="161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72B-BEF3-4947-92C1-04642CDC10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2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049-48FE-4343-914D-976F011A4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192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75D-E658-4E1A-B47F-27EA38CE6E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873-8A16-4302-9C43-DD251B0174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15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15C-AB8F-42A3-9A3C-E7ED4D6B01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900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A0E-2773-4A69-A659-3EFE988DC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40B-C012-48A4-8DB0-126815CAAE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60F-1967-4DC3-B601-EFB9037858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94F-8C71-40D3-A246-15A784EAD4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7F3-26F5-42CE-9396-92DD539FDF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932-ED49-47BF-A397-C761F3EF8D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0"/>
            <a:endCxn id="29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2" idx="0"/>
            <a:endCxn id="28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82" idx="0"/>
            <a:endCxn id="28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0" idx="0"/>
            <a:endCxn id="29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0" idx="3"/>
            <a:endCxn id="28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990-50E0-4D72-A72B-DC9594AC94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8" idx="0"/>
            <a:endCxn id="323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08" idx="0"/>
            <a:endCxn id="309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08" idx="0"/>
            <a:endCxn id="310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6" idx="0"/>
            <a:endCxn id="317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06" idx="3"/>
            <a:endCxn id="307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B1A-36E5-46A5-B313-A9DB88FAF3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9160" y="5334120"/>
            <a:ext cx="3620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       ,          ,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AFB-3FD0-4461-8146-5887BACFAE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D56-2E85-47C9-B3D9-972DD4CD77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4AB-ED40-481F-A8B2-8EED32E22B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CC3-C813-4CE0-85EB-4E2E7DAA30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C27-1353-4E0B-BC19-ACE5983E5A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4F0-7AA3-4939-B1A8-6975EBA309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2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28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40" name="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43" name="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46" name="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C7A-F79C-407C-93CE-FFF1553339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53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121-8526-4C37-9CE6-E87EF665C5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30A-A9AA-4897-835C-D3E924C5C2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0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1DB-3EA9-4EF9-B8BA-64BBBE3A8F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00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6C0-42E0-4B67-8C67-832D1B6C9B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16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073-8750-42B4-BFAA-0A01A526A8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80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44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3" idx="0"/>
            <a:endCxn id="542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2" idx="0"/>
            <a:endCxn id="531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2"/>
            <a:endCxn id="540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3"/>
            <a:endCxn id="532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3" idx="2"/>
            <a:endCxn id="541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3"/>
            <a:endCxn id="534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0"/>
            <a:endCxn id="532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4" idx="0"/>
            <a:endCxn id="539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6" idx="2"/>
            <a:endCxn id="533" idx="0"/>
          </p:cNvCxnSpPr>
          <p:nvPr/>
        </p:nvCxnSpPr>
        <p:spPr>
          <a:xfrm>
            <a:off x="1144080" y="3260880"/>
            <a:ext cx="7995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5" idx="2"/>
            <a:endCxn id="532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43F-A4AC-4CD2-9208-D8D616F3EF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55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F03-A262-4B2B-B586-74EC8743B3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62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DDF-63EE-4A9F-A247-B0DAEFD70C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5" idx="0"/>
            <a:endCxn id="57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6" idx="0"/>
            <a:endCxn id="57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3" idx="0"/>
            <a:endCxn id="57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9" idx="0"/>
            <a:endCxn id="578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38F-33BC-42ED-BC14-8DD1F53DAE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ot cover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A3A-B227-4896-BA51-005B02809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F93-70D0-43A3-BE72-B739B9D06F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1D2-ED6F-4FF4-85D6-189D25CFC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625-4FFC-4AD4-B560-D2D8C25D6D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x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562720"/>
            <a:ext cx="3810240" cy="709200"/>
            <a:chOff x="2438280" y="5562720"/>
            <a:chExt cx="3810240" cy="709200"/>
          </a:xfrm>
        </p:grpSpPr>
        <p:sp>
          <p:nvSpPr>
            <p:cNvPr id="112" name=""/>
            <p:cNvSpPr/>
            <p:nvPr/>
          </p:nvSpPr>
          <p:spPr>
            <a:xfrm>
              <a:off x="3820320" y="55627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5280" y="57121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58986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7320" y="58986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83720" y="58986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CD7-EB44-4D53-8312-20148040D9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9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5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8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FC4-D0D0-4A36-891B-B99FF64C7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Administrator</cp:lastModifiedBy>
  <dcterms:modified xsi:type="dcterms:W3CDTF">2002-10-14T18:31:18Z</dcterms:modified>
  <cp:revision>277</cp:revision>
  <dc:subject/>
  <dc:title>PowerPoint Presentation</dc:title>
</cp:coreProperties>
</file>