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B276-D359-4D6C-91F5-40B891479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values are A=3, B=2.  If the two transactions were executed serially, then we would have either A=1,B=2,  or A=3,B=4.  This is not a serializabl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795-AF8D-4128-8B68-73516D40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42D-C8A8-43AF-9DDB-A6155DAF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50A-2B7E-479A-97F9-42B9EDD9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114-40FC-45BA-AB04-E938B96B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306-2E87-40BF-82CE-AEDD4683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BBF-1044-479F-BE35-17529C6A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677-3F60-4375-A2E2-04E76C01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1C4-2D76-4389-A770-F805D038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6DE-A2E1-4C09-8D65-0B566FE4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29A-AA97-4A92-8B4D-9920CEE4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79DD-E243-429F-A4BD-CBE73C04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C3D1-CD4B-4B9E-B0AF-BD15781D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F016-B72D-4C2A-A5E2-7F432F3E0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5: SQ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s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11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3F9-A839-41D2-A60B-C8788E39E1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-Row Select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5040" y="1649520"/>
            <a:ext cx="551340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 getPrice(char *nam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BEGIN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n[2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   SQLSTATE[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END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cpy(n, name);   /* copy name to local variabl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 = :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D53-E05B-4686-AC72-90BD6B232B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e the cu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he cu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 tuples one b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the cu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7D6-D52F-4F26-A516-454C918036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product2XML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BEGIN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n[20], c[3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p,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   SQLSTATE[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END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DECL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URSOR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, price, quantity, ma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OP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189-2627-4A15-B0A0-561EC4DED9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&lt;allProducts&gt;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(1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FETCH 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n, :p, :q, :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_MORE_TUP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    &lt;product&gt;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           &lt;name&gt;      %s    &lt;/name&gt;\n”,     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           &lt;price&gt;       %d   &lt;/price&gt;\n”,      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           &lt;quantity&gt;  %d   &lt;/quantity&gt;\n”, q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           &lt;maker&gt;     %s   &lt;/maker&gt;\n”,     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    &lt;/product&gt;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T SQL 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&lt;/allProducts&gt;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5C8-2DF2-49A2-A4F3-4F9457CFA8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NO_MORE_TUPL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define NO_MORE_TUPLES !(strcmp(SQLSTATE,”02000”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2E9-56C2-41A0-BC34-96ECFC6D65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840" y="1870200"/>
            <a:ext cx="776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sors can modify a relation as well as rea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etermine the order in which the cursor will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by the ORDER BY keyword in the SQL qu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sors can be protected against changes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re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sor can be a scrolling one: can go forward, back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n, -n, Abs(n), Abs(-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56C-BC44-4EE5-8835-8A581D66D8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far the SQL statements were visible to the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ynamic SQL we have an arbitrary string that represents a SQL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: compiles the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: executes the compiled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A90-F8EF-4F45-8133-DA241FD0E9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9159840" cy="49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someQuery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BEGIN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*command=“UPDATE Product SET quantity=quantity+1 WHERE name=“gizm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END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PREP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yquery FROM :comma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EXEC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yque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query  =  a SQL variable, does not need to be prefixed by “: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57E-7649-4CEC-82DB-87458689DE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wo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by multiple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he “client-server” architecture: one server with many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ion against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FF1-19A7-44E2-B931-76395B9590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users: single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10400" y="2209680"/>
            <a:ext cx="387972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06360" y="5642280"/>
            <a:ext cx="507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anagers attempt to do a discou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t wor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CE1-4421-4D72-9049-7FD818E591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ded SQL (8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in SQL (8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BFA-4806-4E18-9834-4217B9FE56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users: multiple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31320" y="2057400"/>
            <a:ext cx="502704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64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3E4-E434-4AB2-8972-3D9FEF1DD4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tion against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0240" y="2286000"/>
            <a:ext cx="633168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64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10040" y="4029120"/>
            <a:ext cx="1071000" cy="459720"/>
          </a:xfrm>
          <a:prstGeom prst="wedgeRectCallout">
            <a:avLst>
              <a:gd name="adj1" fmla="val -431615"/>
              <a:gd name="adj2" fmla="val 356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8191-902B-43FE-A2F9-82FB7CB001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= group of statements that must be executed atom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properties: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ITY = all or n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CY = leave database in consist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ION = as if it were the only transaction in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ABILITY = store on disk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C3A-433F-483C-A13F-571F5E47B7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“ad-hoc” 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: each statement = on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“embedded” 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QL statement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   or     ROLLBACK (=AB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203-A799-49BF-BA1E-4AFD3A7F44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: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ility = the technical term for is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ecution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is completely before or completely after any other function’s 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ecution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equivalent to one that is s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 can offer serializability guaran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431-AC5C-43D7-B911-3C79AA7B44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forced with locks, like in Operating System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is is not en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82280" y="3352680"/>
            <a:ext cx="149148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K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write A=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OCK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K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write B=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OCK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4080" y="4038480"/>
            <a:ext cx="14914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K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write A=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OCK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K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write B=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OCK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00400" y="403812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54100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6840" y="32418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0240" y="33177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624852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1240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70400" y="52992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73C-BF91-436C-ADA2-48CAD4E609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two-phase lo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everything at the beg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ock everything at 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locks: many simultaneous read locks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locks: only one write lock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locks: one pe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88E-117E-4A67-8F06-0712BF8F3E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ty read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TRANSACTION ISOLATION LEVEL READ UNCOM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 read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TRANSACTION ISOLATION LEVEL READ COM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able read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TRANSACTION ISOLATION LEVEL REPEATABLE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izable transactions (defaul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TRANSACTION ISOLATION LEVEL SERIALIZ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3720" y="568008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ssignment: chapter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08D-64B4-4116-A89A-97F1A85243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edded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SQL (= ad-hoc SQL) is rarely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actice: SQL is embedded in some application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code is identified by special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F53-C607-4CA6-BF8C-7CAF67172F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dance Mism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SQL in 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uses int, char[..], pointer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uses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mpedance misma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incompatible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55C3-1A55-4F16-B002-BD91C8293A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mpedance Mismatch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y not use only one langu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getting SQL: “we can quickly dispense with this idea”   [textbook, pg. 351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cannot do everything that the host language can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lution: use cur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331-AA29-4D49-AFA1-F45823EB8E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s with Embedded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40840" y="2174760"/>
            <a:ext cx="44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 +  Embedded SQ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360" y="2971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3886200"/>
            <a:ext cx="400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+ function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72560" y="476568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5715000"/>
            <a:ext cx="30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2895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4800600"/>
            <a:ext cx="3429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56280" y="3657600"/>
            <a:ext cx="2994120" cy="2212200"/>
          </a:xfrm>
          <a:prstGeom prst="wedgeEllipseCallout">
            <a:avLst>
              <a:gd name="adj1" fmla="val -71083"/>
              <a:gd name="adj2" fmla="val -1762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(CLI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BC,JDBC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744-29A5-47DB-9824-F3363124E6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: SQL / Host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1080" y="1219320"/>
            <a:ext cx="818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get passed through shared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s precede shared variables when they occur with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tat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C SQ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precedes every SQL statement in the host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bl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QL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s error messages and stat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s (e.g., “00000” says that the operation completed with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5040" y="5181480"/>
            <a:ext cx="563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C SQL  BEGIN DECLARE SE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 productName[3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C SQL  END DECLARE SE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1BA-09CA-4D73-A1B6-6E524856AD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pname,  price, quantit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phon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592-673C-48A1-BF81-95A2C0CCC5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Shared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6320" y="1766880"/>
            <a:ext cx="748080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 simpleInser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BEGIN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   n[20], c[30]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 product-name, company-nam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     p, q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 price, quantity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   SQLSTATE[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END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   get values for name, price and company  somehow  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INSERT 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(pname, price, quantity, mak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:n, :p, :q, :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03E-A7F4-4AFB-8F4C-78618E06DB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Yana K</cp:lastModifiedBy>
  <dcterms:modified xsi:type="dcterms:W3CDTF">2002-10-11T06:07:35Z</dcterms:modified>
  <cp:revision>243</cp:revision>
  <dc:subject/>
  <dc:title>PowerPoint Presentation</dc:title>
</cp:coreProperties>
</file>