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DF84-FF29-48A3-81E2-E5E13FA90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values are A=3, B=2.  If the two transactions were executed serially, then we would have either A=1,B=2,  or A=3,B=4.  This is not a serializabl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C9A-408F-407A-8459-FAF90F04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9BD-33A3-42F4-873E-EB6D88CB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468-8E82-4003-AE1B-E511ACA2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AA9-5D0E-4EAC-813D-14CD4BAD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459-125D-4778-AFC0-617006D8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208-95E9-460F-A166-9A0674C9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237-39D0-415B-9DDC-86EB8F6A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9E0-03F1-4945-9FEA-A8F55CD0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B83-0EF1-4D9B-BD38-BC2749EB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D6B-BD45-4197-84AB-C85BEFCD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E01-5D49-4005-A356-6BE8F87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2E8-2E3B-4042-B294-C755E9B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6B2B-E0C5-4631-B9E4-A8447B543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: SQ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s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76A-3672-4C35-A725-8839ECC8C1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-Row Select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5040" y="1649520"/>
            <a:ext cx="551340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 getPrice(char *nam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n[2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cpy(n, name);   /* copy name to local variabl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 = :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29C-0B64-421D-AFBF-A8809DE6ED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 the cu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he cu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 tuple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the cu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81C-736D-40E0-AD3E-78456B41C7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product2XML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n[20], c[3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p,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DECL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URSOR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, price, quantity, ma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OP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2FB-9971-4D1F-A567-EE185BD6A0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&lt;allProducts&gt;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(1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FETCH 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n, :p, :q, :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_MORE_TUP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&lt;product&gt;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       &lt;name&gt;      %s    &lt;/name&gt;\n”,     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       &lt;price&gt;       %d   &lt;/price&gt;\n”,      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       &lt;quantity&gt;  %d   &lt;/quantity&gt;\n”, q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       &lt;maker&gt;     %s   &lt;/maker&gt;\n”,     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&lt;/product&gt;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T SQL 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&lt;/allProducts&gt;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33B-CAAF-4D2B-994F-C39C5AA21E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NO_MORE_TUPL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efine NO_MORE_TUPLES !(strcmp(SQLSTATE,”02000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F5D-A797-4388-828E-ADDA2CAE24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840" y="1870200"/>
            <a:ext cx="776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s can modify a relation as well as rea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etermine the order in which the cursor will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by the ORDER BY keyword in the SQL qu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s can be protected against changes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sor can be a scrolling one: can go forward, back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n, -n, Abs(n), Abs(-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D35-DDE2-4854-8E6E-DC2E1F5869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far the SQL statements were visible to the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ynamic SQL we have an arbitrary string that represents a SQL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: compiles the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: executes the compiled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F0B-4C5E-40D1-AE14-D27377DCAE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9159840" cy="49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someQuery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*command=“UPDATE Product SET quantity=quantity+1 WHERE name=“gizm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PRE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yquery FROM :comma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XEC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yque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query  =  a SQL variable, does not need to be prefixed by “: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A6B-5CED-4978-B331-B80649EC83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wo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by multiple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he “client-server” architecture: one server with many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6D7-5894-44BB-AECD-6B97312A4D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sing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10400" y="2209680"/>
            <a:ext cx="38797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06360" y="5642280"/>
            <a:ext cx="507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nagers attempt to do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C38-8A2C-4BAA-859B-F5B827E022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ed SQL (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in SQL (8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051-D56A-467C-9826-7FC65E6337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multip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31320" y="2057400"/>
            <a:ext cx="502704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074-3510-4C93-AB34-72C44441A8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0240" y="2286000"/>
            <a:ext cx="6331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8EB-0C7C-4AF4-9042-6D79D8A33B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= group of statements that must be executed ato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properties: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ITY = all or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CY = leave database in 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 = as if it were the only transaction in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ABILITY = store on disk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537-E5C5-4D18-800C-75070C487A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embedded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BD7-1015-4041-9E4A-968BA649C3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: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 = the technical term for 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cution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completely before or completely after any other function’s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cution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equivalent to one that is s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can offer serializability guaran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052-24CA-420D-A061-51D0063DC7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ed with locks, like in Operating System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is is not en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82280" y="3352680"/>
            <a:ext cx="149148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rite A=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rite B=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4080" y="4038480"/>
            <a:ext cx="14914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rite A=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rite B=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00400" y="4038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54100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6840" y="32418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0240" y="33177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62485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1240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70400" y="52992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661-39D0-4F5C-BB26-9A1F91EB74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two-phase 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everything at the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ock everything at 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ocks: many simultaneous read locks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locks: only one write lock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locks: one pe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C88-BFCD-40F8-8411-040905185B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3720" y="568008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ssignment: chapter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7E0-9D96-41FB-BD24-0486733C8C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SQL (= ad-hoc SQL) is rare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: SQL is embedded in some application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code is identified by specia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226-DF48-49DE-B98C-EAE37B5A57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dance Mis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SQL in 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uses int, char[..], pointer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uses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mpedance mism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incompatibl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C6D-FD91-4C40-B8B9-275B5741E4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edance Mismatch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y not use only one langu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etting SQL: “we can quickly dispense with this idea”   [textbook, pg. 351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cannot do everything that the host language can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lution: use cur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AE4-6844-4B2C-A5DF-B53C2C36D4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s with Embedded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40840" y="2174760"/>
            <a:ext cx="44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 +  Embedded SQ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360" y="2971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886200"/>
            <a:ext cx="400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+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72560" y="4765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715000"/>
            <a:ext cx="30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895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4800600"/>
            <a:ext cx="3429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3657600"/>
            <a:ext cx="2994120" cy="2212200"/>
          </a:xfrm>
          <a:prstGeom prst="wedgeEllipseCallout">
            <a:avLst>
              <a:gd name="adj1" fmla="val -71083"/>
              <a:gd name="adj2" fmla="val -1762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(CLI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BC,JDBC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539-9AE2-4D45-9E68-14289FEFBE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: SQL / Host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1080" y="1219320"/>
            <a:ext cx="818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get passed through shared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s precede shared variables when they occur with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precedes every SQL statement in the host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bl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QL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error messages and stat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 (e.g., “00000” says that the operation completed with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5040" y="5181480"/>
            <a:ext cx="563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  BEGIN DECLARE S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 productName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  END DECLARE S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7CF-3193-4BDE-BFBF-1E453F3D31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quantit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phon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7D4-4D2F-4894-9FBD-FE03C881A7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Shared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6320" y="1766880"/>
            <a:ext cx="748080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 simpleInser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n[20], c[30]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product-name, company-nam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     p, q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price, quanti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  get values for name, price and company  somehow  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INSERT 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(pname, price, quantity, ma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:n, :p, :q, :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3B8-A225-4D16-A472-73E9748275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Yana K</cp:lastModifiedBy>
  <dcterms:modified xsi:type="dcterms:W3CDTF">2002-10-11T06:07:35Z</dcterms:modified>
  <cp:revision>243</cp:revision>
  <dc:subject/>
  <dc:title>PowerPoint Presentation</dc:title>
</cp:coreProperties>
</file>