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195-2DAD-4DC6-A51E-96D80134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BD9-F1EB-4657-AE55-8D518196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A63-157E-4197-9FEA-1797DB9B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D60-69C0-4461-8D19-428DEBA0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F92-E3EE-4946-B172-89E3CDE7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94B-F29A-4461-A8E1-EC98D3F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422-6789-4612-96E0-4E935C8D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0FD-5D28-4B89-913C-E18E4609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EEF-099B-4291-96AB-D826BDA9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DB7-A4BE-4307-B70E-09D9CC21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319-5A40-4BAB-81C6-9C5DC401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D0A-06D5-4907-AF32-1081EED2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34EC-B36E-4B43-892F-A62E1E658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9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8CC-7138-4A38-9AB1-35BD0E40F4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6680" y="1143000"/>
            <a:ext cx="525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attle-view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6240" y="266688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ECD-BE4B-4A93-B985-FC3647DB7F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3200400"/>
            <a:ext cx="6849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8AB-140C-4113-9C21-D7BDD7A59A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60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B28-6B84-47FE-A0EB-78FBA7F38C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iz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3A9-F693-4343-8A4A-DC56EB437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732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7F9-9728-42BA-AC47-E4EEE806B5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60640" y="243828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200" y="4800600"/>
            <a:ext cx="8611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 “Shoe Model 12345”,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know the Person.name and Purchase.buyer values; if we set them 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will not jo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1120" y="160020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2D7-F49E-42FC-BD1F-0878F0D6C8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1DB-7A5E-4FDC-A986-DD24A34338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6800" y="3656160"/>
            <a:ext cx="1750680" cy="1172520"/>
          </a:xfrm>
          <a:prstGeom prst="wedgeEllipseCallout">
            <a:avLst>
              <a:gd name="adj1" fmla="val -123638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8AE-3321-427E-99AE-967A91DB40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340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FFE-3E42-47EF-922E-40690F2B8F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E09-1C82-4B84-A7A5-2F33ACDF78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and Trigger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C80-DA2A-4DEF-B42D-D7A74991BE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D64-4581-450B-9085-A7F742EC6F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8992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008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495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B35-179D-4F08-BD86-37FF0B3EBB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D1E-EFBB-4FDA-BC14-684F1B3B62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728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AE8-09DE-4C0D-A796-8E27FC894A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CDF-2BAA-49D4-B58A-2DDE22AF70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F49-DE37-4AF9-BBDC-56AFB9EAAC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01B-7414-456D-B56C-E80D731CF0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332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22640" y="304920"/>
            <a:ext cx="4007520" cy="1692360"/>
          </a:xfrm>
          <a:prstGeom prst="wedgeEllipseCallout">
            <a:avLst>
              <a:gd name="adj1" fmla="val -39412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AD6-422E-4E07-9315-8F646CFD0B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392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F23-7E10-46A6-954F-FCC4BD24A0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EAE-1DEF-47B5-9A7D-691BFADF9D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168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9DA-0F7C-4749-8CE3-E56F86629B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igger contain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= INSERT, DELETE,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= any WHERE condition (may refer to the old and the new valu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= more inserts, deletes,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, many more bells and whist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(it only scratches the surface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742-9229-49A1-9ED0-AE2EFF206F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52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350-1A86-415D-B3A5-5143C709F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44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B02-5E8C-44CE-9327-2A89A0631C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4520" y="17524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8200" y="2438280"/>
            <a:ext cx="468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Person (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6760" y="3809880"/>
            <a:ext cx="5089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55 AND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6040" y="5181480"/>
            <a:ext cx="3225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42670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440" y="56386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1520" y="270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79B-3E48-4C56-88EA-46F65E9938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12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828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7D4-3022-4815-92DF-388B3D8ADA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given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of SQL queries plus how often the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dexes should we build to speed up the workloa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/WHER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vor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UPDAT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courage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election = normally done by people, recently done automatically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ADC-3D68-4B25-AEB2-F6924B2E3C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592-1F5E-4B90-8874-B3F8652D21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Yana K</cp:lastModifiedBy>
  <dcterms:modified xsi:type="dcterms:W3CDTF">2002-10-09T14:59:49Z</dcterms:modified>
  <cp:revision>2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6110796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Please print both of them for tomorrow</vt:lpwstr>
  </property>
</Properties>
</file>