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234-CBF4-406C-8C67-E666C86B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568-FFDF-4781-80EF-91415E83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81E-B580-466C-8B10-87244DF5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78E-04AA-4517-82C0-D88EBDFE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754-71A0-43D5-A630-D405909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245-0579-4BB5-8C8E-C63094A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492-4AE3-4685-B7EA-F673C994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B69-A733-4A70-95CE-68FF7537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A20-0363-475B-B337-90264A4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153-0636-4B4E-9D42-B9E0136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B6C-51D9-4EDD-B132-1BC249E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EB9-807C-40EE-90F0-0228820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7BB3-7564-4D5D-A331-3C6698BF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9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FD7-6060-4096-8BCF-2CAFC0A8F2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1BB-62DE-44C7-AE52-2D8AE85879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A30-56A6-414F-85B8-DBB7E39B9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B2E-560E-42FC-B30E-456235292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68B-0420-4B1B-9C3D-BF66D00AA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086-EE00-4CF5-87C9-A27C01EA8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60640" y="24382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200" y="4800600"/>
            <a:ext cx="8611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 “Shoe Model 12345”,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Person.name and Purchase.buyer values; if we set them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will not jo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EA2-341D-4BF7-8A2D-D31B45962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FB2-3C05-44E5-B839-EB7D68B865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4B5-99E4-4876-8A05-AC4FAF3E4D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FCE-68D4-4613-9743-112741EBF6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03E-C3E4-4FD2-9F29-EF1F6F697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and Trigger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F4F-C534-4C92-90D8-002A94B95C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1D4-B83D-4369-AE6E-3918CB673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118-54FE-463A-BCF3-467C6EF950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391-D8D3-4037-8DD8-BEB3D0AFB7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FF2-B9F5-436D-AC0B-150BB7858D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02F-09C0-4547-BF4C-754E44F9B9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93D-441E-4749-A2C2-D475EF0DEB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497-DA3A-46FD-A48B-FE729920C3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5B1-B6FC-4CD2-A9F8-5558CE29BB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E3E-10E0-4F4F-81DF-DE358385ED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5E1-7EA9-4E5F-9BFD-7711972695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F1E-749C-46C8-8652-D800624EA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gger contain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= INSERT, DELETE,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= any WHERE condition (may refer to the old and the new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= more inserts, deletes,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ore bells and whist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(it only scratches the surface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231-0ADB-44D1-9C72-B7D6FDCFE4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52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5D7-B4FD-4745-9CB4-F0FD4DFC9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BAC-11E4-497D-9ACA-4C8EEF04D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520" y="17524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8200" y="2438280"/>
            <a:ext cx="468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6760" y="3809880"/>
            <a:ext cx="5089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55 AND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6040" y="5181480"/>
            <a:ext cx="3225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 = 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267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440" y="5638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520" y="270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935-FA9A-487D-9C44-644A410058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62A-70C1-41EA-A8A1-F03CD2C242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D51-E49C-47A2-A374-4F22A9443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C76-2043-4182-A9B4-00B3951812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Yana K</cp:lastModifiedBy>
  <dcterms:modified xsi:type="dcterms:W3CDTF">2002-10-09T14:59:49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6110796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Please print both of them for tomorrow</vt:lpwstr>
  </property>
</Properties>
</file>