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BF8-47F4-4F69-964F-42B00454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BDC-8400-4245-8D60-343D59F7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148-FBFC-4A0A-9C82-D9D64A58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FBD-1D32-44D1-8363-FA16E76C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CE1-876A-41CA-8719-6CFA088F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6EA-36BC-4A30-8315-DC994D1D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773-18DC-4378-BF61-1EBB2534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C17-9189-4BCF-9D7B-77B7A60A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B12-0DB3-44D8-B1B8-A95DE099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31D5-1624-4343-9564-6ED1BE1F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D9C-CE6B-4A7C-A330-CC208B5B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B22-5900-4E18-9993-4D03018B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E056-E600-4A7C-85D7-6A28D79AD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4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7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007-BA6B-4E81-A41D-75A2B8D2D8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182880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5029200" y="182880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971800" y="4038480"/>
          <a:ext cx="3047760" cy="25398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457920" y="1295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920" y="1295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4A3-120D-44FB-9BD0-0A06EB664F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ce the left tuple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ce the right tuple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e both left and right tuples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10AE-EE6C-435B-A095-F761DCB2A6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y are all called “upda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7BC-5788-48E5-AEF9-C89F693C5F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9800" y="175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39640" y="5715000"/>
            <a:ext cx="59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attribu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rop attribute names if give them in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01160" y="2438280"/>
            <a:ext cx="7270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(A1,…., An)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v1,…., 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9680" y="4114800"/>
            <a:ext cx="8722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‘Joe’, ‘Fred’, ‘wakeup-clock-espresso-machine’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‘The Sharper Imag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040" y="358128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Insert a new purchase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28B-14AB-4930-B7D9-207A9A51C0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8240" y="2133720"/>
            <a:ext cx="54795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.date &gt; “10/26/0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5257800"/>
            <a:ext cx="55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 replaces the VALUES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ins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into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1CB-33BC-46BF-89C9-792C394E9D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266688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oreign key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database got corrupted and we need to fix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33520" y="4572000"/>
          <a:ext cx="3504960" cy="11937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800600" y="4343400"/>
          <a:ext cx="3276720" cy="1727280"/>
        </p:xfrm>
        <a:graphic>
          <a:graphicData uri="http://schemas.openxmlformats.org/drawingml/2006/table">
            <a:tbl>
              <a:tblPr/>
              <a:tblGrid>
                <a:gridCol w="1092240"/>
                <a:gridCol w="1092240"/>
                <a:gridCol w="109224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uye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679320" y="6172200"/>
            <a:ext cx="66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: insert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4240" y="4114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20400" y="1752480"/>
            <a:ext cx="5113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list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buyerName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1320" y="3886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AE0E-2F31-496C-800E-E19E33DABD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60" y="182880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76520" y="4419720"/>
          <a:ext cx="3504960" cy="179064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9D9-A52E-4E12-9155-BDD6D9D53F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7000" y="198108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, list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4191120"/>
          <a:ext cx="3504960" cy="23875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4719960" y="601992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26672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7AC-700D-448A-B4E1-D5160C69CB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12560" y="2514600"/>
            <a:ext cx="5072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 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ller = ‘Joe’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= ‘Brooklyn Bridg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7560" y="4572000"/>
            <a:ext cx="7622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id about SQL:  there is no way to delete only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nce of a tuple that appears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080" y="1676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13D-E062-49B6-ABAD-4C98F12900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5200" y="2438280"/>
            <a:ext cx="596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= price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 =‘Oct, 25, 1999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55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CF7-70E3-4D6C-B06F-748EAACE59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around INTERSECT and EX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 (6.1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 (6.3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s (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Relation Schema in SQL (6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Views (6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5BA5-E127-48CC-A01F-C1F2B94C98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Definit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720" y="1523880"/>
            <a:ext cx="7584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 we have see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Manipula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Defini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the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ing th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tabl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dex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improve pe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FB5-0F1C-4C9C-AA26-F1B4CA9B8C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(2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fixed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CHAR(4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variabl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, REAL plus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and da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, DATETIME (SQL Server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use domains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ddress  AS  VARCHAR(5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91FB-D2BC-4242-BC45-A6CFCD47C3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7760" y="2362320"/>
            <a:ext cx="64443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  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  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                        SHORT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                    BIT(1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560" y="1641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EEE-F494-437C-8D2C-5CC3DFEC08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 or Modify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200" y="1752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80440" y="3505320"/>
            <a:ext cx="454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hon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000" y="289548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lter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ding or removing an attribu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1280" y="579132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make changes to the sch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99480" y="41148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66640" y="2209680"/>
            <a:ext cx="2059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34480" y="2209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01560" y="21747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with care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E61-A94E-4379-8DC6-D5DB53223C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9680" y="194616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ing default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01760" y="2590920"/>
            <a:ext cx="69606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SHORTINT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VARCHAR(30)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‘Seattle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CHAR(1)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‘?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6095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of defaults:   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380-F1A2-47DE-9DF6-1DB6416ED8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1676520"/>
            <a:ext cx="784872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speed up que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(name, 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 scan of the file Person may take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31680" y="4114800"/>
            <a:ext cx="3478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 = “Smi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C81-0883-412B-B306-7F4E595ECF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 index on n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+ trees have fan-out of 100s: max 4 level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4800600"/>
          <a:ext cx="7162560" cy="58428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  <a:gridCol w="1193760"/>
                <a:gridCol w="1193760"/>
                <a:gridCol w="1193760"/>
              </a:tblGrid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"/>
          <p:cNvGrpSpPr/>
          <p:nvPr/>
        </p:nvGrpSpPr>
        <p:grpSpPr>
          <a:xfrm>
            <a:off x="3200400" y="2743200"/>
            <a:ext cx="1982880" cy="1373040"/>
            <a:chOff x="3200400" y="2743200"/>
            <a:chExt cx="1982880" cy="1373040"/>
          </a:xfrm>
        </p:grpSpPr>
        <p:sp>
          <p:nvSpPr>
            <p:cNvPr id="139" name=""/>
            <p:cNvSpPr/>
            <p:nvPr/>
          </p:nvSpPr>
          <p:spPr>
            <a:xfrm>
              <a:off x="4267080" y="274320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9880" y="312408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8320" y="3124080"/>
              <a:ext cx="15372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004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339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197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19720" y="39625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9200" y="39625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3962520" y="28954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2895480"/>
            <a:ext cx="228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276360" y="32004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0988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71640" y="3276720"/>
            <a:ext cx="1522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3657600"/>
            <a:ext cx="457200" cy="304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4114800"/>
            <a:ext cx="91440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73A-E01C-4809-8EFD-1BAAF6AB93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7720" y="3276720"/>
            <a:ext cx="6182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440" y="2362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FAE-4432-44A6-B2B1-2FCEFA5D4C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4520" y="1752480"/>
            <a:ext cx="63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created on more than on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8200" y="2438280"/>
            <a:ext cx="468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ubl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Person (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6760" y="3809880"/>
            <a:ext cx="5089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55 AND city = 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6040" y="5181480"/>
            <a:ext cx="3225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 = 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42670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440" y="56386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1520" y="2708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291-6057-4CD9-AB91-F4CB900B64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8120" y="2438280"/>
            <a:ext cx="53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useful in range queries t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elp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not create indexes on every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85160" y="3200400"/>
            <a:ext cx="578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 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8280" y="4267080"/>
            <a:ext cx="4255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&gt; 25 AND age &lt;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842-7289-4311-BBE7-0B883780F3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 and EXCEP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in SQL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360" y="228600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INTERS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2120" y="228600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680" y="449568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080" y="449568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8CE-38BF-44D9-8FDB-37040F1D85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460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880" y="3962520"/>
            <a:ext cx="518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8B6-74C1-42F4-B339-115C9497B8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ifferent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6680" y="1143000"/>
            <a:ext cx="5254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maker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new virtual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attle-view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6240" y="266688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387-3791-4161-A45A-0201BF8193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ifferent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6200" y="3200400"/>
            <a:ext cx="6849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eattle-view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attle-view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4DF-AF19-42BE-A25C-78B2621459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 We Query a Vie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6929280" cy="15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3733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1600" y="4267080"/>
            <a:ext cx="6917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, 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name = Purchase.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E5B-4395-41EB-B0BB-9CBC6914BF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ized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E5E-357F-418E-9392-3B159DC624D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4600" y="1192320"/>
            <a:ext cx="573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I insert a tuple into a table that doesn’t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7360" y="2362320"/>
            <a:ext cx="4357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3760" y="4114800"/>
            <a:ext cx="3308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Joe”, “Optimize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6680" y="5257800"/>
            <a:ext cx="5731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ULL, “Joe”, NULL, “Optimizer”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6200" y="403848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mak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ing inser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9440" y="53341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62B-D7AC-4E9B-AF52-211844C7E4A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Updatab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7120" y="190512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6640" y="4697280"/>
            <a:ext cx="749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can we add the following tuple to the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Joe”,  “Shoe Model 12345”,  “Nine Wes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need to add “Joe” to Person first, but we don’t have all its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2D0-DBB8-4E70-91AC-B2AF7F3FD22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 and 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Null then 4*(3-x)/7 is still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Null   then x=“Joe”   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 there are three boolean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 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672-17F6-4A34-A1C5-FF1E850DB3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 and 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AND C2   =  min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 OR    C2  =  max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1         =  1 –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in SQL: include only tuples that yield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2560" y="3581280"/>
            <a:ext cx="582588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age &lt; 25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eight &gt; 6 OR weight &gt; 1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520" y="3733920"/>
            <a:ext cx="164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=2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th=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=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E4B-4506-4E9B-B83F-7A8DA5F37C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 and 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behav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rsons are not included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1520" y="3048120"/>
            <a:ext cx="585432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ge &lt; 25  OR  age &gt;=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A73-923B-4E72-BA5C-D1DCA5D6DC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 and 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est for NULL explicit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it includes all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240" y="3505320"/>
            <a:ext cx="771408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ge &lt; 25  OR  age &gt;= 25 OR ag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IS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9235-E0F7-4395-911D-74C1D181CF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 and 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 joins in SQ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Products that never sold will be lost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55520" y="2971800"/>
            <a:ext cx="584388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0960" y="4800600"/>
            <a:ext cx="502092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,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3B8-4CE8-4993-8251-728F9FDF23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 and 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outer join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5520" y="3809880"/>
            <a:ext cx="6771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B18-2349-4E2C-A7D3-93C84D20C7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uw</cp:lastModifiedBy>
  <dcterms:modified xsi:type="dcterms:W3CDTF">2002-10-07T15:20:35Z</dcterms:modified>
  <cp:revision>162</cp:revision>
  <dc:subject/>
  <dc:title>PowerPoint Presentation</dc:title>
</cp:coreProperties>
</file>