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5F26-FB1B-4B80-89BC-83B52372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206-5832-4793-A824-9F27306E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BE8B-C759-42DB-B780-DB4DFCE7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A2C1-8960-4A2C-ADFA-D2F7B194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92A6-77FA-4AFE-B97E-65E121D4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30B8-A5B4-45C8-9315-BAED1337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6F16-4C47-49F9-8243-29F2EC7F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418B-9C3C-477B-8484-0AD205ED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8F65-93EB-4126-A149-ECB48420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330B-BFAA-484E-A5BF-B6DED1CB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6A9-56DA-44E8-93B6-D588C9F2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68F-241B-4C16-A5E4-57D93976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D593-23C6-4127-A2D3-BCF0B6CF8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4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7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35E-8ACB-40B9-A775-7212D9DA44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182880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5029200" y="182880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971800" y="4038480"/>
          <a:ext cx="3047760" cy="25398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457920" y="1295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920" y="12952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D4B-9C7A-4EC0-A890-614F982B38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ce the left tuple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ce the right tuple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he both left and right tuples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44C-16EE-4BBC-8311-157F5A6708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y are all called “updat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299F-B556-4A22-9C6F-1EEFD508F8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9800" y="175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39640" y="5715000"/>
            <a:ext cx="599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attribu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drop attribute names if give them in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01160" y="2438280"/>
            <a:ext cx="7270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(A1,…., An)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v1,…., v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9680" y="4114800"/>
            <a:ext cx="8722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‘Joe’, ‘Fred’, ‘wakeup-clock-espresso-machine’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‘The Sharper Image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040" y="358128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Insert a new purchase to the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903-821F-471B-B484-AD97EE230F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8240" y="2133720"/>
            <a:ext cx="54795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.date &gt; “10/26/0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5257800"/>
            <a:ext cx="55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ery replaces the VALUES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ins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s into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E86-8398-4479-8356-F1D44B44E2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2666880"/>
            <a:ext cx="77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oreign key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database got corrupted and we need to fix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33520" y="4572000"/>
          <a:ext cx="3504960" cy="119376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800600" y="4343400"/>
          <a:ext cx="3276720" cy="1727280"/>
        </p:xfrm>
        <a:graphic>
          <a:graphicData uri="http://schemas.openxmlformats.org/drawingml/2006/table">
            <a:tbl>
              <a:tblPr/>
              <a:tblGrid>
                <a:gridCol w="1092240"/>
                <a:gridCol w="1092240"/>
                <a:gridCol w="109224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uye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679320" y="6172200"/>
            <a:ext cx="66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: insert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4240" y="4114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20400" y="1752480"/>
            <a:ext cx="5113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list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buyerName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01320" y="38862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241-BAFC-4E1A-966C-5EFB4E457A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960" y="182880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676520" y="4419720"/>
          <a:ext cx="3504960" cy="179064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57D3-04BA-462D-8C78-2251578BB2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7000" y="198108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, list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4191120"/>
          <a:ext cx="3504960" cy="23875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4719960" y="601992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266720" y="6248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9C0-E2A9-44FA-BDF7-2CE29016D3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12560" y="2514600"/>
            <a:ext cx="5072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 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ller = ‘Joe’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= ‘Brooklyn Bridg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7560" y="4572000"/>
            <a:ext cx="7622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id about SQL:  there is no way to delete only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nce of a tuple that appears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080" y="1676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87AC-ADE9-4F39-AEF8-14FCB12905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5200" y="2438280"/>
            <a:ext cx="5967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ice = price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ate =‘Oct, 25, 1999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556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7906-2C85-4C72-91EC-2170CD9F5F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around INTERSECT and EX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 (6.1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 (6.3.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s (6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Relation Schema in SQL (6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Views (6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DC18-EAAB-4C63-869E-BB52A3482D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Definition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4720" y="1523880"/>
            <a:ext cx="7584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far we have see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Manipula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Defini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the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ing the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tabl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dex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improve pe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557C-C0F4-4E3F-AD60-DF513FCF5D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(2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fixed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CHAR(4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variable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, REAL plus 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and da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, DATETIME (SQL Server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use domains: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DO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ddress  AS  VARCHAR(5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86C1-4D62-4A1E-80C1-4E2A4541DD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7760" y="2362320"/>
            <a:ext cx="64443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  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  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                        SHORT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                    BIT(1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560" y="1641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856-6CDC-4669-9427-D20038D39F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 or Modify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200" y="1752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l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80440" y="3505320"/>
            <a:ext cx="454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hon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7000" y="289548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lteri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dding or removing an attribu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1280" y="579132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you make changes to the sch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99480" y="41148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66640" y="2209680"/>
            <a:ext cx="2059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34480" y="2209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01560" y="21747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with care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4415-C9E9-4CF9-93C3-9C5E7CC445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9680" y="194616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ing default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01760" y="2590920"/>
            <a:ext cx="69606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SHORTINT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VARCHAR(30)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‘Seattle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CHAR(1)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‘?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6095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of defaults:   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9E39-DFB5-49DC-902A-ED6DF11A03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1676520"/>
            <a:ext cx="784872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speed up query process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 (name, 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ial scan of the file Person may take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31680" y="4114800"/>
            <a:ext cx="3478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 = “Smi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C64E-875C-4388-9DFA-CDF77BF8C6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 index on n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+ trees have fan-out of 100s: max 4 level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90720" y="4800600"/>
          <a:ext cx="7162560" cy="584280"/>
        </p:xfrm>
        <a:graphic>
          <a:graphicData uri="http://schemas.openxmlformats.org/drawingml/2006/table">
            <a:tbl>
              <a:tblPr/>
              <a:tblGrid>
                <a:gridCol w="1193760"/>
                <a:gridCol w="1193760"/>
                <a:gridCol w="1193760"/>
                <a:gridCol w="1193760"/>
                <a:gridCol w="1193760"/>
                <a:gridCol w="1193760"/>
              </a:tblGrid>
              <a:tr h="58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8" name=""/>
          <p:cNvGrpSpPr/>
          <p:nvPr/>
        </p:nvGrpSpPr>
        <p:grpSpPr>
          <a:xfrm>
            <a:off x="3200400" y="2743200"/>
            <a:ext cx="1982880" cy="1373040"/>
            <a:chOff x="3200400" y="2743200"/>
            <a:chExt cx="1982880" cy="1373040"/>
          </a:xfrm>
        </p:grpSpPr>
        <p:sp>
          <p:nvSpPr>
            <p:cNvPr id="139" name=""/>
            <p:cNvSpPr/>
            <p:nvPr/>
          </p:nvSpPr>
          <p:spPr>
            <a:xfrm>
              <a:off x="4267080" y="274320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9880" y="312408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8320" y="3124080"/>
              <a:ext cx="15372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004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339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197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19720" y="39625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29200" y="39625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3962520" y="28954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2895480"/>
            <a:ext cx="228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276360" y="32004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09880" y="327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71640" y="3276720"/>
            <a:ext cx="1522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3657600"/>
            <a:ext cx="457200" cy="304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4114800"/>
            <a:ext cx="914400" cy="6858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9117-3C05-42D3-BC8B-F4F90707B94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7720" y="3276720"/>
            <a:ext cx="6182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440" y="23623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76F-87BA-460D-AB2F-BFAACDF4AF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4520" y="1752480"/>
            <a:ext cx="63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created on more than one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8200" y="2438280"/>
            <a:ext cx="4688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ubl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Person (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6760" y="3809880"/>
            <a:ext cx="5089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= 55 AND city = 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6040" y="5181480"/>
            <a:ext cx="3225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 = 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42670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440" y="56386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1520" y="2708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595-1E48-4C65-8591-96C997F4F4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8120" y="2438280"/>
            <a:ext cx="53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useful in range queries t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elp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not create indexes on everyt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85160" y="3200400"/>
            <a:ext cx="5783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 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8280" y="4267080"/>
            <a:ext cx="4255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&gt; 25 AND age &lt;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613-DD47-4310-A988-78A4A06A5C2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 and EXCEP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in SQL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360" y="228600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INTERS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2120" y="228600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680" y="449568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080" y="449568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5105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00C0-F048-407D-A347-88FBFC20CB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4600" y="1793880"/>
            <a:ext cx="777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esenting different information to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has acces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thers only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880" y="3962520"/>
            <a:ext cx="518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7FB-792B-4026-A24F-1B93589F45D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ifferent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6680" y="1143000"/>
            <a:ext cx="5254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maker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new virtual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attle-view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6240" y="2666880"/>
            <a:ext cx="5933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attle-view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DA84-58FD-4998-8E5A-9B7E74A889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ifferent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6200" y="3200400"/>
            <a:ext cx="6849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eattle-view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attle-view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21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later use the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654E-06E3-482C-9B7A-FDD7406E10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When We Query a Vie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6929280" cy="156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37339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1600" y="4267080"/>
            <a:ext cx="6917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, 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name = Purchase.bu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E4E2-EF90-4088-B5B1-B74C88B7DA6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vie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only on-demand – slow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p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ized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omputed offline – fa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sta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D24-09A5-4C83-B060-705A95C083D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4600" y="1192320"/>
            <a:ext cx="573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an I insert a tuple into a table that doesn’t ex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7360" y="2362320"/>
            <a:ext cx="4357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3760" y="4114800"/>
            <a:ext cx="3308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 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Joe”, “Optimize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6680" y="5257800"/>
            <a:ext cx="57312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ULL, “Joe”, NULL, “Optimizer”,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6200" y="403848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mak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ing inser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9440" y="53341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beco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3078-7CF5-4DB1-84B7-8AE80C0AB45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Updatable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7120" y="1905120"/>
            <a:ext cx="5933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attle-view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6640" y="4697280"/>
            <a:ext cx="749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can we add the following tuple to the 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Joe”,  “Shoe Model 12345”,  “Nine West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need to add “Joe” to Person first, but we don’t have all its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BE43-D634-422F-931E-CE81A6B36F0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 and 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Null then 4*(3-x)/7 is still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Null   then x=“Joe”   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 there are three boolean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 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308-F0DB-4820-A576-3D70083811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 and 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AND C2   =  min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 OR    C2  =  max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1         =  1 –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in SQL: include only tuples that yield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2560" y="3581280"/>
            <a:ext cx="582588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age &lt; 25)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eight &gt; 6 OR weight &gt; 19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520" y="3733920"/>
            <a:ext cx="164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=2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th=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=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57E-F95B-4577-A674-FD0652AB1C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 and 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behav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rsons are not included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1520" y="3048120"/>
            <a:ext cx="585432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ge &lt; 25  OR  age &gt;=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5F5-08A4-4BE3-B6DF-FFC4B680BC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 and 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est for NULL explicit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it includes all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240" y="3505320"/>
            <a:ext cx="771408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ge &lt; 25  OR  age &gt;= 25 OR ag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IS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4F52-ADC0-4225-A624-2C6C620DCD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 and 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 joins in SQ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Products that never sold will be lost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55520" y="2971800"/>
            <a:ext cx="5843880" cy="10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JO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0960" y="4800600"/>
            <a:ext cx="5020920" cy="10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,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828-C4C2-4687-A5F2-AD396E00D5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 and 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outer join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5520" y="3809880"/>
            <a:ext cx="6771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A6D-1CA4-4036-902E-3580E0E88D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uciu</dc:creator>
  <dc:description/>
  <dc:language>en-US</dc:language>
  <cp:lastModifiedBy>uw</cp:lastModifiedBy>
  <dcterms:modified xsi:type="dcterms:W3CDTF">2002-10-07T15:20:35Z</dcterms:modified>
  <cp:revision>162</cp:revision>
  <dc:subject/>
  <dc:title>PowerPoint Presentation</dc:title>
</cp:coreProperties>
</file>