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7FA1-4C03-421B-8480-52A47DB1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D34E-DC62-488C-B95F-CC05CFAC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0B19-5277-40AA-902D-E3D029B6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3837-2DB1-4DDD-8CC2-16CECD07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C36-58C2-48BC-9C58-8AA52BE8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319-E5A6-4EB0-9A72-F099FE43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5B7F-398B-4875-ADF5-97036505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9807-7921-4298-B16E-E93A4E77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608-981A-4570-83A1-E79FABB3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B483-7DB1-47A5-B30B-8BA65C6D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2B55-3C23-4F10-9D27-C90D4F95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43E-49DE-4632-8270-070BBD54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3C6F-AA8F-4778-9F29-610BCAE25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3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4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B7A-D8A6-4E6B-BD6B-2376D426AC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7640" y="2590920"/>
            <a:ext cx="720504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.buyer = ‘Joe Blow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3000" y="2022480"/>
            <a:ext cx="80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mpanies who manufacture products bought by Joe B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2320" y="5715000"/>
            <a:ext cx="632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the subquery returns a set of values: no m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time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FF3E-88A6-4BF4-B93C-30E7DC44F7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7480" y="2590920"/>
            <a:ext cx="625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5520" y="2022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9320" y="5029200"/>
            <a:ext cx="565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Is this query equivalent to the previous 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Beware of duplicat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FFD6-3ABC-4586-B826-F32FD5016D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5880" y="1752480"/>
            <a:ext cx="625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5880" y="4191120"/>
            <a:ext cx="625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53880" y="1752480"/>
            <a:ext cx="23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co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07240" y="4191120"/>
            <a:ext cx="21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co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C632-B2DE-4E98-9E5B-DA8A35B6F4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9400" y="4648320"/>
            <a:ext cx="625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9760" y="1600200"/>
            <a:ext cx="70434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buyer = ‘Joe Blow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14120" y="4800600"/>
            <a:ext cx="14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1505-7628-4517-8893-86DDD1FF00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4280" y="4572000"/>
            <a:ext cx="74520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 &gt;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‘Gizmo-Works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0480" y="3124080"/>
            <a:ext cx="77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that are more expensive than all thos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“Gizmo-Work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1680" y="1905120"/>
            <a:ext cx="39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also use:   s &gt; ALL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&gt; ANY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456E-A785-42BC-9744-6ED9F82207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for Database Fa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ir Fri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express this query as a single SELECT-FROM-WHERE query, without subqueri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nt:  show that all SFW queries are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monot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igure out what this means).  A query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mono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5727-A82B-4676-B6B8-DF108DA7FA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s on Tu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2160" y="2438280"/>
            <a:ext cx="753444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(Product.name,price)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, Purchase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buyer = “Joe Blow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760" y="5715000"/>
            <a:ext cx="39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ot work in SQL serve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D855-49FE-4F58-88C0-6990729ADA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3276720"/>
            <a:ext cx="55483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Movie A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 &lt;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itle =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tit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3000" y="1828800"/>
            <a:ext cx="64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vie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itle,  yea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director,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movies whose title appears more than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9720" y="58672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(1) scope of variables (2) this can still be expressed as single SF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2438280"/>
            <a:ext cx="1523880" cy="762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495680" y="28954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866920" y="3200400"/>
            <a:ext cx="1600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82B-9B9C-403D-BBC2-7DA36BF88D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Correla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, 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(and their manufacturers) that are more expensive than all products made by the same manufacturer before 19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owerful, but much harder to optimiz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8360" y="3505320"/>
            <a:ext cx="795492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name, 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 AS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 &gt;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Product A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x.maker = y.maker AND y.year &lt; 197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976D-7ABA-44CF-970C-7FD580E2B4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12920" y="2362320"/>
            <a:ext cx="3562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vg(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“Toyo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18840" y="4191120"/>
            <a:ext cx="576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upports several aggregation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MIN, MAX, AVG,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5152-291A-4A53-AC70-945698B8F8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s, intersections, differenc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6.2.5, 6.4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 (6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s (6.4.3 – 6.4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3440" y="4724280"/>
            <a:ext cx="70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 for reading the textbook: read the entire chapter 6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4280" y="5527800"/>
            <a:ext cx="776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assignment from “SQL for Nerds”: chapter 4, “M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queries”  (you will find it very useful for subque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6AE5-42D3-4A78-BD55-FE2C5E7D50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24560" y="2438280"/>
            <a:ext cx="2951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58400" y="5334120"/>
            <a:ext cx="74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COUNT, all aggregations apply to a singl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658-42EF-4644-9A72-1C75954C0E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1560" y="1946160"/>
            <a:ext cx="7005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  applies to duplicates, unless otherwise st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category)          same as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E8E8-C0D5-4B48-97A2-65E824D4D2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7240" y="1946160"/>
            <a:ext cx="629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:  find total sales for the entir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’:  find total sales of ba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= ‘bag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5C44-8D44-4FC2-A246-1921FCE91D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2021040"/>
          <a:ext cx="7610400" cy="385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21040"/>
                    <a:ext cx="7610400" cy="3854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4290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4876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360" y="613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1970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568-6010-4A7E-AFDB-766E2082D2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9720" y="1641600"/>
            <a:ext cx="777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, we want aggregations on certain parts of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: 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find total sales after 9/1 per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7720" y="3886200"/>
            <a:ext cx="7273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48320" y="5985000"/>
            <a:ext cx="36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mea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B1A5-5535-441C-8A50-95A3C04865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4200" y="2209680"/>
            <a:ext cx="740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omput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Group by the attributes in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elect one tuple for every group (and apply aggreg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have (1) grouped attributes or (2)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DC7-0698-455E-9903-14D369D0FF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compute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-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s (date &gt; “9/1”) the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1984320"/>
          <a:ext cx="7610400" cy="385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4320"/>
                    <a:ext cx="7610400" cy="3855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3352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48769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4841-BE10-4073-B507-954714E32B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, aggreg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914400" y="1752480"/>
          <a:ext cx="5329080" cy="26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53290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735120" y="1627200"/>
            <a:ext cx="4572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5120" y="2313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5120" y="32274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92520" y="1627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1760" y="4648320"/>
            <a:ext cx="7273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4A92-B686-4C21-BEDF-99A0A6A68A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 BY v.s. Nested Quer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120" y="1523880"/>
            <a:ext cx="7273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6720" y="3886200"/>
            <a:ext cx="85050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product,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y.price*y.quantit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AND y.date &gt; ‘9/1’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x.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931-66CD-4F87-A7E2-61EDE6D3126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6520" y="4940280"/>
            <a:ext cx="7340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 AS Sum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(quantity) AS Max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7480" y="4495680"/>
            <a:ext cx="80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product, what is the total sales and max quantity so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300320"/>
          <a:ext cx="6667560" cy="337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00320"/>
                    <a:ext cx="6667560" cy="33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609480" y="1295280"/>
            <a:ext cx="66294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0574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3526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AC19-7A01-41FF-92B5-32470E69257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Unintuitive SQ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5520" y="1981080"/>
            <a:ext cx="4658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, S,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.A=S.A    OR   R.A=T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411480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for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what happens if T is emp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8D88-1AF5-42AF-B2B1-CB0B2F136F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ING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5480" y="3352680"/>
            <a:ext cx="559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um(quantity) &gt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560" y="160020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query, except that we consider only products tha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100 bu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8120" y="560376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clause contains conditions on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A052-E68B-4E66-A120-1A417BFA463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may contain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/or any aggregates but NO OTHER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 = is any condition on the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= is any condition on aggregate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80640" y="3276720"/>
            <a:ext cx="1399680" cy="652680"/>
          </a:xfrm>
          <a:prstGeom prst="wedgeEllipseCallout">
            <a:avLst>
              <a:gd name="adj1" fmla="val -26962"/>
              <a:gd name="adj2" fmla="val 17293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A01-766C-4B1A-A122-B9FC19DE882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ste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FROM-WHERE part, obtain a table with all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by the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aggregates in C2 and keep only groups satisfying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aggregates in S and return th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8402-0FAB-4127-960D-8EC1F376B5D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cumen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rl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tit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rote(login,u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entions(url,wo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EE7-7021-4561-A03A-C4A3D5F5B5F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1: with nested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2520" y="4038480"/>
            <a:ext cx="7163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.ur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login=Wrote.logi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55280" y="2666880"/>
            <a:ext cx="1713960" cy="1692360"/>
          </a:xfrm>
          <a:prstGeom prst="wedgeEllipseCallout">
            <a:avLst>
              <a:gd name="adj1" fmla="val -96763"/>
              <a:gd name="adj2" fmla="val 333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B07-850D-4FA8-8A81-7B256F45193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2: SQL style (with GROUP B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30960" y="3962520"/>
            <a:ext cx="5004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, Wr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login=Wrote.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wrote.url)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82920" y="3733920"/>
            <a:ext cx="1859400" cy="1692360"/>
          </a:xfrm>
          <a:prstGeom prst="wedgeEllipseCallout">
            <a:avLst>
              <a:gd name="adj1" fmla="val -93222"/>
              <a:gd name="adj2" fmla="val -3424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97480" y="6137280"/>
            <a:ext cx="72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utomatically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5FAC-36AD-4C46-98EC-934FBF7D83B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have a vocabulary over 10000 w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1560" y="3352680"/>
            <a:ext cx="8736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Author, Wrote, M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uthor.login=Wrote.login AND Wrote.url=Mentions.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distinct Mentions.word) &gt; 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6520" y="5562720"/>
            <a:ext cx="61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carefully at the last two queries: you m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empted to write them as a nested queri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SQL we write them best with 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6389-C5D2-43B5-A11F-718E0193199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Colum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32200" y="3809880"/>
            <a:ext cx="6540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ice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kPric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448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62920" y="4038480"/>
            <a:ext cx="609480" cy="609840"/>
          </a:xfrm>
          <a:prstGeom prst="downArrow">
            <a:avLst>
              <a:gd name="adj1" fmla="val 50000"/>
              <a:gd name="adj2" fmla="val 250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876920" y="5181480"/>
          <a:ext cx="270504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sk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697680" y="5319000"/>
            <a:ext cx="220716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3C4B-B1F7-4701-9031-326E44B25C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920" y="1717560"/>
            <a:ext cx="610488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ity=“Seattl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buyer=name AND store=“The Bo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2320" y="5832360"/>
            <a:ext cx="77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, you can u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C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ust have the same attribute names (otherwise: renam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0D8D-3855-4903-8147-D4C47F70A7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25240" y="1717560"/>
            <a:ext cx="55710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LECT DISTINCT 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 ( (SELECT S.A FROM 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LECT T.A FROM 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FB39-0DFF-42C8-9506-5F18E9EC76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r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8880" y="2209680"/>
            <a:ext cx="610452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ity=“Seattl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=name AND store=“The Bo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3972-BA01-49E8-8060-1F18BD046B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query producing a single val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the subquery returns on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returns more, it’s a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run-time 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24360" y="2514600"/>
            <a:ext cx="5417280" cy="20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sn = ‘123456789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257A-6E80-41CD-837F-403164BD2F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ay the same thing without a sub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equivalent to the previous one when the ssn is a ke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‘123456789’ exists in the database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they are diffe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9800" y="2666880"/>
            <a:ext cx="61977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, Person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 = name AND ssn = ‘123456789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95F-2ADA-4829-B901-906B62CC0E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Suciu</dc:creator>
  <dc:description/>
  <dc:language>en-US</dc:language>
  <cp:lastModifiedBy>uw</cp:lastModifiedBy>
  <dcterms:modified xsi:type="dcterms:W3CDTF">2002-10-04T18:21:11Z</dcterms:modified>
  <cp:revision>2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3689006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CSE444: Today's Lecture</vt:lpwstr>
  </property>
</Properties>
</file>