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8AD-22D2-4C06-A443-0D025577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322-87D9-498C-9456-F21172B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C51-0ECE-46C9-9D16-D934DB60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D96-C30A-46CD-B9FE-C8CA0FB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6EA-141A-41D4-B0F9-FD2D5A2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A85-1535-421C-A0B7-8E5F519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5C8-5E8D-41F1-9BD9-E5409F2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2A7-D8E2-4C6C-AD05-F08477C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3CB-6B96-4192-A9F2-D6218B55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E69-F0B4-4F23-895C-C44C2A1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B4B-4368-4ED9-AF08-393328A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8CF-DCD6-4061-9C03-5B3E315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DF0A-F89C-4B2B-A40B-D0548E18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A75-D283-4531-8E26-15B0FBFA86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76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3000" y="2022480"/>
            <a:ext cx="80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ho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232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A16-188F-48FF-ACB6-DA1EED135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748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552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9320" y="502920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9E8-B4D0-4984-AFC7-AE0EE827B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5880" y="175248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5880" y="41911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53880" y="175248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7240" y="4191120"/>
            <a:ext cx="21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4C8-8D5A-4496-9CDC-F5318FFF54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40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7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37B-24E6-4BBE-A26D-54FE7AAB8A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795-CE87-4AB8-8AFD-BB0CA4288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778-9716-45DD-9EA4-BD4FFD77DE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2438280"/>
            <a:ext cx="753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, Purchas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760" y="5715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work in SQL serv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0C0-B43E-403D-A971-4C7246BE66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EDB-AA9B-438C-B1FA-7753FF85DE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B5A-754D-4D5A-97A2-B0851EDB2C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A33-A0D3-4096-865B-695AEB1050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344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428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552-8C58-4728-AC0A-857CEA3C2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45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66A-5450-4D73-A09C-9736F92BE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56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597-F4C6-41F2-BF19-91A4A5C2F2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724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0CA-639A-45D0-ADA5-AA51FB6804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3E7-53B1-4E10-A133-D4BCCD97B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972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772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21F-7BD4-45D9-B6D7-2A8DD69F6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20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27A-5158-4287-B9BB-AED6078353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12E-5521-43DF-90A3-999B249E89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76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28F-DA2D-4A32-964B-3C4D1E0211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72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C39-DEFC-4D45-9207-4C0B9B987E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652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AC4-EB4B-4917-87E1-88D3077EE7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5520" y="198108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1148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4DA-FC19-4986-AD40-D750A6F61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666-A4BA-45E6-A003-E919999FC1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F66-758E-4D6F-80DD-D2B2D4C49A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F83-678D-406E-958E-DABA5B6692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69B-F922-4A29-9491-5E733E9EA2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FF3-0BDD-4FE8-8BBB-9868A1CEEC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C4B-55F9-4899-BCFE-BB8702E28E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56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652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74A-ABCC-41B7-BE3F-94433EE80E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220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959-ACC1-4245-B220-B4CC0C5B1F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920" y="1717560"/>
            <a:ext cx="61048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5AA-F343-4E06-978E-9B93EC441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25240" y="1717560"/>
            <a:ext cx="5571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DISTINCT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( (SELECT S.A FROM 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T.A FROM 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ABB-465F-43EE-9A94-73E9BA0C7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8880" y="220968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61C-45F5-405D-B9AA-4CEC50DA9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C12-DA96-458A-BF9E-28F47C971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F51-6EC8-43B3-B791-9D881AB5EF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4T18:21:11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3689006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CSE444: Today's Lecture</vt:lpwstr>
  </property>
</Properties>
</file>