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D92-2487-4252-88A5-C37620F3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853-F456-4D16-9CBE-BA7F238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CA5-4AA3-467F-AD92-0AECD05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2EA-6678-4C82-835B-5D27CEA9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66E-CD34-43DC-876B-8F7DB1E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DE2-0F91-41FC-88DD-5DF7C9A1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E89-AF41-45CC-9852-FFCB2D5E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3E8-F6FB-403A-B1A5-8313FD6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AB8-058E-437C-B82A-AD458422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B19-DBF2-4839-A28C-0A5527B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8EB-D958-43E9-AA1B-ACA3D7B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B8C-70FD-4CA6-97E5-BA8CF336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7364-0B81-4AE8-AD47-84110030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8B0-805E-4CBC-9455-752E03717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640" y="3957480"/>
            <a:ext cx="5863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EF7-C074-43AE-A6B0-DFE64295D3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108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F65-5259-42C1-9351-3053F3405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DE6-8293-492C-95F3-20BE3F820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076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C1C-D969-4B13-B10C-8C5EFAA11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01E-1C12-4D18-8AD4-88660CB85C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C98-A157-4995-AAAB-54D7F91B7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DE5-6F14-4758-A88E-1A8C13915B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13D-4ED7-4519-ADA2-50539C546C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80" y="2133720"/>
            <a:ext cx="2675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06B-A132-4271-B5EE-4ABE06633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88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88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14A-EFE6-43CB-8038-39AD4FB77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A08-1C9F-4852-8803-EBBFE9D2A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4560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EC-345E-4F34-AD87-7EE14FB654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360" y="4191120"/>
            <a:ext cx="6904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29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790-040B-4F61-82DC-B2DE133DF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0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70880" y="4191120"/>
            <a:ext cx="46490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4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942-A077-41E6-A172-781FB34FC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191120"/>
            <a:ext cx="7328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8B9-7E47-4A63-93DF-003918F546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962520"/>
            <a:ext cx="5549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999-5825-4748-9556-14AEE47C2F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236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911-D578-44C1-90AA-23DED23D04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D44-3C37-41CD-B802-5D78AD4D37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972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44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28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1BC-D67C-42D4-A632-ED1E7ED0B4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A6C-3C0D-40AC-A181-310219E0EB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FB9-EEBA-4E24-A17C-F8C46826C4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24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7E3-0F9E-443C-8A25-32C9E29AB3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325-88B3-4D8F-BE40-BE0F76F352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630-C341-4858-A99B-8C42AB5DEE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F95-A413-4354-8B18-BB14C66539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6E-9768-4335-BC83-7239F4AED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F74-F231-4CC3-899A-C0F195B7BF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75D-0C1B-44B0-A0EE-05944FB862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413-0AB0-496C-893B-566D3AFBD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983-3D0E-4967-A61A-F7F57C7B02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86D-E202-4D20-B18B-317B94F9A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2T16:54:12Z</dcterms:modified>
  <cp:revision>1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6105257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2</vt:lpwstr>
  </property>
</Properties>
</file>