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D13-7347-4576-96BB-51044BDA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6DB-7DAC-4695-AF0A-8C2E6FF6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3EB-57DF-4118-8CB6-6C874D15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83D-7C67-4390-8424-683D9863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B0E-1AD9-460B-A567-578F913D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385-A647-4490-93CE-93D09D1D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EA7-4747-4946-8B93-AB494159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825-65EC-4F5D-881A-C7B364DF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92E-C276-4897-BE53-D38E9F29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A54-3227-4FC3-862B-228514A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02F-51CF-43B6-8292-29B3C571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B46-E0E5-4B56-8BF4-3FE7117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34DA-2BBD-46DF-AB52-9592074B1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AFC-687B-44C2-8897-7F757E7EBE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28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640" y="3957480"/>
            <a:ext cx="5863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relations (possibly multiple, joi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 (sel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4C8-A7CB-4BA7-8A7C-E458D2BC91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3184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108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9CC-AA57-454B-A86D-6AA27EE6D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307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4560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8CB-56CF-4064-AEAB-6D6606E22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tation for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0760" y="3809880"/>
            <a:ext cx="4848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172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112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09280" y="1752480"/>
            <a:ext cx="2653560" cy="652680"/>
          </a:xfrm>
          <a:prstGeom prst="wedgeEllipseCallout">
            <a:avLst>
              <a:gd name="adj1" fmla="val -37930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52120" y="6019920"/>
            <a:ext cx="2941560" cy="652680"/>
          </a:xfrm>
          <a:prstGeom prst="wedgeEllipseCallout">
            <a:avLst>
              <a:gd name="adj1" fmla="val 20041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0DF-A356-4FAA-896C-497BBC90C5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es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y, x &lt; y, x &lt;= y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umber, they have the usu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HAR and VARCHAR: lexicographic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conversion between CHAR and VAR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ates and times, what you expe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 matching on strings: s LIKE p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5AD-F534-415D-99B4-C3C48156D2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roducts whose name mentions ‘gizmo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5029200"/>
            <a:ext cx="4022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5C9-0103-4AD6-9016-E568571A8A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788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16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27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F4B-2DB7-4FE5-981A-6EA732A9A0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428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16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FBF-AE2F-43F9-992D-52B49BB0EC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80" y="2133720"/>
            <a:ext cx="2675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0384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6095880" y="464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3840" y="41911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94B-E1EB-4C12-A3FE-2A48FFFA0A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788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16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7880" y="457200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3120" y="4495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2FE-BD43-48EB-849E-E46C758258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27D-A489-4536-8D7F-D970256EE4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wo or mor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76520" y="2590920"/>
          <a:ext cx="65530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  <a:gridCol w="1638360"/>
                <a:gridCol w="1638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349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8480" y="4724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00400" y="4724280"/>
          <a:ext cx="5410080" cy="1930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45600" y="5158080"/>
            <a:ext cx="24469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A52-2D99-4307-AED5-F8DA503AA3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360" y="4191120"/>
            <a:ext cx="6904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200400"/>
            <a:ext cx="6394680" cy="2209680"/>
            <a:chOff x="2438280" y="3200400"/>
            <a:chExt cx="6394680" cy="2209680"/>
          </a:xfrm>
        </p:grpSpPr>
        <p:sp>
          <p:nvSpPr>
            <p:cNvPr id="129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4320" y="3200400"/>
              <a:ext cx="3158640" cy="1692360"/>
            </a:xfrm>
            <a:prstGeom prst="wedgeEllipseCallout">
              <a:avLst>
                <a:gd name="adj1" fmla="val -76949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E6C-1C1A-44D5-B795-5C21CB7368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36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40" name=""/>
          <p:cNvGraphicFramePr/>
          <p:nvPr/>
        </p:nvGraphicFramePr>
        <p:xfrm>
          <a:off x="5943600" y="563868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70880" y="4191120"/>
            <a:ext cx="46490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44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852-102F-4091-971C-67323312BB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4191120"/>
            <a:ext cx="7328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413-B2D7-4314-A7B3-7615770591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56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962520"/>
            <a:ext cx="5549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108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637-E421-40A7-8DE3-09F8B8ECEB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rs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living in Seattle that bought some  product in the ‘Gadgets’ category, and the names of the stores they bought such produc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23640" y="4952880"/>
            <a:ext cx="7145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name, stor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name=buyer AND product = pnam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city=‘Seattle’ 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55F-2D13-43D7-BD50-53CFE1F183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wo relations have the same attr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pname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c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240" y="35053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200" y="5486400"/>
            <a:ext cx="7038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pname, Company.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worksfor = Company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5160" y="30463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48769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31C-D1E0-4219-87CF-27B6C7016B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27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9720" y="289548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the st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BestBuy’ also s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1440" y="60199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swer (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280" y="16002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persname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BD7-B082-404E-83DD-8FCFC8CFDC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560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7372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9E3-06F8-471F-AFA2-D90E7EA40A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312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B96-D2F4-488A-8A5A-71D548CF92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76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240" y="3241800"/>
            <a:ext cx="555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2 (a.k.a. SQ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9 (a.k.a. SQL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discuss is common to all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2AA-77D3-462C-BEA6-B306A3E715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821-CA51-41D8-AF03-842FA38CF2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F26-D86B-4F33-A769-A491E47396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25C-7877-4D34-919A-976A50FF61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ckage a sequence of SQL statem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CFD-8484-4A31-BC63-98C89B2A88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, a.k.a.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built from atom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537-D20D-4DF8-A3C3-80D8560151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INT, INT, SMALLINT, TINY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, FLO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iffer in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  All ar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8D2-267F-4FC7-B075-0A3659EDD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01480" y="304920"/>
            <a:ext cx="3041280" cy="652680"/>
          </a:xfrm>
          <a:prstGeom prst="wedgeEllipseCallout">
            <a:avLst>
              <a:gd name="adj1" fmla="val 537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47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50E-8445-463C-B272-978B66CE00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 is unorderd: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sted tables, only flat tables are allowe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ee later how to decompose complex structures into multiple fla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56A-1229-4B93-ACB1-CBEB53C462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7C0-CEA6-43D6-8D96-72487BF118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2-10-02T16:54:12Z</dcterms:modified>
  <cp:revision>1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6105257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02</vt:lpwstr>
  </property>
</Properties>
</file>