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7ED-DCCC-4A10-8C4A-46295594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739-ACB1-4427-8C66-04EFBC89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CE4-C969-4FEC-827C-B4DFC1D3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32C-9BEE-4741-A925-34851173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9AB-66DF-498F-8DAA-7A8E0D7F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A3A-26A8-44AC-A73E-3CF6CE3B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F2F-E281-4D7A-9E00-F0BCCA1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348-C855-4282-9DB9-95F1884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3DA-C477-4DEF-905A-6D7E027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4AC-CD91-41F8-8244-CEA319CE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EFB-B621-4EF4-BA5D-7109D75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7F9-77D2-4D87-A77E-19FB192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5C7-80DE-4EA9-A5F8-F55147FAA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83A-DBCC-4BA8-823F-B41B7E6D4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078-CA1E-4007-9F69-164B6183B3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E03-52CD-413F-B529-2616996542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2920" y="3124080"/>
            <a:ext cx="6464520" cy="29282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684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666-897F-41E4-A49E-ED2F37442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locks:  we know them from OS, but now data on disk; and is there any fun to re-implement th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6640" y="2209680"/>
            <a:ext cx="1949760" cy="652680"/>
          </a:xfrm>
          <a:prstGeom prst="wedgeEllipseCallout">
            <a:avLst>
              <a:gd name="adj1" fmla="val -122064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8F9-5E00-4869-8E4C-7154E10CE5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800" y="6019920"/>
            <a:ext cx="1932840" cy="652680"/>
          </a:xfrm>
          <a:prstGeom prst="wedgeEllipseCallout">
            <a:avLst>
              <a:gd name="adj1" fmla="val -189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01440" y="5207040"/>
            <a:ext cx="3041280" cy="1692360"/>
          </a:xfrm>
          <a:prstGeom prst="wedgeEllipseCallout">
            <a:avLst>
              <a:gd name="adj1" fmla="val -29125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348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876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8640" y="18288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database syst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965-1698-4B3D-B8B0-3169E4F029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783-0172-4F6E-A4D8-5B81B719A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, cumbersome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good for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just someone else’s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eginning we may be impressed by its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ater we discover that it can be frustratingly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o any particular task faster outside the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DBM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AFF-F731-4CA8-8CCD-B2372A6C2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692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AC1-EE1B-48C0-87AB-2965E1B01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2397240"/>
          <a:ext cx="3944880" cy="143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397240"/>
                    <a:ext cx="394488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33880" y="2397240"/>
          <a:ext cx="2814840" cy="1616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2397240"/>
                    <a:ext cx="28148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2224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740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3240" y="3924360"/>
          <a:ext cx="4961160" cy="1433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240" y="3924360"/>
                    <a:ext cx="49611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228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60F-505F-4368-B978-41B068CC28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80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50E-9D0B-48C7-9F59-07E6EC98D1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eg, Room 318, suciu@cs.washington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Monday, 11:30-12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by appointment)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: Yana Kadiy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na@cs.washington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354-D1D9-4122-B89D-DA40A79AF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482-3868-41A6-BB60-276B620AFE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81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4F2-199F-4CBD-8964-0693532EA1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22600" y="1981080"/>
            <a:ext cx="4337280" cy="3388680"/>
            <a:chOff x="4422600" y="1981080"/>
            <a:chExt cx="4337280" cy="3388680"/>
          </a:xfrm>
        </p:grpSpPr>
        <p:sp>
          <p:nvSpPr>
            <p:cNvPr id="136" name=""/>
            <p:cNvSpPr/>
            <p:nvPr/>
          </p:nvSpPr>
          <p:spPr>
            <a:xfrm flipH="1">
              <a:off x="5749920" y="2427120"/>
              <a:ext cx="12686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60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1000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5840" y="3668400"/>
              <a:ext cx="803880" cy="515160"/>
              <a:chOff x="5415840" y="3668400"/>
              <a:chExt cx="803880" cy="515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764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540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7640" y="36684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415840" y="3668400"/>
                <a:ext cx="803880" cy="515160"/>
                <a:chOff x="5415840" y="3668400"/>
                <a:chExt cx="803880" cy="515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597640" y="36684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584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942240" y="1992240"/>
              <a:ext cx="842400" cy="389520"/>
              <a:chOff x="6942240" y="1992240"/>
              <a:chExt cx="842400" cy="38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698328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7076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4224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3584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935760" y="298764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4080" y="198108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32560" y="4354200"/>
              <a:ext cx="1472400" cy="381960"/>
              <a:chOff x="4732560" y="4354200"/>
              <a:chExt cx="1472400" cy="38196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732560" y="4354200"/>
                <a:ext cx="162000" cy="158760"/>
                <a:chOff x="4732560" y="4354200"/>
                <a:chExt cx="162000" cy="158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732560" y="4354200"/>
                  <a:ext cx="11592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91600" y="4371840"/>
                  <a:ext cx="10296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80528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711120" y="2982600"/>
              <a:ext cx="803880" cy="515160"/>
              <a:chOff x="6711120" y="2982600"/>
              <a:chExt cx="803880" cy="5151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9292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4068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92920" y="29826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6711120" y="2982600"/>
                <a:ext cx="803880" cy="515160"/>
                <a:chOff x="6711120" y="2982600"/>
                <a:chExt cx="803880" cy="51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892920" y="29826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71112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770760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037120" y="404928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80852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852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37120" y="397296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80120" y="3972960"/>
              <a:ext cx="533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27840" y="3135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475400" y="3134880"/>
              <a:ext cx="6858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04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38B-782C-4839-A97D-28435590D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with DB2)   bought Informix rec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 You may use something else, but you are on you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262-66E1-4618-A172-6DAB0B37A2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ataba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to peer, stream data management – stil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0AF-C3CE-4F91-88F6-62146E6BFD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y vary slight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Novemb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December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342-F34B-415D-ACE6-0D129773B5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 or equival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25%: 6 of them, some light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25% - se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677-81FA-4FCB-9965-62DD5DD4D3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design end-to-end databas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n groups of 3-4 (start form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: design a multi-user cale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he data in a DBMS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 Web interface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 Webservice ove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E5E-F588-4001-8F7C-5C4FB39F17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ing based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(the more the better)  (say 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, effici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ay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some milestones to turn in during the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make sure that you make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necessarily expect feedback: ask, if you ne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0BC-6076-4642-BC1C-7ACCD4A562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choose any different topic; e.g. from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bstract.cs.washington.edu/~zahorjan/481-02au/cse-access/overview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needs to include all three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b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to write a 1-2 page proposal and turn i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you are at your own risk (i.e. we offer little support, and grading may be less predicat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752-0241-47C9-8B3B-74390B903A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 send email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@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e cse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4DA-7F9A-4907-8172-968FA734BA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ld language, but still 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er, XML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tunately less programming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y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implementation and hacking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ou need to learn a lot while you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180-0D99-4CDF-A08F-8AFBBA67F6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ctor Garcia-Molina, Jeffrey Ullman,  Jennifer Wi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identical, and also available at the bookst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st Course in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eff Ullman and  Jennifer Wi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ctor Garcia-Molina, Jeff Ullman and Jennifer Wi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CAA-D942-4BFC-A09B-45554BA0C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A89-3742-4E2B-A862-941ACEFF7E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AF5-9881-4D08-93C8-3448AA979F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next lecture (Wednesday):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hilip Greenspun, Introdu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h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7A1-AFCD-4A1F-81E2-ACD4FD868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AAD-07AB-4F61-8B30-971AF09AF8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938-F311-4CA5-A078-9B7AEE33A9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uw</cp:lastModifiedBy>
  <cp:lastPrinted>1998-09-26T21:35:18Z</cp:lastPrinted>
  <dcterms:modified xsi:type="dcterms:W3CDTF">2002-09-29T03:52:28Z</dcterms:modified>
  <cp:revision>223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