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71D-746B-4BEF-AE60-C84C0D19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CB7-FD1A-49C5-834D-27998DDD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8D7-758E-4348-9486-9A061EC3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D88-4D8F-497A-9EE9-DC25B9A5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DC5-728C-41B4-8B6A-EF24DC24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A18-9336-44B3-BF55-6938226D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6BF-1A1A-4A32-AD80-933E486F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73E-7D6B-4CCA-8C33-EBC27EC0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3C7-188A-4B4A-A7F7-586F30DA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E51-D96A-42B8-ACB8-206CA7EC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21C-5FCA-49CC-9310-3E82621A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5BD-643A-4861-828D-D28762A5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604C-D63A-45D9-A764-68DE4DAB3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30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DEF-678B-42F2-931D-5B6DA369B3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a Traditional Databas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23924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re building a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tore the information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takes what, who teaches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752-A115-4B96-9B0A-0B1DA0AE4C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it without a DBM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e we can!  Start by storing the data in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.txt      courses.txt          professors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write C or Java programs to implement specific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47D-2274-4820-8F65-69D8F20A01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it without a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22920" y="3124080"/>
            <a:ext cx="6464520" cy="292824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6840" y="263196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C program to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821-8889-4E1D-B0E9-2513ADE5C2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out an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data sets (say 50G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taneous access by many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locks:  we know them from OS, but now data on disk; and is there any fun to re-implement the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2057400"/>
            <a:ext cx="3566880" cy="131832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96640" y="2209680"/>
            <a:ext cx="1949760" cy="652680"/>
          </a:xfrm>
          <a:prstGeom prst="wedgeEllipseCallout">
            <a:avLst>
              <a:gd name="adj1" fmla="val -122064"/>
              <a:gd name="adj2" fmla="val 614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388-0B95-436F-BD3F-73A6CE4E06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2438280"/>
            <a:ext cx="289584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s a DM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1144440" cy="228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26668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5812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57200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800" y="6019920"/>
            <a:ext cx="1932840" cy="652680"/>
          </a:xfrm>
          <a:prstGeom prst="wedgeEllipseCallout">
            <a:avLst>
              <a:gd name="adj1" fmla="val -189"/>
              <a:gd name="adj2" fmla="val -11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01440" y="5207040"/>
            <a:ext cx="3041280" cy="1692360"/>
          </a:xfrm>
          <a:prstGeom prst="wedgeEllipseCallout">
            <a:avLst>
              <a:gd name="adj1" fmla="val -29125"/>
              <a:gd name="adj2" fmla="val -6235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one else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3480" y="5943600"/>
            <a:ext cx="2474280" cy="652680"/>
          </a:xfrm>
          <a:prstGeom prst="wedgeEllipseCallout">
            <a:avLst>
              <a:gd name="adj1" fmla="val -8685"/>
              <a:gd name="adj2" fmla="val -880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581280" y="2209680"/>
            <a:ext cx="4267440" cy="3429000"/>
            <a:chOff x="3581280" y="2209680"/>
            <a:chExt cx="4267440" cy="342900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6553080" y="220968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6705720" y="3562200"/>
              <a:ext cx="9903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6858000" y="493380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3581280" y="27428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3886200"/>
              <a:ext cx="2743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9880" y="4572000"/>
              <a:ext cx="2895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18760" y="3429000"/>
              <a:ext cx="21254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ODBC, JDB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58640" y="18288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ier database syst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A70-071F-4092-830D-45A09F35B6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ity of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er sees SQL, which has two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- D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- D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ind the scenes the DBMS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Management (concurrency, recov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3A4-CCE5-4F3D-8E3B-FFACF0B37F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ity of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-serv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, cumbersome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good for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just someone else’s C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beginning we may be impressed by its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ater we discover that it can be frustratingly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o any particular task faster outside the 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DBMS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C47-CB9E-49BD-A5FC-9DF73433BE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DD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with DM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pulat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6920" y="2590920"/>
            <a:ext cx="58410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TABLE Student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CHAR(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 CHAR(9) PRIMARY KEY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HAR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5040" y="5029200"/>
            <a:ext cx="55148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(‘Charles’, ‘123456789’, ‘undergraduat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CE36-DDFE-47ED-A4C2-BAB6FA3EC3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mplemented as files, but behind the scenes can be quit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11280" y="5157720"/>
          <a:ext cx="42037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5157720"/>
                    <a:ext cx="42037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14400" y="2397240"/>
          <a:ext cx="3944880" cy="143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397240"/>
                    <a:ext cx="394488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033880" y="2397240"/>
          <a:ext cx="2814840" cy="1616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3880" y="2397240"/>
                    <a:ext cx="281484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822240" y="1981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740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03240" y="3924360"/>
          <a:ext cx="4961160" cy="14335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240" y="3924360"/>
                    <a:ext cx="496116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915120" y="3540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2280" y="5715000"/>
            <a:ext cx="665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= sepa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ie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a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B83-BDD5-4986-8AB8-0AD34EB548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0040" y="2590920"/>
            <a:ext cx="522828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TRANSACT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T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Students.SSN, Courses.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Students,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Students.name = ‘Mary Johnson’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s.name = ‘CSE444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More updates here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verything-went-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THEN COMM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ROLL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7800" y="628956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ystem crashes, the transaction is still either committed or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813-2C92-4ACF-A209-38973A36C6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or:  Dan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eg, Room 318, suciu@cs.washington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 Monday, 11:30-12: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by appointment)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: Yana Kadiy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na@cs.washington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TBA (check mailing li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BB7-0B2B-4820-8412-E016681B62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quence of statements that either all succeed, or all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have the ACI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C5B-4D52-4F31-A3B9-0B0436CF85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courses that “Mary” t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behind the sce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processor figures out how to answer the query efficient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38160" y="2895480"/>
            <a:ext cx="611820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S.name=“Mary”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S.ssn = T.ssn and T.cid = C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3E26-1C9F-49B7-B7C7-D391BBB9AF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, behind the sc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672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360" y="2362320"/>
            <a:ext cx="4978080" cy="155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S.name=“Mary”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ssn = T.ssn and T.cid = C.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72392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486400" y="4114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866920" y="685800"/>
            <a:ext cx="1219320" cy="220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581280" y="2209680"/>
            <a:ext cx="22860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80720" y="2209680"/>
            <a:ext cx="16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85800" y="220968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362320"/>
            <a:ext cx="3733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019560" y="2438280"/>
            <a:ext cx="75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422600" y="1981080"/>
            <a:ext cx="4337280" cy="3388680"/>
            <a:chOff x="4422600" y="1981080"/>
            <a:chExt cx="4337280" cy="3388680"/>
          </a:xfrm>
        </p:grpSpPr>
        <p:sp>
          <p:nvSpPr>
            <p:cNvPr id="136" name=""/>
            <p:cNvSpPr/>
            <p:nvPr/>
          </p:nvSpPr>
          <p:spPr>
            <a:xfrm flipH="1">
              <a:off x="5749920" y="2427120"/>
              <a:ext cx="12686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22600" y="5018040"/>
              <a:ext cx="11116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tud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10000" y="5002200"/>
              <a:ext cx="79920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415840" y="3668400"/>
              <a:ext cx="803880" cy="515160"/>
              <a:chOff x="5415840" y="3668400"/>
              <a:chExt cx="803880" cy="515160"/>
            </a:xfrm>
          </p:grpSpPr>
          <p:sp>
            <p:nvSpPr>
              <p:cNvPr id="140" name=""/>
              <p:cNvSpPr/>
              <p:nvPr/>
            </p:nvSpPr>
            <p:spPr>
              <a:xfrm>
                <a:off x="5597640" y="36684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5400" y="36684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97640" y="3668400"/>
                <a:ext cx="34956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415840" y="3668400"/>
                <a:ext cx="803880" cy="515160"/>
                <a:chOff x="5415840" y="3668400"/>
                <a:chExt cx="803880" cy="5151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597640" y="3668400"/>
                  <a:ext cx="34956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15840" y="38779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d=s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6942240" y="1992240"/>
              <a:ext cx="842400" cy="389520"/>
              <a:chOff x="6942240" y="1992240"/>
              <a:chExt cx="842400" cy="389520"/>
            </a:xfrm>
          </p:grpSpPr>
          <p:sp>
            <p:nvSpPr>
              <p:cNvPr id="147" name=""/>
              <p:cNvSpPr/>
              <p:nvPr/>
            </p:nvSpPr>
            <p:spPr>
              <a:xfrm>
                <a:off x="6983280" y="2008080"/>
                <a:ext cx="144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70760" y="2008080"/>
                <a:ext cx="108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42240" y="199224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110" h="1">
                    <a:moveTo>
                      <a:pt x="0" y="0"/>
                    </a:moveTo>
                    <a:lnTo>
                      <a:pt x="109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35840" y="2076120"/>
                <a:ext cx="7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6935760" y="298764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4080" y="198108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732560" y="4354200"/>
              <a:ext cx="1472400" cy="381960"/>
              <a:chOff x="4732560" y="4354200"/>
              <a:chExt cx="1472400" cy="38196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732560" y="4354200"/>
                <a:ext cx="162000" cy="158760"/>
                <a:chOff x="4732560" y="4354200"/>
                <a:chExt cx="162000" cy="158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732560" y="4354200"/>
                  <a:ext cx="115920" cy="158760"/>
                </a:xfrm>
                <a:custGeom>
                  <a:avLst/>
                  <a:gdLst/>
                  <a:ahLst/>
                  <a:rect l="l" t="t" r="r" b="b"/>
                  <a:pathLst>
                    <a:path w="73" h="100">
                      <a:moveTo>
                        <a:pt x="72" y="50"/>
                      </a:moveTo>
                      <a:lnTo>
                        <a:pt x="62" y="15"/>
                      </a:lnTo>
                      <a:lnTo>
                        <a:pt x="36" y="0"/>
                      </a:lnTo>
                      <a:lnTo>
                        <a:pt x="11" y="15"/>
                      </a:lnTo>
                      <a:lnTo>
                        <a:pt x="0" y="50"/>
                      </a:lnTo>
                      <a:lnTo>
                        <a:pt x="11" y="84"/>
                      </a:lnTo>
                      <a:lnTo>
                        <a:pt x="36" y="99"/>
                      </a:lnTo>
                      <a:lnTo>
                        <a:pt x="62" y="84"/>
                      </a:lnTo>
                      <a:lnTo>
                        <a:pt x="72" y="5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791600" y="4371840"/>
                  <a:ext cx="102960" cy="1440"/>
                </a:xfrm>
                <a:custGeom>
                  <a:avLst/>
                  <a:gdLst/>
                  <a:ahLst/>
                  <a:rect l="l" t="t" r="r" b="b"/>
                  <a:pathLst>
                    <a:path w="65" h="1">
                      <a:moveTo>
                        <a:pt x="0" y="0"/>
                      </a:moveTo>
                      <a:lnTo>
                        <a:pt x="6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805280" y="4430520"/>
                <a:ext cx="1399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ame=“Mary”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711120" y="2982600"/>
              <a:ext cx="803880" cy="515160"/>
              <a:chOff x="6711120" y="2982600"/>
              <a:chExt cx="803880" cy="515160"/>
            </a:xfrm>
          </p:grpSpPr>
          <p:sp>
            <p:nvSpPr>
              <p:cNvPr id="159" name=""/>
              <p:cNvSpPr/>
              <p:nvPr/>
            </p:nvSpPr>
            <p:spPr>
              <a:xfrm>
                <a:off x="6892920" y="29826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40680" y="29826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92920" y="2982600"/>
                <a:ext cx="34956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6711120" y="2982600"/>
                <a:ext cx="803880" cy="515160"/>
                <a:chOff x="6711120" y="2982600"/>
                <a:chExt cx="803880" cy="515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892920" y="2982600"/>
                  <a:ext cx="34956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711120" y="31921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id=c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7707600" y="4964040"/>
              <a:ext cx="10522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urs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037120" y="4049280"/>
              <a:ext cx="3049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808520" y="4659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8520" y="4659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037120" y="3972960"/>
              <a:ext cx="381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180120" y="3972960"/>
              <a:ext cx="5335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027840" y="313524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475400" y="3134880"/>
              <a:ext cx="68580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040" y="606096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s the best execution plan for a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E8F-DA27-4E42-933A-DCF3EAA228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g commercial database vend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(with DB2)   bought Informix rec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(SQL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ree database systems (Unix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g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SE444 we use SQL Server. You may use something else, but you are on your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EA0-98DB-4F6E-BE8E-7A8481D304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Trends in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relational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memory databas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XML XM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bases with XM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 between XML and relation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research here at UW on XML and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to peer, stream data management – still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0D4-403B-494E-A700-497C0DDA5F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may vary slightl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(Chapter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lational data model (Chap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design (Chapters 2, 3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: Novembe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orage, indexes (Chapters 11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 and optimization (Chapter 15,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 (Chapter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December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7EB-373E-4221-97D6-E37803DDB1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Data structures course (CSE-326 or equival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&amp; Gr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 25%: 6 of them, some light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: 25% - se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: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s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B29-60DC-4341-976D-C4664B677A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design end-to-end database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in groups of 3-4 (start form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: design a multi-user cale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the data in a DBMS (SQL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 Web interface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 Webservice over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F0D-223A-4B4C-BE63-0F1D62B8C3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ing based 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(the more the better)  (say 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, effici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ay 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ill be some milestones to turn in during the 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make sure that you make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necessarily expect feedback: ask, if you need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BFD-C253-438C-9DD6-69E00CFF26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top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choose any different topic; e.g. from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bstract.cs.washington.edu/~zahorjan/481-02au/cse-access/overview.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needs to include all three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b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eed to write a 1-2 page proposal and turn it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you are at your own risk (i.e. we offer little support, and grading may be less predicat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152-75FF-4DE4-BD8D-ED3031882F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cs.washington.edu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 send email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domo@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e cse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738-0BE6-4322-9D01-A37B926756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is this course about, reall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ld language, but still 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er, XML s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ortunately less programming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y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implementation and hacking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ou need to learn a lot while you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C5E-F081-49B7-920C-D72E147935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textbook, available at the bookst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Systems: The Complete 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ctor Garcia-Molina, Jeffrey Ullman,  Jennifer Wi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most identical, and also available at the bookst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First Course in Database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eff Ullman and  Jennifer Wi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Imple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ctor Garcia-Molina, Jeff Ullman and Jennifer Wi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79E-2D15-4AB9-9D60-A28336121C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reserve at the Engineering Libr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amakrish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compreh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lmasri, Nav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widely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ndations of Data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biteboul, Hull, Vian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theory of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on the Web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iteboul, Buneman, Su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nd other new/advanced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BD4-6C2B-4D50-B75E-E9E88AF82E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quired Rea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ill be reading assignments from the We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Philip Greenspun, 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, especially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QL, a good source of information is the MSDN library (on your Windows mach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322-4D42-44D8-A405-997B7EF6E9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for 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 for next lecture (Wednesday):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Philip Greenspun, Introdu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philip.greenspun.com/sq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the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09F-D47D-4DD2-BC3A-195785045B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lational Database Management Syste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anagement System =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BMS =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files that stor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C program written by someone else that accesses and updates those files fo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9BC-5AF4-488A-A8DC-7ABE061EB9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RDBMS us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traditional “database”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large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E7D-A42A-40C2-A605-5837282E23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Dan Suciu</dc:creator>
  <dc:description/>
  <dc:language>en-US</dc:language>
  <cp:lastModifiedBy>uw</cp:lastModifiedBy>
  <cp:lastPrinted>1998-09-26T21:35:18Z</cp:lastPrinted>
  <dcterms:modified xsi:type="dcterms:W3CDTF">2002-09-29T03:52:28Z</dcterms:modified>
  <cp:revision>223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