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39D-0B4A-4C85-90FF-85E404F0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4F6-28A8-49E1-B797-B1F7FA50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7F9-02CD-45BA-B092-36869C16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6DF-17C5-475F-A113-B54D5C43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D70-F257-456F-BDAD-9ED3C109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5E2-EF19-4667-92E0-E83310E2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33E-E8DE-4AE8-8A3D-BD934B97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505-28BD-47FA-8381-446BD934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A5D-9935-42E5-9CCA-62AA4ABD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7F7-3066-4C8C-8537-D3C2CA26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2F9-4871-4561-A126-862BECA3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315-5A7C-4666-A5B0-5E2578A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17B6-66DD-4FAB-9752-9CAE810E7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HW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city’ means ‘downtow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dates and ti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(s AS DATETIME) = casts s into date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part(HOUR, d) = returns the HOUR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part(MINUTE, d) =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: read the SQL manual onlin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na K</cp:lastModifiedBy>
  <dcterms:modified xsi:type="dcterms:W3CDTF">2002-10-09T15:00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4093365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Please print both of them for tomorrow</vt:lpwstr>
  </property>
</Properties>
</file>