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274-7606-4A62-87B0-91194E04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B23-016F-4C53-B06A-311F6174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19A-410E-4DA2-8C1E-DCA050AD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F32-2460-402E-8DFC-623F3F10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29E-3533-41C3-931B-4994F0C9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2E4-FB43-4A0E-AE9A-57BC276A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C66-548B-4DDA-8E04-AB526ADA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E2F-1F04-4CA0-A560-D4D52375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D9D-3AA0-4124-9143-27678A63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3EE-9DE9-4250-B078-A2A30CF1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63C-3A61-44EA-BF2F-B26763F9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30C-D99D-4739-8FA8-9A5F804C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C759-EBA7-48D2-8F43-187044DD7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HW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 city’ means ‘downtow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ing with dates and ti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(s AS DATETIME) = casts s into date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part(HOUR, d) = returns the HOUR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part(MINUTE, d) =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: read the SQL manual onlin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na K</cp:lastModifiedBy>
  <dcterms:modified xsi:type="dcterms:W3CDTF">2002-10-09T15:00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34093365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Please print both of them for tomorrow</vt:lpwstr>
  </property>
</Properties>
</file>