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F69-8334-492F-B21B-8FC4C854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6EC-1357-4F53-B5B9-FE400F07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35B-550F-4160-9C4B-B8A733DF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F0B-7FCC-4E79-9B41-32A18245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ED0-6D3F-4921-94DB-A95628D9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CE4-F6FC-45DF-AC2F-9DAC2F9A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93F-154D-4291-8AAF-6236C8F3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342-B84A-4F11-AB3B-C4CD0C3E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196-B4BA-4E4C-84C6-A08DA507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E4F-A2BB-4962-A219-C5C8D6F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77E-8AA3-4499-8E36-FD6C6857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ECE-5289-4FD6-A9CC-3549015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594D-F343-4F8A-B4DD-1890D51C2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. 12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2F1-0C73-469B-8134-059CEF092B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/spars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/secondary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5C0-9FCE-4433-B120-92A704B80F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054-B96A-4457-8680-38C443F880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log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id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 based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based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 for join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013-A267-4AB0-ABB9-ED76B9A408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1AE-5B4C-485E-B428-4CCA7ACF04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ll require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ifficulty may be un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y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EFE-083A-4D89-9823-B1144F4433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5 out of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: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: 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: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s: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33B-819C-4534-A04C-49EF76C834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: Friday, December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2:30 – 4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: thi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 exa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F8E-D17B-4525-B658-0FF2A3D3B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Prepare for 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248-0D2D-4D0A-BDA2-0AD275D85E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, O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96C-05CE-4B40-9E79-E400153FD6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35D-EEEE-4F7F-8C61-C1BEDB246C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XML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A43-A52A-4FFE-8F57-326E9C3EC7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3B7-0E71-4D34-97C4-652A074A84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nd modifying relation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A0D-9AD7-4737-99DA-D4E5370BB5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 records into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D92-137E-414F-A233-BDCA5708FB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8:31:00Z</dcterms:created>
  <dc:creator>Administrator</dc:creator>
  <dc:description/>
  <dc:language>en-US</dc:language>
  <cp:lastModifiedBy>Administrator</cp:lastModifiedBy>
  <dcterms:modified xsi:type="dcterms:W3CDTF">2001-12-12T15:50:21Z</dcterms:modified>
  <cp:revision>4</cp:revision>
  <dc:subject/>
  <dc:title>Lecture 2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3426758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ast lecture</vt:lpwstr>
  </property>
</Properties>
</file>