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C047-7301-444C-A57A-2D4A0DBE3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ecause if the system crashes before it writes &lt;END CKPT&gt; then we cannot use the checkpoint.  We use &lt;END CKPT&gt; to ensure that the system didn’t crash and the checkpoint ter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E13D-5AC1-4203-BFAD-EA6DB62A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64E4-2E42-47CF-8F74-E4209E28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E508-D160-4CD8-9275-82237805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EFCD-B73A-4718-A232-B6E7E411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9938-7284-4F2C-A729-4AE9C0B9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B4D2-2FE4-4FE6-93E6-94CBB47D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D289-41D4-4679-A748-2A6052B0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0080-DBBB-4B18-93D9-16FCC179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0AD9-2538-4E8F-A175-4189BB98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7141-5C62-436A-AC91-B1B177F5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BA9D-95C7-4928-9A96-4C41D142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6BBC-C0AC-4380-A9A8-FB722F4E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24CC-9559-4709-8AEB-9A38F60EE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Dec. 10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7200" y="1905120"/>
            <a:ext cx="169092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6,X6,v6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5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4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X2,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438280" y="28195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all undo commands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empo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perform them a second time, no harm is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if there is a system crash during recovery, simply restart recovery from scr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do we stop reading the log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not stop until we reach the beginning of the log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imprac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idea: use checkpo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point the database period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 accepting new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it until all curent transactions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sh log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CKPT&gt; log record, fl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m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Recovery with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86680" y="1905120"/>
            <a:ext cx="1690920" cy="47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9,X9,v9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ll comple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5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4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X2,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6280" y="270828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recove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op at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3886200"/>
            <a:ext cx="152280" cy="2666880"/>
          </a:xfrm>
          <a:custGeom>
            <a:avLst/>
            <a:gdLst>
              <a:gd name="textAreaLeft" fmla="*/ 0 w 152280"/>
              <a:gd name="textAreaRight" fmla="*/ 55080 w 15228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s T2,T3,T4,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198108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with checkpointing: database freezes during check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uld like to checkpoint while database is oper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nonquiescent checkpo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START CKPT(T1,…,Tk)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1,…,Tk are all activ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normal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ll of T1,…,Tk have completed, write &lt;END CKP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Recovery with 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1905120"/>
            <a:ext cx="2667240" cy="47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4, T5, T6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46280" y="270828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recove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op at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3733920"/>
            <a:ext cx="76320" cy="1066680"/>
          </a:xfrm>
          <a:custGeom>
            <a:avLst/>
            <a:gdLst>
              <a:gd name="textAreaLeft" fmla="*/ 0 w 76320"/>
              <a:gd name="textAreaRight" fmla="*/ 2736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4, T5, T6, p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198108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lier transactions p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4, T5, 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5029200"/>
            <a:ext cx="76320" cy="1523880"/>
          </a:xfrm>
          <a:custGeom>
            <a:avLst/>
            <a:gdLst>
              <a:gd name="textAreaLeft" fmla="*/ 0 w 76320"/>
              <a:gd name="textAreaRight" fmla="*/ 27360 w 763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760" y="5791320"/>
            <a:ext cx="2626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Q: why do we n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&lt;END CKPT&gt;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START T&gt; = transaction T has beg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COMMIT T&gt; = T has com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ABORT T&gt;= T has ab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T,X,v&gt;= T has updated element X, and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is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-Logg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: If T modifies X, then both &lt;T,X,v&gt; and &lt;COMMIT T&gt; must be written to disk before X is written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: OUTPUTs are don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e Operations of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element X to memory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(X,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element X to transaction local variable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(X,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transaction local variable t to elem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element X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28600" y="914400"/>
          <a:ext cx="8534520" cy="49593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T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Decide for each transaction T whether it is completed or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COMMIT T&gt;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ABORT T&gt;…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……………………   =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Read log from the beginning, redo all updates of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mit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77200" y="1905120"/>
            <a:ext cx="169092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 X2, 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438280" y="19051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START CKPT(T1,…,Tk)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1,…,Tk are all activ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sh to disk all blocks of committed transaction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rty bloc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ile continuing normal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ll blocks have been written, write &lt;END CKP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 Recovery with 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1905120"/>
            <a:ext cx="2667240" cy="447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T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COMMIT T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4, T5, T6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9, T10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5560" y="2708280"/>
            <a:ext cx="208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18480" y="2556000"/>
            <a:ext cx="165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r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n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35053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80" y="4633920"/>
            <a:ext cx="2038320" cy="916920"/>
          </a:xfrm>
          <a:prstGeom prst="borderCallout1">
            <a:avLst>
              <a:gd name="adj1" fmla="val 18750"/>
              <a:gd name="adj2" fmla="val -8333"/>
              <a:gd name="adj3" fmla="val 8986"/>
              <a:gd name="adj4" fmla="val 150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OUTPU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1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to be on 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 Undo/Re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 logg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must be done ea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&lt;COMMIT T&gt; is seen, T definitely has written all its data to disk (hence, don’t need to un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log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must be done 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&lt;COMMIT T&gt; is not seen, T definitely has not written any of its data to disk (hence there is not dirty data on dis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like more flexibility on when to OUTPUT: undo/redo logging (ne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/Re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 records, only one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T,X,u,v&gt;= T has updated element X,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was u, and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is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/Redo-Logging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1: If T modifies X, then &lt;T,X,u,v&gt; must be written to disk before X is written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we are free to OUTPUT early or late (I.e. before or after &lt;COMMIT T&gt;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228600" y="914400"/>
          <a:ext cx="8534520" cy="49593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T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/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all committed transaction, top-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 all uncommitted transactions, bottom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(A,t); t := t*2;WRITE(A,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(B,t); t := t*2;WRITE(B,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3520" y="2133720"/>
          <a:ext cx="7848360" cy="4508280"/>
        </p:xfrm>
        <a:graphic>
          <a:graphicData uri="http://schemas.openxmlformats.org/drawingml/2006/table">
            <a:tbl>
              <a:tblPr/>
              <a:tblGrid>
                <a:gridCol w="1689120"/>
                <a:gridCol w="1231920"/>
                <a:gridCol w="1231920"/>
                <a:gridCol w="1231560"/>
                <a:gridCol w="1231920"/>
                <a:gridCol w="123192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T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77200" y="1905120"/>
            <a:ext cx="169092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 X2, 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438280" y="19051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25780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end-only file containing log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multiple transactions run concurrently, log records are interlea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 system crash, use log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some transaction that didn’t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 other transactions that didn’t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T has beg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COMMIT T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ABORT 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ab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T,X,v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updated element X, and i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 was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-Logg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: If T modifies X, then &lt;T,X,v&gt; must be written to disk before X is written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2: If T commits, then &lt;COMMIT T&gt; must be written to disk only after all changes by T are written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: OUTPUTs are don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a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914400"/>
          <a:ext cx="8534520" cy="541008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T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1. Decide for each transaction T whether it is completed or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COMMIT T&gt;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ABORT T&gt;…….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……………………   =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2. Undo all modifications by incompleted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 manag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log from the end; c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COMMIT T&gt;:  mark T as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ABORT T&gt;: mark T as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T,X,v&gt;: if T is not complet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write X=v to dis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else ign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: ign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8:31:00Z</dcterms:created>
  <dc:creator>Administrator</dc:creator>
  <dc:description/>
  <dc:language>en-US</dc:language>
  <cp:lastModifiedBy>Administrator</cp:lastModifiedBy>
  <dcterms:modified xsi:type="dcterms:W3CDTF">2001-12-10T06:07:36Z</dcterms:modified>
  <cp:revision>2</cp:revision>
  <dc:subject/>
  <dc:title>Lecture 29</dc:title>
</cp:coreProperties>
</file>