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F181-091D-4429-95A8-1EBFB7AB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0A7-58AB-48C5-A3CB-49303514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B90-80E8-4288-B2FC-4AA2450B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D37-521C-4BDB-B98F-A5E4C88F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E6D-B305-46B4-952E-3064DA1F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EE9-7888-4ABB-9F26-93D075F0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C65-6A92-4724-8B2E-5B059328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376-973D-4D1B-9E69-E9F729CF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9B1-2BFD-4DEB-A6E4-B7DE331E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A32-28D5-4E0F-9E35-C757DB22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C53-ECBF-4514-9058-7754008D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549-4E91-44E2-A10F-8CF45FEC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DF6D-C161-4AFE-877A-B3D392764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December 7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891-8072-4D4A-B17F-9326CB9C0C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r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hash R on x into 100 buckets, each of 50 block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hash S on x into 100 bucket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read each Ri in memory (50 buffer) join with Si (1 buffer); hash result on y into 50 buckets (50 buffers)   -- here w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so far: 3B(R) + 3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123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124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129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829D-D622-494E-B45C-3D3762C501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arge are the 50 buckets on y ?  Answer: k/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lt;= 50 then keep all 50 buckets in Step 3 in memory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read U from disk, hash on y and join with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 + 3B(S) + B(U) = 5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144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145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150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0D3-74AC-4161-BF2D-D0437AB0D5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50 &lt; k &lt;= 5000 then send the 50 buckets in Step 3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ucket has size k/50 &l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4: partition U into 50 bu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5: read each partition and join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cost: 3B(R) + 3B(S) + 2k + 3B(U) = 75,000 + 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165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166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171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C78-5619-4EFF-BCD8-023EABB119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k &gt; 5000 then materialize instead of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186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187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192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5F9-B7FE-4942-87B6-9F000BE9B5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lt;= 50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5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50 &lt; k &lt;=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2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gt; 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4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80BF-7E2E-43B4-B2F8-2AB13397F1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example 7.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ging (8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 loging (8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F5D-30BE-4E27-A5BD-58908C3769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M = 101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419720" y="2590920"/>
            <a:ext cx="255600" cy="169920"/>
            <a:chOff x="4419720" y="2590920"/>
            <a:chExt cx="255600" cy="169920"/>
          </a:xfrm>
        </p:grpSpPr>
        <p:sp>
          <p:nvSpPr>
            <p:cNvPr id="211" name=""/>
            <p:cNvSpPr/>
            <p:nvPr/>
          </p:nvSpPr>
          <p:spPr>
            <a:xfrm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197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6753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81280" y="3276720"/>
            <a:ext cx="255600" cy="169920"/>
            <a:chOff x="3581280" y="3276720"/>
            <a:chExt cx="255600" cy="169920"/>
          </a:xfrm>
        </p:grpSpPr>
        <p:sp>
          <p:nvSpPr>
            <p:cNvPr id="216" name=""/>
            <p:cNvSpPr/>
            <p:nvPr/>
          </p:nvSpPr>
          <p:spPr>
            <a:xfrm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812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38368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175120" y="3962520"/>
            <a:ext cx="14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(w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38520" y="39625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48200" y="32767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880" y="2819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97180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8960" y="312408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10A-D9AD-4D13-9C03-AEE0B435B5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ïve evalu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31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32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237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377-EF9F-4530-B83B-13426B84FB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r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hash R on x into 100 buckets, each of 50 block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hash S on x into 100 bucket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read each Ri in memory (50 buffer) join with Si (1 buffer); hash result on y into 50 buckets (50 buffers)   -- here w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so far: 3B(R) + 3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52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53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258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E6D-7008-4FE0-96F0-2FB8CFF964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arge are the 50 buckets on y ?  Answer: k/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lt;= 50 then keep all 50 buckets in Step 3 in memory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read U from disk, hash on y and join with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 + 3B(S) + B(U) = 5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73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74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279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20C-2CDD-4C01-B69B-A66D15DBEF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grams (7.5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ng the physical-query-plan selection (7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(8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recovery (8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6AF-A770-48B3-94A1-86896D6194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50 &lt; k &lt;= 5000 then send the 50 buckets in Step 3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ucket has size k/50 &l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4: partition U into 50 bu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5: read each partition and join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cost: 3B(R) + 3B(S) + 2k + 3B(U) = 75,000 + 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94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95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00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B77-B92A-4297-B952-632904D03C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k &gt; 5000 then materialize instead of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15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16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21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0FF-6A54-4390-85FE-6F2FA5B2DE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lt;= 50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5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50 &lt; k &lt;=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2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gt; 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4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8F3-FB0D-4078-8020-647A0A8900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data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 by having constraints in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with data cl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 cr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 by using redundancy (RAID, arch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by using 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, theft, bankruptc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 insurance, change profess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failures: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requ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.g.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DE7-0F59-4C6A-B11F-7AAB37DE0A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Fail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ystem crashes, internal state is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ich parts executed and which di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dy: use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that records every single action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E4B-FA31-46DF-B534-75724A478A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-hoc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ommand = 1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mbedded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starts = first SQL command iss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ends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BACK (=ab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9BF8-5393-453C-9047-183F0C9A2C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the database is composed of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1 element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smaller (=1 record) or larger (=1 re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each transaction reads/writes som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23C-9A89-4F61-879E-88D51AA47E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ness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exists a notion of correctness for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 constraints (e.g. foreign ke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conditions (e.g. sum of sales = sum of invo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rrectness princi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a transaction starts in a correct database state, it ends in a correct database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ce: we only need to guarantee that transactions ar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om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database will be correct for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C30-C94C-4F3C-8159-C12175D7FB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Operations of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element X to memory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element X to transaction local variabl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ransaction local variable t to elem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element X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B66-53B9-4CCE-8AB6-598A79B79C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(A,t); t := t*2;WRITE(A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(B,t); t := t*2;WRITE(B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3520" y="2133720"/>
          <a:ext cx="7848360" cy="450828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560"/>
                <a:gridCol w="1231920"/>
                <a:gridCol w="123192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3D2-B862-4832-A0E5-B9E822C772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22120"/>
                <a:gridCol w="1122480"/>
                <a:gridCol w="1120680"/>
                <a:gridCol w="1120680"/>
                <a:gridCol w="112104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757-0E5A-4BEA-ACF9-C63DA1FAD7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-only file containing 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multiple transactions run concurrently, log records are interlea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system crash, use log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some transaction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other transactions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DD1-3D94-4821-BF86-C0C3083F866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T has be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MMI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BORT 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,X,v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updated element X, and i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wa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E98-B4C2-43A5-A2D7-4513529C75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: If T modifies X, then &lt;T,X,v&gt; must be written to disk before X is written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2: If T commits, then &lt;COMMIT T&gt; must be written to disk only after all changes by T are written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8C1-B113-4654-BFA8-7EB429C3A4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228600" y="914400"/>
          <a:ext cx="8534520" cy="541008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F2D-97F9-446B-88DA-2732238352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2. Undo all modifications by incompleted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15E-4FD9-480A-AB07-6F12876BDB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manag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log from the end;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MMIT T&gt;:  mark T as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BORT T&gt;: mark T as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,X,v&gt;: if T is not comple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rite X=v to dis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else 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: 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0CF-0E81-4299-9935-0E6C25060EB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77200" y="1905120"/>
            <a:ext cx="169092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6,X6,v6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43828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3E5C-C4C3-4F35-96F9-57F4113CFF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all undo command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mpo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perform them a second time, no harm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if there is a system crash during recovery, simply restart recovery from scr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062-67F2-4B91-AB3B-0B947B35CCB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o we stop reading the log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stop until we reach the beginning of the log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imprac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idea: use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C0E-3897-402D-96B2-181AD46ED0A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the size of Employee          R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" name=""/>
          <p:cNvGrpSpPr/>
          <p:nvPr/>
        </p:nvGrpSpPr>
        <p:grpSpPr>
          <a:xfrm>
            <a:off x="6205320" y="2835360"/>
            <a:ext cx="893520" cy="401040"/>
            <a:chOff x="6205320" y="2835360"/>
            <a:chExt cx="893520" cy="401040"/>
          </a:xfrm>
        </p:grpSpPr>
        <p:grpSp>
          <p:nvGrpSpPr>
            <p:cNvPr id="53" name=""/>
            <p:cNvGrpSpPr/>
            <p:nvPr/>
          </p:nvGrpSpPr>
          <p:grpSpPr>
            <a:xfrm>
              <a:off x="6205320" y="2835360"/>
              <a:ext cx="255600" cy="169920"/>
              <a:chOff x="6205320" y="2835360"/>
              <a:chExt cx="255600" cy="169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05680" y="283536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5680" y="283536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6460920" y="283536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6205320" y="283536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6400080" y="28990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EF0-B81C-4838-AEE7-CC5C2BF65E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V(R,A) &lt;= V(S,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T(R        S) = T(R) T(S) / V(S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743200" y="3352320"/>
            <a:ext cx="519840" cy="401400"/>
            <a:chOff x="2743200" y="3352320"/>
            <a:chExt cx="519840" cy="401400"/>
          </a:xfrm>
        </p:grpSpPr>
        <p:grpSp>
          <p:nvGrpSpPr>
            <p:cNvPr id="62" name=""/>
            <p:cNvGrpSpPr/>
            <p:nvPr/>
          </p:nvGrpSpPr>
          <p:grpSpPr>
            <a:xfrm>
              <a:off x="2743200" y="3352320"/>
              <a:ext cx="254880" cy="170640"/>
              <a:chOff x="2743200" y="3352320"/>
              <a:chExt cx="254880" cy="170640"/>
            </a:xfrm>
          </p:grpSpPr>
          <p:sp>
            <p:nvSpPr>
              <p:cNvPr id="63" name=""/>
              <p:cNvSpPr/>
              <p:nvPr/>
            </p:nvSpPr>
            <p:spPr>
              <a:xfrm>
                <a:off x="2743200" y="3352680"/>
                <a:ext cx="25488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743200" y="335268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2998080" y="335232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2743200" y="3352680"/>
                <a:ext cx="25488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936160" y="3416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2930-C8F3-4ECE-A825-DA1E56E5B3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Employee, Salary) =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anks, Salary) =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T(Employee            Ranks)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=1,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/ 25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200x8 + 800x20 + 5000x40 +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12000x80 + 6500x100 + 500x2)/25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244760" y="3652920"/>
            <a:ext cx="893520" cy="401040"/>
            <a:chOff x="4244760" y="3652920"/>
            <a:chExt cx="893520" cy="401040"/>
          </a:xfrm>
        </p:grpSpPr>
        <p:grpSp>
          <p:nvGrpSpPr>
            <p:cNvPr id="71" name=""/>
            <p:cNvGrpSpPr/>
            <p:nvPr/>
          </p:nvGrpSpPr>
          <p:grpSpPr>
            <a:xfrm>
              <a:off x="4244760" y="3652920"/>
              <a:ext cx="255600" cy="169920"/>
              <a:chOff x="4244760" y="3652920"/>
              <a:chExt cx="255600" cy="169920"/>
            </a:xfrm>
          </p:grpSpPr>
          <p:sp>
            <p:nvSpPr>
              <p:cNvPr id="72" name=""/>
              <p:cNvSpPr/>
              <p:nvPr/>
            </p:nvSpPr>
            <p:spPr>
              <a:xfrm>
                <a:off x="4245120" y="365292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245120" y="365292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4500360" y="365292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4244760" y="365292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4439520" y="371664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8F3-309F-407B-AE47-4B0B696346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ing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lgorithm to implement each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ccount for more than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emory do we h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input operand(s) sor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for each intermediate res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ter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0FD-B575-4A8E-A510-A79DFADDC0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M = 101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419720" y="2590920"/>
            <a:ext cx="255600" cy="169920"/>
            <a:chOff x="4419720" y="2590920"/>
            <a:chExt cx="255600" cy="169920"/>
          </a:xfrm>
        </p:grpSpPr>
        <p:sp>
          <p:nvSpPr>
            <p:cNvPr id="82" name=""/>
            <p:cNvSpPr/>
            <p:nvPr/>
          </p:nvSpPr>
          <p:spPr>
            <a:xfrm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197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6753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81280" y="3276720"/>
            <a:ext cx="255600" cy="169920"/>
            <a:chOff x="3581280" y="3276720"/>
            <a:chExt cx="255600" cy="169920"/>
          </a:xfrm>
        </p:grpSpPr>
        <p:sp>
          <p:nvSpPr>
            <p:cNvPr id="87" name=""/>
            <p:cNvSpPr/>
            <p:nvPr/>
          </p:nvSpPr>
          <p:spPr>
            <a:xfrm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12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8368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175120" y="3962520"/>
            <a:ext cx="14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(w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38520" y="39625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48200" y="32767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809880" y="2819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97180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8960" y="312408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CEB-94C3-4CC7-813C-FF1F1B42BE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ïve evalu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102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103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108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47F-A0C2-4162-BEE6-6A1354CF20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03:09:03Z</dcterms:created>
  <dc:creator>Dan</dc:creator>
  <dc:description/>
  <dc:language>en-US</dc:language>
  <cp:lastModifiedBy>Administrator</cp:lastModifiedBy>
  <dcterms:modified xsi:type="dcterms:W3CDTF">2001-12-07T18:33:34Z</dcterms:modified>
  <cp:revision>19</cp:revision>
  <dc:subject/>
  <dc:title>Lecture 25</dc:title>
</cp:coreProperties>
</file>