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B4B-972C-4826-98C6-7A60CFC5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246-78C0-46AB-830B-B4D7AB5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F1D-B247-42DC-8794-32BC7829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79A-D584-4238-8BE6-651E4BF3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F90-3FD6-4E07-B859-E9F12DF8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D36-9074-4556-A56B-B004509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883-55CC-40B4-A262-17EF9CD4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E9E-3CA0-47DB-B58A-7495D46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81A-3C91-49E2-A954-EE9F7743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567-ADE8-4870-AE1A-AF34519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F4A-D2E8-4708-95F9-C2B2E53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5C9-F41D-446A-A7E7-05DA293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50F-B3B8-4601-9102-C895DDAA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5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481-F63D-4036-BD0B-E9EE1BFCE0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8D9-22AF-4D33-B9FF-A9C159AAFE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458-99EE-486D-BC19-C12832CFD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   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   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    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62920" y="2209320"/>
            <a:ext cx="556920" cy="414000"/>
            <a:chOff x="7162920" y="2209320"/>
            <a:chExt cx="556920" cy="414000"/>
          </a:xfrm>
        </p:grpSpPr>
        <p:grpSp>
          <p:nvGrpSpPr>
            <p:cNvPr id="111" name=""/>
            <p:cNvGrpSpPr/>
            <p:nvPr/>
          </p:nvGrpSpPr>
          <p:grpSpPr>
            <a:xfrm>
              <a:off x="7162920" y="2209320"/>
              <a:ext cx="304560" cy="203760"/>
              <a:chOff x="7162920" y="2209320"/>
              <a:chExt cx="304560" cy="203760"/>
            </a:xfrm>
          </p:grpSpPr>
          <p:sp>
            <p:nvSpPr>
              <p:cNvPr id="112" name=""/>
              <p:cNvSpPr/>
              <p:nvPr/>
            </p:nvSpPr>
            <p:spPr>
              <a:xfrm>
                <a:off x="7162920" y="22096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62920" y="22096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467480" y="22093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162920" y="22096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392960" y="2286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82800" y="3284640"/>
            <a:ext cx="556920" cy="413280"/>
            <a:chOff x="1882800" y="3284640"/>
            <a:chExt cx="556920" cy="413280"/>
          </a:xfrm>
        </p:grpSpPr>
        <p:grpSp>
          <p:nvGrpSpPr>
            <p:cNvPr id="118" name=""/>
            <p:cNvGrpSpPr/>
            <p:nvPr/>
          </p:nvGrpSpPr>
          <p:grpSpPr>
            <a:xfrm>
              <a:off x="1882800" y="3284640"/>
              <a:ext cx="304560" cy="203040"/>
              <a:chOff x="1882800" y="3284640"/>
              <a:chExt cx="304560" cy="203040"/>
            </a:xfrm>
          </p:grpSpPr>
          <p:sp>
            <p:nvSpPr>
              <p:cNvPr id="119" name=""/>
              <p:cNvSpPr/>
              <p:nvPr/>
            </p:nvSpPr>
            <p:spPr>
              <a:xfrm>
                <a:off x="1882800" y="3284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82800" y="3284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187360" y="3284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82800" y="3284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112840" y="3360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03560" y="4346640"/>
            <a:ext cx="556920" cy="413280"/>
            <a:chOff x="3103560" y="4346640"/>
            <a:chExt cx="556920" cy="413280"/>
          </a:xfrm>
        </p:grpSpPr>
        <p:grpSp>
          <p:nvGrpSpPr>
            <p:cNvPr id="125" name=""/>
            <p:cNvGrpSpPr/>
            <p:nvPr/>
          </p:nvGrpSpPr>
          <p:grpSpPr>
            <a:xfrm>
              <a:off x="3103560" y="4346640"/>
              <a:ext cx="304560" cy="203040"/>
              <a:chOff x="3103560" y="4346640"/>
              <a:chExt cx="304560" cy="203040"/>
            </a:xfrm>
          </p:grpSpPr>
          <p:sp>
            <p:nvSpPr>
              <p:cNvPr id="126" name=""/>
              <p:cNvSpPr/>
              <p:nvPr/>
            </p:nvSpPr>
            <p:spPr>
              <a:xfrm>
                <a:off x="3103560" y="4346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03560" y="4346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408120" y="4346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103560" y="4346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333600" y="4422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09880" y="5409720"/>
            <a:ext cx="556920" cy="414000"/>
            <a:chOff x="3809880" y="5409720"/>
            <a:chExt cx="556920" cy="414000"/>
          </a:xfrm>
        </p:grpSpPr>
        <p:grpSp>
          <p:nvGrpSpPr>
            <p:cNvPr id="132" name=""/>
            <p:cNvGrpSpPr/>
            <p:nvPr/>
          </p:nvGrpSpPr>
          <p:grpSpPr>
            <a:xfrm>
              <a:off x="3809880" y="5409720"/>
              <a:ext cx="304560" cy="203760"/>
              <a:chOff x="3809880" y="5409720"/>
              <a:chExt cx="304560" cy="203760"/>
            </a:xfrm>
          </p:grpSpPr>
          <p:sp>
            <p:nvSpPr>
              <p:cNvPr id="133" name=""/>
              <p:cNvSpPr/>
              <p:nvPr/>
            </p:nvSpPr>
            <p:spPr>
              <a:xfrm>
                <a:off x="3809880" y="54100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9880" y="54100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114440" y="54097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809880" y="54100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039920" y="5486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715-B57B-44E6-8BE2-2BD67B2F2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   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6880" y="5299200"/>
            <a:ext cx="556920" cy="413280"/>
            <a:chOff x="1766880" y="5299200"/>
            <a:chExt cx="556920" cy="413280"/>
          </a:xfrm>
        </p:grpSpPr>
        <p:grpSp>
          <p:nvGrpSpPr>
            <p:cNvPr id="141" name=""/>
            <p:cNvGrpSpPr/>
            <p:nvPr/>
          </p:nvGrpSpPr>
          <p:grpSpPr>
            <a:xfrm>
              <a:off x="1766880" y="5299200"/>
              <a:ext cx="304560" cy="203040"/>
              <a:chOff x="1766880" y="5299200"/>
              <a:chExt cx="304560" cy="203040"/>
            </a:xfrm>
          </p:grpSpPr>
          <p:sp>
            <p:nvSpPr>
              <p:cNvPr id="142" name=""/>
              <p:cNvSpPr/>
              <p:nvPr/>
            </p:nvSpPr>
            <p:spPr>
              <a:xfrm>
                <a:off x="1766880" y="529920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66880" y="5299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071440" y="5299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766880" y="529920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996920" y="5375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5ED-880A-4498-B39F-2A6A34D71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S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S/V(S,A) tuples in R    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      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     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08760" y="4048200"/>
            <a:ext cx="519840" cy="401040"/>
            <a:chOff x="6008760" y="4048200"/>
            <a:chExt cx="519840" cy="401040"/>
          </a:xfrm>
        </p:grpSpPr>
        <p:grpSp>
          <p:nvGrpSpPr>
            <p:cNvPr id="150" name=""/>
            <p:cNvGrpSpPr/>
            <p:nvPr/>
          </p:nvGrpSpPr>
          <p:grpSpPr>
            <a:xfrm>
              <a:off x="6008760" y="4048200"/>
              <a:ext cx="254880" cy="169920"/>
              <a:chOff x="6008760" y="4048200"/>
              <a:chExt cx="254880" cy="169920"/>
            </a:xfrm>
          </p:grpSpPr>
          <p:sp>
            <p:nvSpPr>
              <p:cNvPr id="151" name=""/>
              <p:cNvSpPr/>
              <p:nvPr/>
            </p:nvSpPr>
            <p:spPr>
              <a:xfrm>
                <a:off x="6008760" y="404820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8760" y="404820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263640" y="404820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008760" y="404820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201720" y="4111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619360" y="4546080"/>
            <a:ext cx="519840" cy="401400"/>
            <a:chOff x="2619360" y="4546080"/>
            <a:chExt cx="519840" cy="401400"/>
          </a:xfrm>
        </p:grpSpPr>
        <p:grpSp>
          <p:nvGrpSpPr>
            <p:cNvPr id="157" name=""/>
            <p:cNvGrpSpPr/>
            <p:nvPr/>
          </p:nvGrpSpPr>
          <p:grpSpPr>
            <a:xfrm>
              <a:off x="2619360" y="4546080"/>
              <a:ext cx="254880" cy="170640"/>
              <a:chOff x="2619360" y="4546080"/>
              <a:chExt cx="254880" cy="170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619360" y="454644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19360" y="4546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74240" y="45460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619360" y="454644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812320" y="4610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905200" y="5586480"/>
            <a:ext cx="519840" cy="401040"/>
            <a:chOff x="2905200" y="5586480"/>
            <a:chExt cx="519840" cy="401040"/>
          </a:xfrm>
        </p:grpSpPr>
        <p:grpSp>
          <p:nvGrpSpPr>
            <p:cNvPr id="164" name=""/>
            <p:cNvGrpSpPr/>
            <p:nvPr/>
          </p:nvGrpSpPr>
          <p:grpSpPr>
            <a:xfrm>
              <a:off x="2905200" y="5586480"/>
              <a:ext cx="254880" cy="169920"/>
              <a:chOff x="2905200" y="5586480"/>
              <a:chExt cx="254880" cy="169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905200" y="558648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05200" y="55864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60080" y="55864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05200" y="558648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098160" y="5650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C57-5A9B-4599-A719-FC0B4A161E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  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     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797280" y="3984120"/>
            <a:ext cx="519840" cy="401400"/>
            <a:chOff x="3797280" y="3984120"/>
            <a:chExt cx="519840" cy="401400"/>
          </a:xfrm>
        </p:grpSpPr>
        <p:grpSp>
          <p:nvGrpSpPr>
            <p:cNvPr id="173" name=""/>
            <p:cNvGrpSpPr/>
            <p:nvPr/>
          </p:nvGrpSpPr>
          <p:grpSpPr>
            <a:xfrm>
              <a:off x="3797280" y="3984120"/>
              <a:ext cx="254880" cy="170640"/>
              <a:chOff x="3797280" y="3984120"/>
              <a:chExt cx="254880" cy="17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3797280" y="39844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97280" y="39844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052160" y="398412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797280" y="39844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990240" y="4048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71880" y="5159520"/>
            <a:ext cx="519840" cy="401040"/>
            <a:chOff x="3071880" y="5159520"/>
            <a:chExt cx="519840" cy="401040"/>
          </a:xfrm>
        </p:grpSpPr>
        <p:grpSp>
          <p:nvGrpSpPr>
            <p:cNvPr id="180" name=""/>
            <p:cNvGrpSpPr/>
            <p:nvPr/>
          </p:nvGrpSpPr>
          <p:grpSpPr>
            <a:xfrm>
              <a:off x="3071880" y="5159520"/>
              <a:ext cx="254880" cy="169920"/>
              <a:chOff x="3071880" y="5159520"/>
              <a:chExt cx="254880" cy="169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071880" y="515952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71880" y="51595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326760" y="51595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3071880" y="515952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264840" y="5223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B46-8F68-4E43-BA72-560EAB78EF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        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max(V(R,A),V(S,A))max(V(R,B),V(S,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15680" y="2717280"/>
            <a:ext cx="706320" cy="401400"/>
            <a:chOff x="1615680" y="2717280"/>
            <a:chExt cx="706320" cy="401400"/>
          </a:xfrm>
        </p:grpSpPr>
        <p:grpSp>
          <p:nvGrpSpPr>
            <p:cNvPr id="189" name=""/>
            <p:cNvGrpSpPr/>
            <p:nvPr/>
          </p:nvGrpSpPr>
          <p:grpSpPr>
            <a:xfrm>
              <a:off x="1615680" y="2717280"/>
              <a:ext cx="255600" cy="170640"/>
              <a:chOff x="1615680" y="2717280"/>
              <a:chExt cx="255600" cy="170640"/>
            </a:xfrm>
          </p:grpSpPr>
          <p:sp>
            <p:nvSpPr>
              <p:cNvPr id="190" name=""/>
              <p:cNvSpPr/>
              <p:nvPr/>
            </p:nvSpPr>
            <p:spPr>
              <a:xfrm>
                <a:off x="1616040" y="2717640"/>
                <a:ext cx="25524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16040" y="27176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871280" y="27172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615680" y="2717640"/>
                <a:ext cx="25524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809000" y="278136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67A-BC2E-41C7-9EBD-2932497F3B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075-C20E-4935-BA2A-C7E9CFBD32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4C3-BDCE-47BB-AF33-1E4380B8F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        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6205320" y="2835360"/>
            <a:ext cx="893520" cy="401040"/>
            <a:chOff x="6205320" y="2835360"/>
            <a:chExt cx="893520" cy="401040"/>
          </a:xfrm>
        </p:grpSpPr>
        <p:grpSp>
          <p:nvGrpSpPr>
            <p:cNvPr id="205" name=""/>
            <p:cNvGrpSpPr/>
            <p:nvPr/>
          </p:nvGrpSpPr>
          <p:grpSpPr>
            <a:xfrm>
              <a:off x="6205320" y="2835360"/>
              <a:ext cx="255600" cy="169920"/>
              <a:chOff x="6205320" y="2835360"/>
              <a:chExt cx="255600" cy="169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20568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0568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46092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20532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400080" y="28990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BF9-C40D-4C88-852A-DBE27C6AE7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dynamic programming (7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Operations (7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grams (7.5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-query-plan selection (7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500-20C2-47F8-86A0-7F121CCDA2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Employee            Ranks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244760" y="3652920"/>
            <a:ext cx="893520" cy="401040"/>
            <a:chOff x="4244760" y="3652920"/>
            <a:chExt cx="893520" cy="401040"/>
          </a:xfrm>
        </p:grpSpPr>
        <p:grpSp>
          <p:nvGrpSpPr>
            <p:cNvPr id="214" name=""/>
            <p:cNvGrpSpPr/>
            <p:nvPr/>
          </p:nvGrpSpPr>
          <p:grpSpPr>
            <a:xfrm>
              <a:off x="4244760" y="3652920"/>
              <a:ext cx="255600" cy="169920"/>
              <a:chOff x="4244760" y="3652920"/>
              <a:chExt cx="255600" cy="169920"/>
            </a:xfrm>
          </p:grpSpPr>
          <p:sp>
            <p:nvSpPr>
              <p:cNvPr id="215" name=""/>
              <p:cNvSpPr/>
              <p:nvPr/>
            </p:nvSpPr>
            <p:spPr>
              <a:xfrm>
                <a:off x="424512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512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450036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24476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439520" y="3716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1F8-262C-4153-A4AC-21CCA27CED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D83-B4B0-401B-801D-F19C4AE9E3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225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230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777-6220-48D7-B8A7-57E3FB545B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4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4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5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B6E-8703-4410-8FBD-DEDE77B315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i in memory (50 buffer) join with Si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66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67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72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D37-ABF7-43EF-8853-8B82D04552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8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8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9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EF9-DD99-4DF9-BFD1-295D9CF755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08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09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14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847-4A9A-4B3B-84A2-2E7BDDF081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2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E62-E07D-4920-AE47-3DE9E4A3DB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865-D7DA-4A3A-BD7B-FC0719E3BC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    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62320" y="2971800"/>
            <a:ext cx="304560" cy="203040"/>
            <a:chOff x="2362320" y="2971800"/>
            <a:chExt cx="304560" cy="203040"/>
          </a:xfrm>
        </p:grpSpPr>
        <p:sp>
          <p:nvSpPr>
            <p:cNvPr id="48" name=""/>
            <p:cNvSpPr/>
            <p:nvPr/>
          </p:nvSpPr>
          <p:spPr>
            <a:xfrm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66688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3D0-CD51-4207-A236-3AAD2B2C7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   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    R1)     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    R1) + Cost(R7) + size(R2    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     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362320" y="2666520"/>
            <a:ext cx="304560" cy="203760"/>
            <a:chOff x="2362320" y="2666520"/>
            <a:chExt cx="304560" cy="203760"/>
          </a:xfrm>
        </p:grpSpPr>
        <p:sp>
          <p:nvSpPr>
            <p:cNvPr id="55" name=""/>
            <p:cNvSpPr/>
            <p:nvPr/>
          </p:nvSpPr>
          <p:spPr>
            <a:xfrm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66688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514240" y="3200400"/>
            <a:ext cx="305280" cy="203040"/>
            <a:chOff x="2514240" y="3200400"/>
            <a:chExt cx="305280" cy="203040"/>
          </a:xfrm>
        </p:grpSpPr>
        <p:sp>
          <p:nvSpPr>
            <p:cNvPr id="60" name=""/>
            <p:cNvSpPr/>
            <p:nvPr/>
          </p:nvSpPr>
          <p:spPr>
            <a:xfrm>
              <a:off x="25146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46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195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5142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505320" y="3200400"/>
            <a:ext cx="304560" cy="203040"/>
            <a:chOff x="3505320" y="3200400"/>
            <a:chExt cx="304560" cy="203040"/>
          </a:xfrm>
        </p:grpSpPr>
        <p:sp>
          <p:nvSpPr>
            <p:cNvPr id="65" name=""/>
            <p:cNvSpPr/>
            <p:nvPr/>
          </p:nvSpPr>
          <p:spPr>
            <a:xfrm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80988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048120" y="3580920"/>
            <a:ext cx="304560" cy="203760"/>
            <a:chOff x="3048120" y="3580920"/>
            <a:chExt cx="304560" cy="203760"/>
          </a:xfrm>
        </p:grpSpPr>
        <p:sp>
          <p:nvSpPr>
            <p:cNvPr id="70" name=""/>
            <p:cNvSpPr/>
            <p:nvPr/>
          </p:nvSpPr>
          <p:spPr>
            <a:xfrm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3526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162920" y="3580920"/>
            <a:ext cx="304560" cy="203760"/>
            <a:chOff x="7162920" y="3580920"/>
            <a:chExt cx="304560" cy="203760"/>
          </a:xfrm>
        </p:grpSpPr>
        <p:sp>
          <p:nvSpPr>
            <p:cNvPr id="75" name=""/>
            <p:cNvSpPr/>
            <p:nvPr/>
          </p:nvSpPr>
          <p:spPr>
            <a:xfrm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629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674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48120" y="4038120"/>
            <a:ext cx="304560" cy="203760"/>
            <a:chOff x="3048120" y="4038120"/>
            <a:chExt cx="304560" cy="203760"/>
          </a:xfrm>
        </p:grpSpPr>
        <p:sp>
          <p:nvSpPr>
            <p:cNvPr id="80" name=""/>
            <p:cNvSpPr/>
            <p:nvPr/>
          </p:nvSpPr>
          <p:spPr>
            <a:xfrm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8120" y="40384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352680" y="40381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380-0986-4CDF-9F62-90B553244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  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14440" y="3200400"/>
            <a:ext cx="305280" cy="203040"/>
            <a:chOff x="4114440" y="3200400"/>
            <a:chExt cx="305280" cy="203040"/>
          </a:xfrm>
        </p:grpSpPr>
        <p:sp>
          <p:nvSpPr>
            <p:cNvPr id="87" name=""/>
            <p:cNvSpPr/>
            <p:nvPr/>
          </p:nvSpPr>
          <p:spPr>
            <a:xfrm>
              <a:off x="41148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148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197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1144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D66-2D45-4EF7-9B4B-AB110C5F0D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209680" y="152280"/>
          <a:ext cx="4267440" cy="6454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FB0-4D9A-4898-8A6C-6F17274EF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F33-E8AA-48D0-9B79-5245675B34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2DF-90EB-461E-A22B-F0A2D2D4C5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    E2 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172200" y="3352680"/>
            <a:ext cx="348840" cy="392400"/>
            <a:chOff x="6172200" y="3352680"/>
            <a:chExt cx="348840" cy="392400"/>
          </a:xfrm>
        </p:grpSpPr>
        <p:grpSp>
          <p:nvGrpSpPr>
            <p:cNvPr id="98" name=""/>
            <p:cNvGrpSpPr/>
            <p:nvPr/>
          </p:nvGrpSpPr>
          <p:grpSpPr>
            <a:xfrm>
              <a:off x="6172200" y="3352680"/>
              <a:ext cx="220320" cy="147600"/>
              <a:chOff x="6172200" y="3352680"/>
              <a:chExt cx="220320" cy="147600"/>
            </a:xfrm>
          </p:grpSpPr>
          <p:sp>
            <p:nvSpPr>
              <p:cNvPr id="99" name=""/>
              <p:cNvSpPr/>
              <p:nvPr/>
            </p:nvSpPr>
            <p:spPr>
              <a:xfrm>
                <a:off x="6172200" y="3352680"/>
                <a:ext cx="220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72200" y="33526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6392520" y="33526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6172200" y="3352680"/>
                <a:ext cx="220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337440" y="3408120"/>
              <a:ext cx="18360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1B6-9D04-4D36-ADFB-F0C3B45DF5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09:03Z</dcterms:created>
  <dc:creator>Dan</dc:creator>
  <dc:description/>
  <dc:language>en-US</dc:language>
  <cp:lastModifiedBy>Administrator</cp:lastModifiedBy>
  <dcterms:modified xsi:type="dcterms:W3CDTF">2001-12-05T03:26:28Z</dcterms:modified>
  <cp:revision>12</cp:revision>
  <dc:subject/>
  <dc:title>Lecture 25</dc:title>
</cp:coreProperties>
</file>