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B4BB-75B0-4D08-92F6-4E4B9340C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6798-51ED-443D-A2F4-B1B3BE64B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C2AF-2111-4EF1-8996-715598055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118F-CA9D-457E-B842-08E205149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7E7A-9553-4B1A-9EF0-8E1E646AD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65E5-FD3B-4BEC-8C9C-E1F0C02F0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092C-1523-4E48-8382-DFA871318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9F9A-1471-47B8-B9B6-3DF0DC5D1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A245-D88B-403B-B370-2622BF5AE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9EED-D3AF-442B-B22A-D2F1EC71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76A4-D76A-42F8-92FD-AFA65A55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B84D-FFBE-49D9-8CCC-5CA2552B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911AC-CA49-4FBE-AA5D-9AA3ECD2DE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2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, December 3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5397-9B8C-481D-9C84-D43EB793639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shing predicates 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61880" y="4267080"/>
            <a:ext cx="296064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1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x.category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(x.price) AS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produc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x.price &lt;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x.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648320"/>
            <a:ext cx="44708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2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y.name, x.category, x.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product x, company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x.maker=y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45000" y="1981080"/>
            <a:ext cx="514008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V2.name, V2.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V1,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V1.category = V2.category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1.p = V2.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1676520" y="3657600"/>
            <a:ext cx="16761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4280" y="365760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680" y="1413000"/>
            <a:ext cx="90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argain view V1: categories with some price&lt;20, and the cheapest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C711-B812-4EB4-A6F2-2509E6FBD77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Rewrit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shing predicates 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1880" y="4267080"/>
            <a:ext cx="296064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View V1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  x.category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(x.price) AS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   produc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 x.price &lt;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By  x.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67080" y="4648320"/>
            <a:ext cx="44708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View V2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  y.name, x.category, x.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   product x, company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 x.maker=y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751120" y="1981080"/>
            <a:ext cx="52722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  V2.name, V2.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   V1,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  V1.category = V2.category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1.p = V2.pric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D V1.p &lt;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1676520" y="3657600"/>
            <a:ext cx="16761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724280" y="365760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9680" y="1413000"/>
            <a:ext cx="90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argain view V1: categories with some price&lt;20, and the cheapest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E0F0-B221-481D-95DE-13D03026445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Rewrit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shing predicates 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1880" y="4267080"/>
            <a:ext cx="296064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View V1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  x.category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(x.price) AS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   produc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 x.price &lt;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By  x.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648320"/>
            <a:ext cx="447084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View V2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  y.name, x.category, x.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   product x, company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 x.maker=y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D V1.p &lt;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751120" y="1981080"/>
            <a:ext cx="52722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  V2.name, V2.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   V1,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  V1.category = V2.category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1.p = V2.pric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D V1.p &lt;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676520" y="3657600"/>
            <a:ext cx="16761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724280" y="365760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9680" y="1413000"/>
            <a:ext cx="90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argain view V1: categories with some price&lt;20, and the cheapest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A734-FE2E-435C-9880-A4B158E266B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-based Optimiz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t of Optimiz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-project-jo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sh selections down, pull projections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nce: remains to choose the join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the main focus of the cost-based optimiz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0DCF-E7A1-4ED8-A49F-4B8AE94991F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i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1       R2        ….       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 tre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join tree represents a plan. An optimizer needs to inspect many (all ?) join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96000" y="46134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643560" y="46134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91480" y="46134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63080" y="46134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971440" y="3733920"/>
            <a:ext cx="305280" cy="203040"/>
            <a:chOff x="2971440" y="3733920"/>
            <a:chExt cx="305280" cy="203040"/>
          </a:xfrm>
        </p:grpSpPr>
        <p:sp>
          <p:nvSpPr>
            <p:cNvPr id="157" name=""/>
            <p:cNvSpPr/>
            <p:nvPr/>
          </p:nvSpPr>
          <p:spPr>
            <a:xfrm>
              <a:off x="2971800" y="37339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971800" y="37339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276720" y="37339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971440" y="37339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5866920" y="3809520"/>
            <a:ext cx="305280" cy="203760"/>
            <a:chOff x="5866920" y="3809520"/>
            <a:chExt cx="305280" cy="203760"/>
          </a:xfrm>
        </p:grpSpPr>
        <p:sp>
          <p:nvSpPr>
            <p:cNvPr id="162" name=""/>
            <p:cNvSpPr/>
            <p:nvPr/>
          </p:nvSpPr>
          <p:spPr>
            <a:xfrm>
              <a:off x="5867280" y="38098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867280" y="38098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6172200" y="38095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5866920" y="38098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4571640" y="3048120"/>
            <a:ext cx="305280" cy="203040"/>
            <a:chOff x="4571640" y="3048120"/>
            <a:chExt cx="305280" cy="203040"/>
          </a:xfrm>
        </p:grpSpPr>
        <p:sp>
          <p:nvSpPr>
            <p:cNvPr id="167" name=""/>
            <p:cNvSpPr/>
            <p:nvPr/>
          </p:nvSpPr>
          <p:spPr>
            <a:xfrm>
              <a:off x="4572000" y="30481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72000" y="30481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4876920" y="30481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4571640" y="30481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2514600" y="40384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76720" y="4038480"/>
            <a:ext cx="53316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5409720" y="4038480"/>
            <a:ext cx="38124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248520" y="40384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352680" y="3200400"/>
            <a:ext cx="10670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029200" y="3276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676520" y="2133720"/>
            <a:ext cx="304560" cy="203040"/>
            <a:chOff x="1676520" y="2133720"/>
            <a:chExt cx="304560" cy="203040"/>
          </a:xfrm>
        </p:grpSpPr>
        <p:sp>
          <p:nvSpPr>
            <p:cNvPr id="178" name=""/>
            <p:cNvSpPr/>
            <p:nvPr/>
          </p:nvSpPr>
          <p:spPr>
            <a:xfrm>
              <a:off x="1676520" y="213372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6520" y="21337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1981080" y="21337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1676520" y="213372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2666520" y="2133720"/>
            <a:ext cx="305280" cy="203040"/>
            <a:chOff x="2666520" y="2133720"/>
            <a:chExt cx="305280" cy="203040"/>
          </a:xfrm>
        </p:grpSpPr>
        <p:sp>
          <p:nvSpPr>
            <p:cNvPr id="183" name=""/>
            <p:cNvSpPr/>
            <p:nvPr/>
          </p:nvSpPr>
          <p:spPr>
            <a:xfrm>
              <a:off x="2666880" y="21337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666880" y="21337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2971800" y="21337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2666520" y="21337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3885840" y="2133720"/>
            <a:ext cx="305280" cy="203040"/>
            <a:chOff x="3885840" y="2133720"/>
            <a:chExt cx="305280" cy="203040"/>
          </a:xfrm>
        </p:grpSpPr>
        <p:sp>
          <p:nvSpPr>
            <p:cNvPr id="188" name=""/>
            <p:cNvSpPr/>
            <p:nvPr/>
          </p:nvSpPr>
          <p:spPr>
            <a:xfrm>
              <a:off x="3886200" y="21337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886200" y="21337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4191120" y="21337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3885840" y="21337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6DDF-852C-47E6-B6A3-4F6FB7D1B2D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Joi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ft dee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4876920" y="3048120"/>
            <a:ext cx="304560" cy="203040"/>
            <a:chOff x="4876920" y="3048120"/>
            <a:chExt cx="304560" cy="203040"/>
          </a:xfrm>
        </p:grpSpPr>
        <p:sp>
          <p:nvSpPr>
            <p:cNvPr id="195" name=""/>
            <p:cNvSpPr/>
            <p:nvPr/>
          </p:nvSpPr>
          <p:spPr>
            <a:xfrm>
              <a:off x="4876920" y="304812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76920" y="30481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5181480" y="30481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4876920" y="304812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4191120" y="3657600"/>
            <a:ext cx="304560" cy="203040"/>
            <a:chOff x="4191120" y="3657600"/>
            <a:chExt cx="304560" cy="203040"/>
          </a:xfrm>
        </p:grpSpPr>
        <p:sp>
          <p:nvSpPr>
            <p:cNvPr id="200" name=""/>
            <p:cNvSpPr/>
            <p:nvPr/>
          </p:nvSpPr>
          <p:spPr>
            <a:xfrm>
              <a:off x="4191120" y="365760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191120" y="365760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4495680" y="365760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4191120" y="365760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3352320" y="4191120"/>
            <a:ext cx="305280" cy="203040"/>
            <a:chOff x="3352320" y="4191120"/>
            <a:chExt cx="305280" cy="203040"/>
          </a:xfrm>
        </p:grpSpPr>
        <p:sp>
          <p:nvSpPr>
            <p:cNvPr id="205" name=""/>
            <p:cNvSpPr/>
            <p:nvPr/>
          </p:nvSpPr>
          <p:spPr>
            <a:xfrm>
              <a:off x="3352680" y="41911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352680" y="41911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657600" y="41911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3352320" y="41911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2514240" y="4723920"/>
            <a:ext cx="305280" cy="203760"/>
            <a:chOff x="2514240" y="4723920"/>
            <a:chExt cx="305280" cy="203760"/>
          </a:xfrm>
        </p:grpSpPr>
        <p:sp>
          <p:nvSpPr>
            <p:cNvPr id="210" name=""/>
            <p:cNvSpPr/>
            <p:nvPr/>
          </p:nvSpPr>
          <p:spPr>
            <a:xfrm>
              <a:off x="2514600" y="47242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514600" y="47242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2819520" y="47239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2514240" y="47242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1754640" y="54100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973600" y="54864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48480" y="468936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710600" y="40798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700960" y="33940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2133720" y="50292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895480" y="502920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2971440" y="44197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733920" y="441972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3733920" y="388620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38862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71640" y="32767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257800" y="32767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F3EC-B045-4046-85CE-2861D493343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Joi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sh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135520" y="45720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73600" y="556272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031000" y="45720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402600" y="45720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2910960" y="3692520"/>
            <a:ext cx="305280" cy="203040"/>
            <a:chOff x="2910960" y="3692520"/>
            <a:chExt cx="305280" cy="203040"/>
          </a:xfrm>
        </p:grpSpPr>
        <p:sp>
          <p:nvSpPr>
            <p:cNvPr id="234" name=""/>
            <p:cNvSpPr/>
            <p:nvPr/>
          </p:nvSpPr>
          <p:spPr>
            <a:xfrm>
              <a:off x="2911320" y="36925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911320" y="36925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3216240" y="36925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2910960" y="36925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807160" y="3768840"/>
            <a:ext cx="304560" cy="203040"/>
            <a:chOff x="5807160" y="3768840"/>
            <a:chExt cx="304560" cy="203040"/>
          </a:xfrm>
        </p:grpSpPr>
        <p:sp>
          <p:nvSpPr>
            <p:cNvPr id="239" name=""/>
            <p:cNvSpPr/>
            <p:nvPr/>
          </p:nvSpPr>
          <p:spPr>
            <a:xfrm>
              <a:off x="5807160" y="376884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807160" y="376884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6111720" y="376884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5807160" y="376884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4511160" y="3006720"/>
            <a:ext cx="305280" cy="203040"/>
            <a:chOff x="4511160" y="3006720"/>
            <a:chExt cx="305280" cy="203040"/>
          </a:xfrm>
        </p:grpSpPr>
        <p:sp>
          <p:nvSpPr>
            <p:cNvPr id="244" name=""/>
            <p:cNvSpPr/>
            <p:nvPr/>
          </p:nvSpPr>
          <p:spPr>
            <a:xfrm>
              <a:off x="4511520" y="30067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11520" y="30067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4816440" y="30067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4511160" y="30067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 flipH="1">
            <a:off x="2454120" y="39974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216240" y="399744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5349960" y="399744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188040" y="39974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3292200" y="31590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968720" y="32353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3657240" y="4723920"/>
            <a:ext cx="305280" cy="203760"/>
            <a:chOff x="3657240" y="4723920"/>
            <a:chExt cx="305280" cy="203760"/>
          </a:xfrm>
        </p:grpSpPr>
        <p:sp>
          <p:nvSpPr>
            <p:cNvPr id="255" name=""/>
            <p:cNvSpPr/>
            <p:nvPr/>
          </p:nvSpPr>
          <p:spPr>
            <a:xfrm>
              <a:off x="3657600" y="47242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657600" y="47242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3962520" y="47239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3657240" y="47242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4177080" y="55278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3276720" y="502920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62520" y="502920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E768-32EE-4842-8303-73979C26794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Joi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ght dee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3352320" y="2666520"/>
            <a:ext cx="305280" cy="203760"/>
            <a:chOff x="3352320" y="2666520"/>
            <a:chExt cx="305280" cy="203760"/>
          </a:xfrm>
        </p:grpSpPr>
        <p:sp>
          <p:nvSpPr>
            <p:cNvPr id="265" name=""/>
            <p:cNvSpPr/>
            <p:nvPr/>
          </p:nvSpPr>
          <p:spPr>
            <a:xfrm>
              <a:off x="3352680" y="26668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352680" y="26668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3657600" y="26665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3352320" y="26668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4282560" y="3006720"/>
            <a:ext cx="305280" cy="203040"/>
            <a:chOff x="4282560" y="3006720"/>
            <a:chExt cx="305280" cy="203040"/>
          </a:xfrm>
        </p:grpSpPr>
        <p:sp>
          <p:nvSpPr>
            <p:cNvPr id="270" name=""/>
            <p:cNvSpPr/>
            <p:nvPr/>
          </p:nvSpPr>
          <p:spPr>
            <a:xfrm>
              <a:off x="4282920" y="30067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282920" y="30067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4587840" y="30067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4282560" y="30067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5105520" y="3580920"/>
            <a:ext cx="304560" cy="203760"/>
            <a:chOff x="5105520" y="3580920"/>
            <a:chExt cx="304560" cy="203760"/>
          </a:xfrm>
        </p:grpSpPr>
        <p:sp>
          <p:nvSpPr>
            <p:cNvPr id="275" name=""/>
            <p:cNvSpPr/>
            <p:nvPr/>
          </p:nvSpPr>
          <p:spPr>
            <a:xfrm>
              <a:off x="5105520" y="3581280"/>
              <a:ext cx="30456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105520" y="35812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5410080" y="35809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5105520" y="3581280"/>
              <a:ext cx="30456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5866920" y="4266720"/>
            <a:ext cx="305280" cy="203760"/>
            <a:chOff x="5866920" y="4266720"/>
            <a:chExt cx="305280" cy="203760"/>
          </a:xfrm>
        </p:grpSpPr>
        <p:sp>
          <p:nvSpPr>
            <p:cNvPr id="280" name=""/>
            <p:cNvSpPr/>
            <p:nvPr/>
          </p:nvSpPr>
          <p:spPr>
            <a:xfrm>
              <a:off x="5867280" y="42670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867280" y="42670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6172200" y="42667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5866920" y="42670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2440440" y="34290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354840" y="40384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192920" y="441972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259600" y="49528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326640" y="49528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2895120" y="297180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09880" y="2895480"/>
            <a:ext cx="3812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3809880" y="3276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724280" y="32767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4723920" y="388620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486400" y="38862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5562360" y="45720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248520" y="44956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C512-3B2F-4A1A-B6DB-DF3FF12D8CA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: a query  R1     R2      …      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we have a function cost() that gives us the cost of every join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best join tree for the qu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4266720" y="2209320"/>
            <a:ext cx="305280" cy="203760"/>
            <a:chOff x="4266720" y="2209320"/>
            <a:chExt cx="305280" cy="203760"/>
          </a:xfrm>
        </p:grpSpPr>
        <p:sp>
          <p:nvSpPr>
            <p:cNvPr id="300" name=""/>
            <p:cNvSpPr/>
            <p:nvPr/>
          </p:nvSpPr>
          <p:spPr>
            <a:xfrm>
              <a:off x="4267080" y="22096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267080" y="22096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4572000" y="22093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4266720" y="22096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5257440" y="2209320"/>
            <a:ext cx="305280" cy="203760"/>
            <a:chOff x="5257440" y="2209320"/>
            <a:chExt cx="305280" cy="203760"/>
          </a:xfrm>
        </p:grpSpPr>
        <p:sp>
          <p:nvSpPr>
            <p:cNvPr id="305" name=""/>
            <p:cNvSpPr/>
            <p:nvPr/>
          </p:nvSpPr>
          <p:spPr>
            <a:xfrm>
              <a:off x="5257800" y="22096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257800" y="22096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5562720" y="22093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5257440" y="22096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6400440" y="2209320"/>
            <a:ext cx="305280" cy="203760"/>
            <a:chOff x="6400440" y="2209320"/>
            <a:chExt cx="305280" cy="203760"/>
          </a:xfrm>
        </p:grpSpPr>
        <p:sp>
          <p:nvSpPr>
            <p:cNvPr id="310" name=""/>
            <p:cNvSpPr/>
            <p:nvPr/>
          </p:nvSpPr>
          <p:spPr>
            <a:xfrm>
              <a:off x="6400800" y="22096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400800" y="22096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6705720" y="22093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6400440" y="22096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7679-43C9-4ADE-B344-897BBFFB54E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: for each subset of {R1, …, Rn}, compute the best plan for that sub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increasing order of set cardina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: for {R1}, {R2}, …, {Rn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: for {R1,R2}, {R1,R3}, …, {Rn-1, Rn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n: for {R1, …, Rn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ubset of {R1, …, Rn} is also called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qu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1DF9-C4A6-48B2-87AA-7DFC10ED22A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y optim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ebraic la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uristic-based optimiz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oosing an order for Joins (7.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F82D-BC44-48E6-BA79-3BCC4473E21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subquery 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바탕"/>
              </a:rPr>
              <a:t>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R1, …, Rn} compute the follow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(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est plan for Q: Plan(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st of that plan: Cost(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DEB5-3B51-4C37-BDE7-687130ADE3D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ep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For each {Ri} 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({Ri}) = B(R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({Ri}) = 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({Ri}) = (cost of scanning R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0611-6DA1-43C0-AB8B-82165FB2A37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ep 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For each 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바탕"/>
              </a:rPr>
              <a:t>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R1, …, Rn} of cardinality i 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 Size(Q)    (later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very pair of subqueries Q’, Q’’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.t. Q = Q’ U Q’’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 cost(Plan(Q’)       Plan(Q’’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(Q) = the smallest such c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(Q) = the corresponding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4952520" y="4572000"/>
            <a:ext cx="305280" cy="203040"/>
            <a:chOff x="4952520" y="4572000"/>
            <a:chExt cx="305280" cy="203040"/>
          </a:xfrm>
        </p:grpSpPr>
        <p:sp>
          <p:nvSpPr>
            <p:cNvPr id="323" name=""/>
            <p:cNvSpPr/>
            <p:nvPr/>
          </p:nvSpPr>
          <p:spPr>
            <a:xfrm>
              <a:off x="4952880" y="457200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952880" y="457200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5257800" y="457200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4952520" y="457200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DFD6-24A8-4119-ACEA-49DE9559377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 Plan({R1, …, Rn}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ED69-53F2-4EAB-A14A-7A8F802C9E6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illustrate, we will make the following simplif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(P1      P2) = Cost(P1) + Cost(P2) +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size(intermediate result(s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mediate resul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P1 = a join, then the size of the intermediate result is size(P1), otherwise the size is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ly for 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of a scan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2362320" y="2971800"/>
            <a:ext cx="304560" cy="203040"/>
            <a:chOff x="2362320" y="2971800"/>
            <a:chExt cx="304560" cy="203040"/>
          </a:xfrm>
        </p:grpSpPr>
        <p:sp>
          <p:nvSpPr>
            <p:cNvPr id="332" name=""/>
            <p:cNvSpPr/>
            <p:nvPr/>
          </p:nvSpPr>
          <p:spPr>
            <a:xfrm>
              <a:off x="2362320" y="297180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362320" y="297180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2666880" y="297180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2362320" y="297180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1739-5ACD-4875-8E90-DF690A899F4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(R5     R7)  = 0       (no intermediate resul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((R2     R1)      R7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= Cost(R2     R1) + Cost(R7) + size(R2     R1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= size(R2       R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2362320" y="2666520"/>
            <a:ext cx="304560" cy="203760"/>
            <a:chOff x="2362320" y="2666520"/>
            <a:chExt cx="304560" cy="203760"/>
          </a:xfrm>
        </p:grpSpPr>
        <p:sp>
          <p:nvSpPr>
            <p:cNvPr id="339" name=""/>
            <p:cNvSpPr/>
            <p:nvPr/>
          </p:nvSpPr>
          <p:spPr>
            <a:xfrm>
              <a:off x="2362320" y="2666880"/>
              <a:ext cx="30456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362320" y="26668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2666880" y="26665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2362320" y="2666880"/>
              <a:ext cx="30456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2514240" y="3200400"/>
            <a:ext cx="305280" cy="203040"/>
            <a:chOff x="2514240" y="3200400"/>
            <a:chExt cx="305280" cy="203040"/>
          </a:xfrm>
        </p:grpSpPr>
        <p:sp>
          <p:nvSpPr>
            <p:cNvPr id="344" name=""/>
            <p:cNvSpPr/>
            <p:nvPr/>
          </p:nvSpPr>
          <p:spPr>
            <a:xfrm>
              <a:off x="2514600" y="320040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514600" y="320040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2819520" y="320040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2514240" y="320040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3505320" y="3200400"/>
            <a:ext cx="304560" cy="203040"/>
            <a:chOff x="3505320" y="3200400"/>
            <a:chExt cx="304560" cy="203040"/>
          </a:xfrm>
        </p:grpSpPr>
        <p:sp>
          <p:nvSpPr>
            <p:cNvPr id="349" name=""/>
            <p:cNvSpPr/>
            <p:nvPr/>
          </p:nvSpPr>
          <p:spPr>
            <a:xfrm>
              <a:off x="3505320" y="320040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505320" y="320040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809880" y="320040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3505320" y="320040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3048120" y="3580920"/>
            <a:ext cx="304560" cy="203760"/>
            <a:chOff x="3048120" y="3580920"/>
            <a:chExt cx="304560" cy="203760"/>
          </a:xfrm>
        </p:grpSpPr>
        <p:sp>
          <p:nvSpPr>
            <p:cNvPr id="354" name=""/>
            <p:cNvSpPr/>
            <p:nvPr/>
          </p:nvSpPr>
          <p:spPr>
            <a:xfrm>
              <a:off x="3048120" y="3581280"/>
              <a:ext cx="30456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048120" y="35812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3352680" y="35809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3048120" y="3581280"/>
              <a:ext cx="30456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7162920" y="3580920"/>
            <a:ext cx="304560" cy="203760"/>
            <a:chOff x="7162920" y="3580920"/>
            <a:chExt cx="304560" cy="203760"/>
          </a:xfrm>
        </p:grpSpPr>
        <p:sp>
          <p:nvSpPr>
            <p:cNvPr id="359" name=""/>
            <p:cNvSpPr/>
            <p:nvPr/>
          </p:nvSpPr>
          <p:spPr>
            <a:xfrm>
              <a:off x="7162920" y="3581280"/>
              <a:ext cx="30456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162920" y="35812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7467480" y="35809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7162920" y="3581280"/>
              <a:ext cx="30456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3048120" y="4038120"/>
            <a:ext cx="304560" cy="203760"/>
            <a:chOff x="3048120" y="4038120"/>
            <a:chExt cx="304560" cy="203760"/>
          </a:xfrm>
        </p:grpSpPr>
        <p:sp>
          <p:nvSpPr>
            <p:cNvPr id="364" name=""/>
            <p:cNvSpPr/>
            <p:nvPr/>
          </p:nvSpPr>
          <p:spPr>
            <a:xfrm>
              <a:off x="3048120" y="4038480"/>
              <a:ext cx="30456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48120" y="40384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3352680" y="40381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3048120" y="4038480"/>
              <a:ext cx="30456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CBA9-786C-4C23-8C42-9ECA381E3B3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s: R, S, T, 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tuples: 2000, 5000, 3000, 1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 estimation: T(A    B) = 0.01*T(A)*T(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4114440" y="3200400"/>
            <a:ext cx="305280" cy="203040"/>
            <a:chOff x="4114440" y="3200400"/>
            <a:chExt cx="305280" cy="203040"/>
          </a:xfrm>
        </p:grpSpPr>
        <p:sp>
          <p:nvSpPr>
            <p:cNvPr id="371" name=""/>
            <p:cNvSpPr/>
            <p:nvPr/>
          </p:nvSpPr>
          <p:spPr>
            <a:xfrm>
              <a:off x="4114800" y="320040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14800" y="320040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4419720" y="320040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4114440" y="320040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BB27-C66F-4C08-AA5F-C4345D9FC89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5" name=""/>
          <p:cNvGraphicFramePr/>
          <p:nvPr/>
        </p:nvGraphicFramePr>
        <p:xfrm>
          <a:off x="2209680" y="152280"/>
          <a:ext cx="4267440" cy="6454800"/>
        </p:xfrm>
        <a:graphic>
          <a:graphicData uri="http://schemas.openxmlformats.org/drawingml/2006/table">
            <a:tbl>
              <a:tblPr/>
              <a:tblGrid>
                <a:gridCol w="1067040"/>
                <a:gridCol w="1066680"/>
                <a:gridCol w="1066680"/>
                <a:gridCol w="1067040"/>
              </a:tblGrid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que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0366-7B32-49D3-BAAF-C644104012D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ebraic 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tative and Associative La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U S = S U R,  R U (S U T) = (R U S) U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∩ S = S ∩ R,  R ∩ (S ∩ T) = (R ∩ S) ∩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    S = S     R,  R     (S      T) = (R     S)    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ive La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    (S U T)  =  (R    S)  U  (R     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752480" y="3733920"/>
                <a:ext cx="441360" cy="23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2971800" y="3733920"/>
                <a:ext cx="441360" cy="23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4114800" y="3733920"/>
                <a:ext cx="441360" cy="23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4952880" y="3733920"/>
                <a:ext cx="441360" cy="23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6477120" y="3733920"/>
                <a:ext cx="441360" cy="23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7315200" y="3733920"/>
                <a:ext cx="441360" cy="23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1752480" y="4800600"/>
                <a:ext cx="44136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4172040" y="4819680"/>
                <a:ext cx="44136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5867280" y="4800600"/>
                <a:ext cx="44136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7FAD-957A-48DD-89C6-720E5315E1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ebraic 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ws involving sel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AND C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∩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OR C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     S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     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C involves only attributes of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– S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–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U S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∩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2514600" y="3733920"/>
                <a:ext cx="441360" cy="23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4724280" y="3733920"/>
                <a:ext cx="441360" cy="23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D7C7-B45B-4F32-AF4A-233275B0CEE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ebraic 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 R(A, B, C, D), S(E, F, 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=3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     S) =                                    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=5 AND G=9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     S) =                        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668320" y="2743200"/>
            <a:ext cx="517680" cy="459360"/>
            <a:chOff x="2668320" y="2743200"/>
            <a:chExt cx="517680" cy="459360"/>
          </a:xfrm>
        </p:grpSpPr>
        <mc:AlternateContent>
          <mc:Choice xmlns:a14="http://schemas.microsoft.com/office/drawing/2010/main" Requires="a14">
            <p:sp>
              <p:nvSpPr>
                <p:cNvPr id="63" name=""/>
                <p:cNvSpPr txBox="1"/>
                <p:nvPr/>
              </p:nvSpPr>
              <p:spPr>
                <a:xfrm>
                  <a:off x="2743200" y="2743200"/>
                  <a:ext cx="441360" cy="231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&gt;&lt;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4" name=""/>
            <p:cNvSpPr/>
            <p:nvPr/>
          </p:nvSpPr>
          <p:spPr>
            <a:xfrm>
              <a:off x="2668320" y="2895480"/>
              <a:ext cx="51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=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3811320" y="3276720"/>
            <a:ext cx="517680" cy="459360"/>
            <a:chOff x="3811320" y="3276720"/>
            <a:chExt cx="517680" cy="459360"/>
          </a:xfrm>
        </p:grpSpPr>
        <mc:AlternateContent>
          <mc:Choice xmlns:a14="http://schemas.microsoft.com/office/drawing/2010/main" Requires="a14">
            <p:sp>
              <p:nvSpPr>
                <p:cNvPr id="66" name=""/>
                <p:cNvSpPr txBox="1"/>
                <p:nvPr/>
              </p:nvSpPr>
              <p:spPr>
                <a:xfrm>
                  <a:off x="3886200" y="3276720"/>
                  <a:ext cx="441360" cy="231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&gt;&lt;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7" name=""/>
            <p:cNvSpPr/>
            <p:nvPr/>
          </p:nvSpPr>
          <p:spPr>
            <a:xfrm>
              <a:off x="3811320" y="3429000"/>
              <a:ext cx="51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=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26C8-14C5-4878-B6F8-4918A2C045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ebraic 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ws involving proj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    S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N, P, Q are appropriate subsets of attributes of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,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R(A,B,C,D), S(E, F, 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,B,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     S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?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438280" y="2743200"/>
                <a:ext cx="44136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5029200" y="2743200"/>
                <a:ext cx="44136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2895480" y="5105520"/>
                <a:ext cx="441360" cy="23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5638680" y="5181480"/>
                <a:ext cx="44136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820960" y="525780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=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4160" y="541008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=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816C-E860-4F05-AC78-69B695BC9F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uristic Based Optimiz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y rewriting based on algebraic la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 in better queries most of the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uristics number 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sh selections 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uristics number 2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times push selections up, then 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4948-4550-46D6-81D1-E279DAAEBC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dicate Pushdow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20800" y="1917720"/>
            <a:ext cx="1800" cy="173160"/>
          </a:xfrm>
          <a:custGeom>
            <a:avLst/>
            <a:gdLst/>
            <a:ahLst/>
            <a:rect l="l" t="t" r="r" b="b"/>
            <a:pathLst>
              <a:path w="1" h="109">
                <a:moveTo>
                  <a:pt x="0" y="0"/>
                </a:moveTo>
                <a:lnTo>
                  <a:pt x="0" y="10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08280" y="1917720"/>
            <a:ext cx="1440" cy="173160"/>
          </a:xfrm>
          <a:custGeom>
            <a:avLst/>
            <a:gdLst/>
            <a:ahLst/>
            <a:rect l="l" t="t" r="r" b="b"/>
            <a:pathLst>
              <a:path w="1" h="109">
                <a:moveTo>
                  <a:pt x="0" y="0"/>
                </a:moveTo>
                <a:lnTo>
                  <a:pt x="0" y="10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79400" y="1901880"/>
            <a:ext cx="174960" cy="1440"/>
          </a:xfrm>
          <a:custGeom>
            <a:avLst/>
            <a:gdLst/>
            <a:ahLst/>
            <a:rect l="l" t="t" r="r" b="b"/>
            <a:pathLst>
              <a:path w="110" h="1">
                <a:moveTo>
                  <a:pt x="0" y="0"/>
                </a:moveTo>
                <a:lnTo>
                  <a:pt x="109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38160" y="3914640"/>
            <a:ext cx="1800" cy="123840"/>
          </a:xfrm>
          <a:custGeom>
            <a:avLst/>
            <a:gdLst/>
            <a:ahLst/>
            <a:rect l="l" t="t" r="r" b="b"/>
            <a:pathLst>
              <a:path w="1" h="78">
                <a:moveTo>
                  <a:pt x="0" y="0"/>
                </a:moveTo>
                <a:lnTo>
                  <a:pt x="0" y="7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85920" y="3914640"/>
            <a:ext cx="1800" cy="123840"/>
          </a:xfrm>
          <a:custGeom>
            <a:avLst/>
            <a:gdLst/>
            <a:ahLst/>
            <a:rect l="l" t="t" r="r" b="b"/>
            <a:pathLst>
              <a:path w="1" h="78">
                <a:moveTo>
                  <a:pt x="0" y="0"/>
                </a:moveTo>
                <a:lnTo>
                  <a:pt x="0" y="7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38160" y="3914640"/>
            <a:ext cx="349560" cy="123840"/>
          </a:xfrm>
          <a:custGeom>
            <a:avLst/>
            <a:gdLst/>
            <a:ahLst/>
            <a:rect l="l" t="t" r="r" b="b"/>
            <a:pathLst>
              <a:path w="220" h="78">
                <a:moveTo>
                  <a:pt x="0" y="0"/>
                </a:moveTo>
                <a:lnTo>
                  <a:pt x="219" y="7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38160" y="3914640"/>
            <a:ext cx="349560" cy="123840"/>
          </a:xfrm>
          <a:custGeom>
            <a:avLst/>
            <a:gdLst/>
            <a:ahLst/>
            <a:rect l="l" t="t" r="r" b="b"/>
            <a:pathLst>
              <a:path w="220" h="78">
                <a:moveTo>
                  <a:pt x="0" y="77"/>
                </a:moveTo>
                <a:lnTo>
                  <a:pt x="219" y="0"/>
                </a:lnTo>
                <a:lnTo>
                  <a:pt x="0" y="7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43080" y="4425840"/>
            <a:ext cx="669960" cy="357120"/>
          </a:xfrm>
          <a:custGeom>
            <a:avLst/>
            <a:gdLst/>
            <a:ahLst/>
            <a:rect l="l" t="t" r="r" b="b"/>
            <a:pathLst>
              <a:path w="422" h="225">
                <a:moveTo>
                  <a:pt x="0" y="224"/>
                </a:moveTo>
                <a:lnTo>
                  <a:pt x="421" y="0"/>
                </a:lnTo>
                <a:lnTo>
                  <a:pt x="0" y="2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58920" y="4425840"/>
            <a:ext cx="684360" cy="357120"/>
          </a:xfrm>
          <a:custGeom>
            <a:avLst/>
            <a:gdLst/>
            <a:ahLst/>
            <a:rect l="l" t="t" r="r" b="b"/>
            <a:pathLst>
              <a:path w="431" h="225">
                <a:moveTo>
                  <a:pt x="0" y="0"/>
                </a:moveTo>
                <a:lnTo>
                  <a:pt x="430" y="22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014560" y="3201840"/>
            <a:ext cx="1440" cy="560520"/>
          </a:xfrm>
          <a:custGeom>
            <a:avLst/>
            <a:gdLst/>
            <a:ahLst/>
            <a:rect l="l" t="t" r="r" b="b"/>
            <a:pathLst>
              <a:path w="1" h="353">
                <a:moveTo>
                  <a:pt x="0" y="0"/>
                </a:moveTo>
                <a:lnTo>
                  <a:pt x="0" y="35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14560" y="2274840"/>
            <a:ext cx="1440" cy="512640"/>
          </a:xfrm>
          <a:custGeom>
            <a:avLst/>
            <a:gdLst/>
            <a:ahLst/>
            <a:rect l="l" t="t" r="r" b="b"/>
            <a:pathLst>
              <a:path w="1" h="323">
                <a:moveTo>
                  <a:pt x="0" y="0"/>
                </a:moveTo>
                <a:lnTo>
                  <a:pt x="0" y="32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4865760"/>
            <a:ext cx="10033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469600" y="4849920"/>
            <a:ext cx="11725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mpan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56720" y="4124160"/>
            <a:ext cx="1279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ker=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720800" y="2895480"/>
            <a:ext cx="2544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price&gt;100 AND city=“Seattle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73720" y="1986120"/>
            <a:ext cx="758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00480" y="3809880"/>
            <a:ext cx="1839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01840" y="2835360"/>
            <a:ext cx="1843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70160" y="1828800"/>
            <a:ext cx="1843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567400" y="4200480"/>
            <a:ext cx="100080" cy="119160"/>
          </a:xfrm>
          <a:custGeom>
            <a:avLst/>
            <a:gdLst/>
            <a:ahLst/>
            <a:rect l="l" t="t" r="r" b="b"/>
            <a:pathLst>
              <a:path w="63" h="75">
                <a:moveTo>
                  <a:pt x="62" y="37"/>
                </a:moveTo>
                <a:lnTo>
                  <a:pt x="53" y="11"/>
                </a:lnTo>
                <a:lnTo>
                  <a:pt x="31" y="0"/>
                </a:lnTo>
                <a:lnTo>
                  <a:pt x="9" y="11"/>
                </a:lnTo>
                <a:lnTo>
                  <a:pt x="0" y="37"/>
                </a:lnTo>
                <a:lnTo>
                  <a:pt x="9" y="64"/>
                </a:lnTo>
                <a:lnTo>
                  <a:pt x="31" y="74"/>
                </a:lnTo>
                <a:lnTo>
                  <a:pt x="53" y="64"/>
                </a:lnTo>
                <a:lnTo>
                  <a:pt x="62" y="3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16720" y="4210200"/>
            <a:ext cx="87120" cy="1440"/>
          </a:xfrm>
          <a:custGeom>
            <a:avLst/>
            <a:gdLst/>
            <a:ahLst/>
            <a:rect l="l" t="t" r="r" b="b"/>
            <a:pathLst>
              <a:path w="55" h="1">
                <a:moveTo>
                  <a:pt x="0" y="0"/>
                </a:moveTo>
                <a:lnTo>
                  <a:pt x="54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45360" y="2482920"/>
            <a:ext cx="1440" cy="133200"/>
          </a:xfrm>
          <a:custGeom>
            <a:avLst/>
            <a:gdLst/>
            <a:ahLst/>
            <a:rect l="l" t="t" r="r" b="b"/>
            <a:pathLst>
              <a:path w="1" h="84">
                <a:moveTo>
                  <a:pt x="0" y="0"/>
                </a:moveTo>
                <a:lnTo>
                  <a:pt x="0" y="8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419880" y="2482920"/>
            <a:ext cx="1440" cy="133200"/>
          </a:xfrm>
          <a:custGeom>
            <a:avLst/>
            <a:gdLst/>
            <a:ahLst/>
            <a:rect l="l" t="t" r="r" b="b"/>
            <a:pathLst>
              <a:path w="1" h="84">
                <a:moveTo>
                  <a:pt x="0" y="0"/>
                </a:moveTo>
                <a:lnTo>
                  <a:pt x="0" y="8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308640" y="2470320"/>
            <a:ext cx="149400" cy="1440"/>
          </a:xfrm>
          <a:custGeom>
            <a:avLst/>
            <a:gdLst/>
            <a:ahLst/>
            <a:rect l="l" t="t" r="r" b="b"/>
            <a:pathLst>
              <a:path w="94" h="1">
                <a:moveTo>
                  <a:pt x="0" y="0"/>
                </a:moveTo>
                <a:lnTo>
                  <a:pt x="93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69200" y="3400560"/>
            <a:ext cx="1440" cy="98280"/>
          </a:xfrm>
          <a:custGeom>
            <a:avLst/>
            <a:gdLst/>
            <a:ahLst/>
            <a:rect l="l" t="t" r="r" b="b"/>
            <a:pathLst>
              <a:path w="1" h="62">
                <a:moveTo>
                  <a:pt x="0" y="0"/>
                </a:moveTo>
                <a:lnTo>
                  <a:pt x="0" y="6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764400" y="3400560"/>
            <a:ext cx="1440" cy="98280"/>
          </a:xfrm>
          <a:custGeom>
            <a:avLst/>
            <a:gdLst/>
            <a:ahLst/>
            <a:rect l="l" t="t" r="r" b="b"/>
            <a:pathLst>
              <a:path w="1" h="62">
                <a:moveTo>
                  <a:pt x="0" y="0"/>
                </a:moveTo>
                <a:lnTo>
                  <a:pt x="0" y="6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69200" y="3400560"/>
            <a:ext cx="296640" cy="98280"/>
          </a:xfrm>
          <a:custGeom>
            <a:avLst/>
            <a:gdLst/>
            <a:ahLst/>
            <a:rect l="l" t="t" r="r" b="b"/>
            <a:pathLst>
              <a:path w="187" h="62">
                <a:moveTo>
                  <a:pt x="0" y="0"/>
                </a:moveTo>
                <a:lnTo>
                  <a:pt x="186" y="6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469200" y="3400560"/>
            <a:ext cx="296640" cy="98280"/>
          </a:xfrm>
          <a:custGeom>
            <a:avLst/>
            <a:gdLst/>
            <a:ahLst/>
            <a:rect l="l" t="t" r="r" b="b"/>
            <a:pathLst>
              <a:path w="187" h="62">
                <a:moveTo>
                  <a:pt x="0" y="61"/>
                </a:moveTo>
                <a:lnTo>
                  <a:pt x="186" y="0"/>
                </a:lnTo>
                <a:lnTo>
                  <a:pt x="0" y="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61240" y="3794040"/>
            <a:ext cx="569880" cy="274680"/>
          </a:xfrm>
          <a:custGeom>
            <a:avLst/>
            <a:gdLst/>
            <a:ahLst/>
            <a:rect l="l" t="t" r="r" b="b"/>
            <a:pathLst>
              <a:path w="359" h="173">
                <a:moveTo>
                  <a:pt x="0" y="172"/>
                </a:moveTo>
                <a:lnTo>
                  <a:pt x="358" y="0"/>
                </a:lnTo>
                <a:lnTo>
                  <a:pt x="0" y="17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38840" y="3794040"/>
            <a:ext cx="581040" cy="274680"/>
          </a:xfrm>
          <a:custGeom>
            <a:avLst/>
            <a:gdLst/>
            <a:ahLst/>
            <a:rect l="l" t="t" r="r" b="b"/>
            <a:pathLst>
              <a:path w="366" h="173">
                <a:moveTo>
                  <a:pt x="0" y="0"/>
                </a:moveTo>
                <a:lnTo>
                  <a:pt x="365" y="17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367760" y="4425840"/>
            <a:ext cx="1440" cy="432000"/>
          </a:xfrm>
          <a:custGeom>
            <a:avLst/>
            <a:gdLst/>
            <a:ahLst/>
            <a:rect l="l" t="t" r="r" b="b"/>
            <a:pathLst>
              <a:path w="1" h="272">
                <a:moveTo>
                  <a:pt x="0" y="0"/>
                </a:moveTo>
                <a:lnTo>
                  <a:pt x="0" y="27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603840" y="2854440"/>
            <a:ext cx="1800" cy="392040"/>
          </a:xfrm>
          <a:custGeom>
            <a:avLst/>
            <a:gdLst/>
            <a:ahLst/>
            <a:rect l="l" t="t" r="r" b="b"/>
            <a:pathLst>
              <a:path w="1" h="247">
                <a:moveTo>
                  <a:pt x="0" y="0"/>
                </a:moveTo>
                <a:lnTo>
                  <a:pt x="0" y="24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86520" y="4175280"/>
            <a:ext cx="100080" cy="122040"/>
          </a:xfrm>
          <a:custGeom>
            <a:avLst/>
            <a:gdLst/>
            <a:ahLst/>
            <a:rect l="l" t="t" r="r" b="b"/>
            <a:pathLst>
              <a:path w="63" h="77">
                <a:moveTo>
                  <a:pt x="62" y="38"/>
                </a:moveTo>
                <a:lnTo>
                  <a:pt x="53" y="11"/>
                </a:lnTo>
                <a:lnTo>
                  <a:pt x="31" y="0"/>
                </a:lnTo>
                <a:lnTo>
                  <a:pt x="9" y="11"/>
                </a:lnTo>
                <a:lnTo>
                  <a:pt x="0" y="38"/>
                </a:lnTo>
                <a:lnTo>
                  <a:pt x="9" y="65"/>
                </a:lnTo>
                <a:lnTo>
                  <a:pt x="31" y="76"/>
                </a:lnTo>
                <a:lnTo>
                  <a:pt x="53" y="65"/>
                </a:lnTo>
                <a:lnTo>
                  <a:pt x="62" y="3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35840" y="4186080"/>
            <a:ext cx="87120" cy="1800"/>
          </a:xfrm>
          <a:custGeom>
            <a:avLst/>
            <a:gdLst/>
            <a:ahLst/>
            <a:rect l="l" t="t" r="r" b="b"/>
            <a:pathLst>
              <a:path w="55" h="1">
                <a:moveTo>
                  <a:pt x="0" y="0"/>
                </a:moveTo>
                <a:lnTo>
                  <a:pt x="54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924520" y="4437000"/>
            <a:ext cx="1440" cy="430200"/>
          </a:xfrm>
          <a:custGeom>
            <a:avLst/>
            <a:gdLst/>
            <a:ahLst/>
            <a:rect l="l" t="t" r="r" b="b"/>
            <a:pathLst>
              <a:path w="1" h="271">
                <a:moveTo>
                  <a:pt x="0" y="0"/>
                </a:moveTo>
                <a:lnTo>
                  <a:pt x="0" y="27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83520" y="4818240"/>
            <a:ext cx="10033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40160" y="4830840"/>
            <a:ext cx="11725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mpan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297120" y="3546360"/>
            <a:ext cx="1279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ker=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628960" y="4224240"/>
            <a:ext cx="1062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ce&gt;10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374160" y="2519280"/>
            <a:ext cx="758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16680" y="2362320"/>
            <a:ext cx="1843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22880" y="4200480"/>
            <a:ext cx="1361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ty=“Seattl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2240" y="3305160"/>
            <a:ext cx="1839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1240" y="5222880"/>
            <a:ext cx="868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 earlier we process selections, less tuples we need to manipu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igher up in the tree (but may cause us to loose an important ord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f the tuples, if we use index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B79C-2F56-40A9-A1E9-E76726C55B3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dicate Pushdow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2200" y="2133720"/>
            <a:ext cx="380772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y.name, Max(x.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product x, company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x.maker = y.nam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y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x(x.price)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956480" y="2286000"/>
            <a:ext cx="380772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.name, Max(x.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product x, company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x.maker=y.name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.price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y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x(x.price)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0520" y="4765680"/>
            <a:ext cx="8490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For each company, find the maximal price of its produ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antage: the size of the join will be small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ransformation rules specific to the grouping/aggre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on’t work if we replace Max by M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4280-E32E-4A4A-8471-F1D4B33B40C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8T03:09:03Z</dcterms:created>
  <dc:creator>Dan</dc:creator>
  <dc:description/>
  <dc:language>en-US</dc:language>
  <cp:lastModifiedBy>Administrator</cp:lastModifiedBy>
  <dcterms:modified xsi:type="dcterms:W3CDTF">2001-12-03T19:13:48Z</dcterms:modified>
  <cp:revision>8</cp:revision>
  <dc:subject/>
  <dc:title>Lecture 25</dc:title>
</cp:coreProperties>
</file>