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14B7-E2B6-4537-BD20-F9C69EB4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7B9-FD9A-4553-9313-056211C1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348-60AE-49F2-B356-FEBB0C21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82C-E948-40D6-BED1-F33A60B2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0B3D-B093-4081-BEA1-BC21A7D9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E97-DC4E-4520-8769-F0B4634B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4CAD-FE49-4C1C-AC70-354B2F76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BB08-EFD7-4562-936E-9DE02BB2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0CE4-89A3-46DC-B263-39713F6F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7B42-876A-4B7C-901A-2E711278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7C9-0F22-4A58-BF6A-320CA235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E2E6-3F94-4638-8671-867CD4AF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3348-EA10-438E-B1D3-4216488DF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November 30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5BA1-D634-4FAA-9159-5A8E41FB3D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-based selection:      T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-based join:                      x T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 scan and selection on Company:  B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    sorted 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rge-join with Product: + B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 1 costs 250 x 5 = 1250, Plan 3 costs 1,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 1 is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7760" y="2003400"/>
            <a:ext cx="6675120" cy="103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ity) x T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mak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2.5 x 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39760" y="4343400"/>
            <a:ext cx="4048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=  1,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B4D-93BD-40D7-8B28-CE72EEEE17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convert SQL to Logic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ebraic la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ation for every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approaches to optimiz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s: apply laws tha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sult in cheaper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based: estimate size and cost of intermediate results, search systematically for best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891-267C-4C7C-8782-97C71C8C81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from SQL to Logical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562720" y="2971800"/>
                <a:ext cx="2286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536040" y="2133720"/>
            <a:ext cx="293148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1, …,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1, …, 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70520" y="2819520"/>
            <a:ext cx="3472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1      R2       …     Rk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13440" y="4952880"/>
            <a:ext cx="544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1, …, bm, ag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1      R2       …     Rk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4114800"/>
            <a:ext cx="337680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1, …,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1, …, 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b1, …, b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172200" y="2971800"/>
                <a:ext cx="2286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781680" y="2971800"/>
                <a:ext cx="2286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400800" y="5105520"/>
                <a:ext cx="2286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010280" y="5095800"/>
                <a:ext cx="22860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634160" y="5081760"/>
                <a:ext cx="2286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006-DC3F-40D1-9D5A-CFB51D66B4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406000" cy="22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.maker in (Select company.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company.city=“Seattl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4160" y="4648320"/>
            <a:ext cx="6444720" cy="14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,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maker = company.nam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.city=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ADD-D92B-4981-A9D1-43CB97604B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70720" cy="30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color= “blu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x.price &gt;= ALL 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roduct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maker = y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y.color=“blu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0080" y="5943600"/>
            <a:ext cx="56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convert this one to logical pl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A3C-4E31-4CCB-9D10-36A68CDD4F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590920"/>
            <a:ext cx="6430680" cy="26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color= “bl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x.price &lt; SOME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maker = y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.color=“blu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676520"/>
            <a:ext cx="53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compute the complement fir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17A-6228-45AE-B9A4-333052524C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069040" cy="25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 x, product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.color= “blue” AND x.maker = y.ma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y.color=“blue”  AND x.price &lt; y.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0560" y="1828800"/>
            <a:ext cx="48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one becomes a SFW qu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5257800"/>
            <a:ext cx="8076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returns exactly the products we DON’T want, s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9859-38D7-4EAE-8B2D-212CDA8214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164360" cy="43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color = “blu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x, product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color= “blue” AND x.maker = y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y.color=“blue”  AND x.price &lt; y.pri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E5E4-CE5D-4456-A6EC-B105D09B1E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tative and Associa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U S = S U R,  R U (S U T) = (R U S) U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S = S ∩ R,  R ∩ (S ∩ T) = (R ∩ S) ∩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    S = S     R,  R     (S      T) = (R     S)    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    (S U T)  =  (R    S)  U  (R    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75248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97180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11480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95288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47712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31520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752480" y="480060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172040" y="481968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867280" y="480060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3CE-FD7F-4E6C-8E59-D821B6E1BB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AND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OR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    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    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 involves only attributes of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–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U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51460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72428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8A98-649D-40C0-8215-07662B453A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pass algorithms based on indexes (6.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QL to logical plans (7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ebraic laws (7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ing an order for Joins (7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FA2D-41B1-42BB-9AA7-0230AE0BDD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R(A, B, C, 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=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     S) =            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5 AND G=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     S) =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668320" y="2743200"/>
            <a:ext cx="517680" cy="459360"/>
            <a:chOff x="2668320" y="2743200"/>
            <a:chExt cx="517680" cy="459360"/>
          </a:xfrm>
        </p:grpSpPr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2743200" y="2743200"/>
                  <a:ext cx="441360" cy="2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&gt;&lt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9" name=""/>
            <p:cNvSpPr/>
            <p:nvPr/>
          </p:nvSpPr>
          <p:spPr>
            <a:xfrm>
              <a:off x="2668320" y="289548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=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1320" y="3276720"/>
            <a:ext cx="517680" cy="459360"/>
            <a:chOff x="3811320" y="3276720"/>
            <a:chExt cx="517680" cy="459360"/>
          </a:xfrm>
        </p:grpSpPr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3886200" y="3276720"/>
                  <a:ext cx="441360" cy="2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&gt;&lt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2" name=""/>
            <p:cNvSpPr/>
            <p:nvPr/>
          </p:nvSpPr>
          <p:spPr>
            <a:xfrm>
              <a:off x="3811320" y="34290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=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20D-0A78-4BDD-9581-2B3FA9B8A4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   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N, P, Q are appropriate subsets of attributes of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R(A,B,C,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B,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    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?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438280" y="274320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029200" y="274320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95480" y="51055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638680" y="518148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2820960" y="525780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=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4160" y="541008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=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C11B-A81B-4F49-9847-E6035DF519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uristic 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rewriting based on algebraic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n better queries most of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s number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 selections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s number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push selections up, then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BAA-8924-4FB8-85E8-89BF754A08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ate Push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20800" y="191772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08280" y="191772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79400" y="1901880"/>
            <a:ext cx="17496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38160" y="3914640"/>
            <a:ext cx="180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85920" y="3914640"/>
            <a:ext cx="180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38160" y="3914640"/>
            <a:ext cx="34956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38160" y="3914640"/>
            <a:ext cx="34956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43080" y="442584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58920" y="4425840"/>
            <a:ext cx="68436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14560" y="3201840"/>
            <a:ext cx="144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14560" y="227484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4865760"/>
            <a:ext cx="1003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69600" y="4849920"/>
            <a:ext cx="1172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56720" y="4124160"/>
            <a:ext cx="1279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k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20800" y="2895480"/>
            <a:ext cx="2544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rice&gt;100 AND city=“Seatt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73720" y="198612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00480" y="3809880"/>
            <a:ext cx="183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1840" y="283536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70160" y="182880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7400" y="4200480"/>
            <a:ext cx="100080" cy="119160"/>
          </a:xfrm>
          <a:custGeom>
            <a:avLst/>
            <a:gdLst/>
            <a:ahLst/>
            <a:rect l="l" t="t" r="r" b="b"/>
            <a:pathLst>
              <a:path w="63" h="75">
                <a:moveTo>
                  <a:pt x="62" y="37"/>
                </a:moveTo>
                <a:lnTo>
                  <a:pt x="53" y="11"/>
                </a:lnTo>
                <a:lnTo>
                  <a:pt x="31" y="0"/>
                </a:lnTo>
                <a:lnTo>
                  <a:pt x="9" y="11"/>
                </a:lnTo>
                <a:lnTo>
                  <a:pt x="0" y="37"/>
                </a:lnTo>
                <a:lnTo>
                  <a:pt x="9" y="64"/>
                </a:lnTo>
                <a:lnTo>
                  <a:pt x="31" y="74"/>
                </a:lnTo>
                <a:lnTo>
                  <a:pt x="53" y="64"/>
                </a:lnTo>
                <a:lnTo>
                  <a:pt x="62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16720" y="4210200"/>
            <a:ext cx="87120" cy="1440"/>
          </a:xfrm>
          <a:custGeom>
            <a:avLst/>
            <a:gdLst/>
            <a:ahLst/>
            <a:rect l="l" t="t" r="r" b="b"/>
            <a:pathLst>
              <a:path w="55" h="1">
                <a:moveTo>
                  <a:pt x="0" y="0"/>
                </a:moveTo>
                <a:lnTo>
                  <a:pt x="54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45360" y="2482920"/>
            <a:ext cx="1440" cy="133200"/>
          </a:xfrm>
          <a:custGeom>
            <a:avLst/>
            <a:gdLst/>
            <a:ahLst/>
            <a:rect l="l" t="t" r="r" b="b"/>
            <a:pathLst>
              <a:path w="1" h="84">
                <a:moveTo>
                  <a:pt x="0" y="0"/>
                </a:moveTo>
                <a:lnTo>
                  <a:pt x="0" y="8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19880" y="2482920"/>
            <a:ext cx="1440" cy="133200"/>
          </a:xfrm>
          <a:custGeom>
            <a:avLst/>
            <a:gdLst/>
            <a:ahLst/>
            <a:rect l="l" t="t" r="r" b="b"/>
            <a:pathLst>
              <a:path w="1" h="84">
                <a:moveTo>
                  <a:pt x="0" y="0"/>
                </a:moveTo>
                <a:lnTo>
                  <a:pt x="0" y="8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08640" y="2470320"/>
            <a:ext cx="149400" cy="1440"/>
          </a:xfrm>
          <a:custGeom>
            <a:avLst/>
            <a:gdLst/>
            <a:ahLst/>
            <a:rect l="l" t="t" r="r" b="b"/>
            <a:pathLst>
              <a:path w="94" h="1">
                <a:moveTo>
                  <a:pt x="0" y="0"/>
                </a:moveTo>
                <a:lnTo>
                  <a:pt x="93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69200" y="3400560"/>
            <a:ext cx="1440" cy="98280"/>
          </a:xfrm>
          <a:custGeom>
            <a:avLst/>
            <a:gdLst/>
            <a:ahLst/>
            <a:rect l="l" t="t" r="r" b="b"/>
            <a:pathLst>
              <a:path w="1" h="62">
                <a:moveTo>
                  <a:pt x="0" y="0"/>
                </a:move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64400" y="3400560"/>
            <a:ext cx="1440" cy="98280"/>
          </a:xfrm>
          <a:custGeom>
            <a:avLst/>
            <a:gdLst/>
            <a:ahLst/>
            <a:rect l="l" t="t" r="r" b="b"/>
            <a:pathLst>
              <a:path w="1" h="62">
                <a:moveTo>
                  <a:pt x="0" y="0"/>
                </a:move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69200" y="3400560"/>
            <a:ext cx="296640" cy="98280"/>
          </a:xfrm>
          <a:custGeom>
            <a:avLst/>
            <a:gdLst/>
            <a:ahLst/>
            <a:rect l="l" t="t" r="r" b="b"/>
            <a:pathLst>
              <a:path w="187" h="62">
                <a:moveTo>
                  <a:pt x="0" y="0"/>
                </a:moveTo>
                <a:lnTo>
                  <a:pt x="186" y="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69200" y="3400560"/>
            <a:ext cx="296640" cy="98280"/>
          </a:xfrm>
          <a:custGeom>
            <a:avLst/>
            <a:gdLst/>
            <a:ahLst/>
            <a:rect l="l" t="t" r="r" b="b"/>
            <a:pathLst>
              <a:path w="187" h="62">
                <a:moveTo>
                  <a:pt x="0" y="61"/>
                </a:moveTo>
                <a:lnTo>
                  <a:pt x="186" y="0"/>
                </a:lnTo>
                <a:lnTo>
                  <a:pt x="0" y="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61240" y="3794040"/>
            <a:ext cx="569880" cy="274680"/>
          </a:xfrm>
          <a:custGeom>
            <a:avLst/>
            <a:gdLst/>
            <a:ahLst/>
            <a:rect l="l" t="t" r="r" b="b"/>
            <a:pathLst>
              <a:path w="359" h="173">
                <a:moveTo>
                  <a:pt x="0" y="172"/>
                </a:moveTo>
                <a:lnTo>
                  <a:pt x="358" y="0"/>
                </a:lnTo>
                <a:lnTo>
                  <a:pt x="0" y="17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38840" y="3794040"/>
            <a:ext cx="581040" cy="274680"/>
          </a:xfrm>
          <a:custGeom>
            <a:avLst/>
            <a:gdLst/>
            <a:ahLst/>
            <a:rect l="l" t="t" r="r" b="b"/>
            <a:pathLst>
              <a:path w="366" h="173">
                <a:moveTo>
                  <a:pt x="0" y="0"/>
                </a:moveTo>
                <a:lnTo>
                  <a:pt x="365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67760" y="4425840"/>
            <a:ext cx="1440" cy="432000"/>
          </a:xfrm>
          <a:custGeom>
            <a:avLst/>
            <a:gdLst/>
            <a:ahLst/>
            <a:rect l="l" t="t" r="r" b="b"/>
            <a:pathLst>
              <a:path w="1" h="272">
                <a:moveTo>
                  <a:pt x="0" y="0"/>
                </a:moveTo>
                <a:lnTo>
                  <a:pt x="0" y="27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03840" y="2854440"/>
            <a:ext cx="1800" cy="392040"/>
          </a:xfrm>
          <a:custGeom>
            <a:avLst/>
            <a:gdLst/>
            <a:ahLst/>
            <a:rect l="l" t="t" r="r" b="b"/>
            <a:pathLst>
              <a:path w="1" h="247">
                <a:moveTo>
                  <a:pt x="0" y="0"/>
                </a:moveTo>
                <a:lnTo>
                  <a:pt x="0" y="2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86520" y="4175280"/>
            <a:ext cx="100080" cy="122040"/>
          </a:xfrm>
          <a:custGeom>
            <a:avLst/>
            <a:gdLst/>
            <a:ahLst/>
            <a:rect l="l" t="t" r="r" b="b"/>
            <a:pathLst>
              <a:path w="63" h="77">
                <a:moveTo>
                  <a:pt x="62" y="38"/>
                </a:moveTo>
                <a:lnTo>
                  <a:pt x="53" y="11"/>
                </a:lnTo>
                <a:lnTo>
                  <a:pt x="31" y="0"/>
                </a:lnTo>
                <a:lnTo>
                  <a:pt x="9" y="11"/>
                </a:lnTo>
                <a:lnTo>
                  <a:pt x="0" y="38"/>
                </a:lnTo>
                <a:lnTo>
                  <a:pt x="9" y="65"/>
                </a:lnTo>
                <a:lnTo>
                  <a:pt x="31" y="76"/>
                </a:lnTo>
                <a:lnTo>
                  <a:pt x="53" y="65"/>
                </a:lnTo>
                <a:lnTo>
                  <a:pt x="62" y="3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35840" y="4186080"/>
            <a:ext cx="87120" cy="1800"/>
          </a:xfrm>
          <a:custGeom>
            <a:avLst/>
            <a:gdLst/>
            <a:ahLst/>
            <a:rect l="l" t="t" r="r" b="b"/>
            <a:pathLst>
              <a:path w="55" h="1">
                <a:moveTo>
                  <a:pt x="0" y="0"/>
                </a:moveTo>
                <a:lnTo>
                  <a:pt x="54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24520" y="4437000"/>
            <a:ext cx="1440" cy="430200"/>
          </a:xfrm>
          <a:custGeom>
            <a:avLst/>
            <a:gdLst/>
            <a:ahLst/>
            <a:rect l="l" t="t" r="r" b="b"/>
            <a:pathLst>
              <a:path w="1" h="271">
                <a:moveTo>
                  <a:pt x="0" y="0"/>
                </a:moveTo>
                <a:lnTo>
                  <a:pt x="0" y="27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3520" y="4818240"/>
            <a:ext cx="1003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40160" y="4830840"/>
            <a:ext cx="1172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97120" y="3546360"/>
            <a:ext cx="1279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k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28960" y="4224240"/>
            <a:ext cx="1062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ce&gt;1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74160" y="251928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16680" y="236232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22880" y="4200480"/>
            <a:ext cx="1361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“Seattl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42240" y="3305160"/>
            <a:ext cx="183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1240" y="5222880"/>
            <a:ext cx="868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earlier we process selections, less tuples we need to manip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igher up in the tree (but may cause us to loose an important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f the tuples, if we use index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6EA-9EDE-4691-9519-EE28A332D4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ate Push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2200" y="2133720"/>
            <a:ext cx="38077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.name, Max(x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oduct x, company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maker = y.nam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x(x.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6480" y="2286000"/>
            <a:ext cx="3807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name, Max(x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oduct x, company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maker=y.name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.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x(x.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0520" y="4765680"/>
            <a:ext cx="849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or each company, find the maximal price of its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: the size of the join will be smal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ransformation rules specific to the grouping/ag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n’t work if we replace Max by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8EB-4B88-4A4E-81A1-AA7705FFD71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ing predicates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1880" y="4267080"/>
            <a:ext cx="2960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1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x.catego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(x.price) A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pric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7080" y="4648320"/>
            <a:ext cx="44708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2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.name, x.category, x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oduct x, company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maker=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5000" y="1981080"/>
            <a:ext cx="5140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V2.name, V2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V1,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V1.category = V2.category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p = V2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76520" y="36576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2428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680" y="1413000"/>
            <a:ext cx="90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argain view V1: categories with some price&lt;20, and the cheapest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DEE-4342-4AA1-B08A-AC80043476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ing predicates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1880" y="4267080"/>
            <a:ext cx="2960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1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x.catego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(x.price) A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x.pric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  x.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67080" y="4648320"/>
            <a:ext cx="44708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2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y.name, x.category, x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 x, company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x.maker=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51120" y="1981080"/>
            <a:ext cx="527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V2.name, V2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V1,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V1.category = V2.category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p = V2.pric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V1.p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676520" y="36576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2428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680" y="1413000"/>
            <a:ext cx="90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argain view V1: categories with some price&lt;20, and the cheapest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6751-0DFA-45C5-814D-02F98393204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ing predicates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1880" y="4267080"/>
            <a:ext cx="2960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1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x.catego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(x.price) A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x.pric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  x.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67080" y="4648320"/>
            <a:ext cx="447084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2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y.name, x.category, x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 x, company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x.maker=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V1.p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51120" y="1981080"/>
            <a:ext cx="527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V2.name, V2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V1,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V1.category = V2.category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p = V2.pric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V1.p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676520" y="36576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680" y="1413000"/>
            <a:ext cx="90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argain view V1: categories with some price&lt;20, and the cheapest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ED6-F63E-4985-A7AA-5E476419A7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 of Optimiz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-project-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 selections down, pull projections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remains to choose the join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main focus of the cost-based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B282-C2F2-4AA3-964C-EBFFF71BC17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       R2        ….       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join tree represents a plan. An optimizer needs to inspect many (all ?) join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9600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4356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14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630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971440" y="3733920"/>
            <a:ext cx="305280" cy="203040"/>
            <a:chOff x="2971440" y="3733920"/>
            <a:chExt cx="305280" cy="203040"/>
          </a:xfrm>
        </p:grpSpPr>
        <p:sp>
          <p:nvSpPr>
            <p:cNvPr id="222" name=""/>
            <p:cNvSpPr/>
            <p:nvPr/>
          </p:nvSpPr>
          <p:spPr>
            <a:xfrm>
              <a:off x="297180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7180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27672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97144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866920" y="3809520"/>
            <a:ext cx="305280" cy="203760"/>
            <a:chOff x="5866920" y="3809520"/>
            <a:chExt cx="305280" cy="203760"/>
          </a:xfrm>
        </p:grpSpPr>
        <p:sp>
          <p:nvSpPr>
            <p:cNvPr id="227" name=""/>
            <p:cNvSpPr/>
            <p:nvPr/>
          </p:nvSpPr>
          <p:spPr>
            <a:xfrm>
              <a:off x="586728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67280" y="3809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6172200" y="3809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86692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571640" y="3048120"/>
            <a:ext cx="305280" cy="203040"/>
            <a:chOff x="4571640" y="3048120"/>
            <a:chExt cx="305280" cy="203040"/>
          </a:xfrm>
        </p:grpSpPr>
        <p:sp>
          <p:nvSpPr>
            <p:cNvPr id="232" name=""/>
            <p:cNvSpPr/>
            <p:nvPr/>
          </p:nvSpPr>
          <p:spPr>
            <a:xfrm>
              <a:off x="457200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57164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 flipH="1">
            <a:off x="251460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4038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409720" y="40384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352680" y="32004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29200" y="3276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676520" y="2133720"/>
            <a:ext cx="304560" cy="203040"/>
            <a:chOff x="1676520" y="2133720"/>
            <a:chExt cx="304560" cy="203040"/>
          </a:xfrm>
        </p:grpSpPr>
        <p:sp>
          <p:nvSpPr>
            <p:cNvPr id="243" name=""/>
            <p:cNvSpPr/>
            <p:nvPr/>
          </p:nvSpPr>
          <p:spPr>
            <a:xfrm>
              <a:off x="1676520" y="21337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7652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198108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1676520" y="21337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666520" y="2133720"/>
            <a:ext cx="305280" cy="203040"/>
            <a:chOff x="2666520" y="2133720"/>
            <a:chExt cx="305280" cy="203040"/>
          </a:xfrm>
        </p:grpSpPr>
        <p:sp>
          <p:nvSpPr>
            <p:cNvPr id="248" name=""/>
            <p:cNvSpPr/>
            <p:nvPr/>
          </p:nvSpPr>
          <p:spPr>
            <a:xfrm>
              <a:off x="2666880" y="2133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6688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97180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2666520" y="2133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885840" y="2133720"/>
            <a:ext cx="305280" cy="203040"/>
            <a:chOff x="3885840" y="2133720"/>
            <a:chExt cx="305280" cy="203040"/>
          </a:xfrm>
        </p:grpSpPr>
        <p:sp>
          <p:nvSpPr>
            <p:cNvPr id="253" name=""/>
            <p:cNvSpPr/>
            <p:nvPr/>
          </p:nvSpPr>
          <p:spPr>
            <a:xfrm>
              <a:off x="3886200" y="2133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8620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19112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885840" y="2133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A7B-E1D6-4F6C-B552-9CA73FDC2E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d 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in a clustered index all tuples with the same value of the key are clustered on as few blocks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book uses another term: “clustering index”.  Difference is min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139120" y="3965760"/>
            <a:ext cx="4113000" cy="459720"/>
            <a:chOff x="2139120" y="3965760"/>
            <a:chExt cx="4113000" cy="459720"/>
          </a:xfrm>
        </p:grpSpPr>
        <p:sp>
          <p:nvSpPr>
            <p:cNvPr id="48" name=""/>
            <p:cNvSpPr/>
            <p:nvPr/>
          </p:nvSpPr>
          <p:spPr>
            <a:xfrm>
              <a:off x="2139120" y="3965760"/>
              <a:ext cx="1121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43200" y="3965760"/>
              <a:ext cx="116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90480" y="3965760"/>
              <a:ext cx="10616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8BA3-F265-4453-BB75-FB5B4AADE0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876920" y="3048120"/>
            <a:ext cx="304560" cy="203040"/>
            <a:chOff x="4876920" y="3048120"/>
            <a:chExt cx="304560" cy="203040"/>
          </a:xfrm>
        </p:grpSpPr>
        <p:sp>
          <p:nvSpPr>
            <p:cNvPr id="260" name=""/>
            <p:cNvSpPr/>
            <p:nvPr/>
          </p:nvSpPr>
          <p:spPr>
            <a:xfrm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18148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191120" y="3657600"/>
            <a:ext cx="304560" cy="203040"/>
            <a:chOff x="4191120" y="3657600"/>
            <a:chExt cx="304560" cy="203040"/>
          </a:xfrm>
        </p:grpSpPr>
        <p:sp>
          <p:nvSpPr>
            <p:cNvPr id="265" name=""/>
            <p:cNvSpPr/>
            <p:nvPr/>
          </p:nvSpPr>
          <p:spPr>
            <a:xfrm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9112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49568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352320" y="4191120"/>
            <a:ext cx="305280" cy="203040"/>
            <a:chOff x="3352320" y="4191120"/>
            <a:chExt cx="305280" cy="203040"/>
          </a:xfrm>
        </p:grpSpPr>
        <p:sp>
          <p:nvSpPr>
            <p:cNvPr id="270" name=""/>
            <p:cNvSpPr/>
            <p:nvPr/>
          </p:nvSpPr>
          <p:spPr>
            <a:xfrm>
              <a:off x="335268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5268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65760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335232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514240" y="4723920"/>
            <a:ext cx="305280" cy="203760"/>
            <a:chOff x="2514240" y="4723920"/>
            <a:chExt cx="305280" cy="203760"/>
          </a:xfrm>
        </p:grpSpPr>
        <p:sp>
          <p:nvSpPr>
            <p:cNvPr id="275" name=""/>
            <p:cNvSpPr/>
            <p:nvPr/>
          </p:nvSpPr>
          <p:spPr>
            <a:xfrm>
              <a:off x="2514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514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819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2514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754640" y="5410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3600" y="5486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48480" y="4689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10600" y="4079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00960" y="3394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133720" y="5029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95480" y="5029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971440" y="441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44197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73392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3886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571640" y="3276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57800" y="3276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940-F35E-4796-95BD-C5F12AD7F2F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h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3552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73600" y="5562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310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026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910960" y="3692520"/>
            <a:ext cx="305280" cy="203040"/>
            <a:chOff x="2910960" y="3692520"/>
            <a:chExt cx="305280" cy="203040"/>
          </a:xfrm>
        </p:grpSpPr>
        <p:sp>
          <p:nvSpPr>
            <p:cNvPr id="299" name=""/>
            <p:cNvSpPr/>
            <p:nvPr/>
          </p:nvSpPr>
          <p:spPr>
            <a:xfrm>
              <a:off x="291132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1132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321624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91096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807160" y="3768840"/>
            <a:ext cx="304560" cy="203040"/>
            <a:chOff x="5807160" y="3768840"/>
            <a:chExt cx="304560" cy="203040"/>
          </a:xfrm>
        </p:grpSpPr>
        <p:sp>
          <p:nvSpPr>
            <p:cNvPr id="304" name=""/>
            <p:cNvSpPr/>
            <p:nvPr/>
          </p:nvSpPr>
          <p:spPr>
            <a:xfrm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80716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11172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511160" y="3006720"/>
            <a:ext cx="305280" cy="203040"/>
            <a:chOff x="4511160" y="3006720"/>
            <a:chExt cx="305280" cy="203040"/>
          </a:xfrm>
        </p:grpSpPr>
        <p:sp>
          <p:nvSpPr>
            <p:cNvPr id="309" name=""/>
            <p:cNvSpPr/>
            <p:nvPr/>
          </p:nvSpPr>
          <p:spPr>
            <a:xfrm>
              <a:off x="45115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115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48164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45111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 flipH="1">
            <a:off x="245412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16240" y="39974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349960" y="3997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8804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292200" y="3159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68720" y="3235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3657240" y="4723920"/>
            <a:ext cx="305280" cy="203760"/>
            <a:chOff x="3657240" y="4723920"/>
            <a:chExt cx="305280" cy="203760"/>
          </a:xfrm>
        </p:grpSpPr>
        <p:sp>
          <p:nvSpPr>
            <p:cNvPr id="320" name=""/>
            <p:cNvSpPr/>
            <p:nvPr/>
          </p:nvSpPr>
          <p:spPr>
            <a:xfrm>
              <a:off x="3657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962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657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417708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2767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C7F-9275-4619-A11D-D20835500DE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352320" y="2666520"/>
            <a:ext cx="305280" cy="203760"/>
            <a:chOff x="3352320" y="2666520"/>
            <a:chExt cx="305280" cy="203760"/>
          </a:xfrm>
        </p:grpSpPr>
        <p:sp>
          <p:nvSpPr>
            <p:cNvPr id="330" name=""/>
            <p:cNvSpPr/>
            <p:nvPr/>
          </p:nvSpPr>
          <p:spPr>
            <a:xfrm>
              <a:off x="335268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52680" y="2666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3657600" y="2666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35232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282560" y="3006720"/>
            <a:ext cx="305280" cy="203040"/>
            <a:chOff x="4282560" y="3006720"/>
            <a:chExt cx="305280" cy="203040"/>
          </a:xfrm>
        </p:grpSpPr>
        <p:sp>
          <p:nvSpPr>
            <p:cNvPr id="335" name=""/>
            <p:cNvSpPr/>
            <p:nvPr/>
          </p:nvSpPr>
          <p:spPr>
            <a:xfrm>
              <a:off x="42829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829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45878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2825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3580920"/>
            <a:ext cx="304560" cy="203760"/>
            <a:chOff x="5105520" y="3580920"/>
            <a:chExt cx="304560" cy="203760"/>
          </a:xfrm>
        </p:grpSpPr>
        <p:sp>
          <p:nvSpPr>
            <p:cNvPr id="340" name=""/>
            <p:cNvSpPr/>
            <p:nvPr/>
          </p:nvSpPr>
          <p:spPr>
            <a:xfrm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055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54100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866920" y="4266720"/>
            <a:ext cx="305280" cy="203760"/>
            <a:chOff x="5866920" y="4266720"/>
            <a:chExt cx="305280" cy="203760"/>
          </a:xfrm>
        </p:grpSpPr>
        <p:sp>
          <p:nvSpPr>
            <p:cNvPr id="345" name=""/>
            <p:cNvSpPr/>
            <p:nvPr/>
          </p:nvSpPr>
          <p:spPr>
            <a:xfrm>
              <a:off x="586728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67280" y="42670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172200" y="42667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86692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2440440" y="3429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54840" y="403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92920" y="4419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5960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32664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895120" y="29718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9880" y="28954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380988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723920" y="38862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86400" y="3886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56236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24852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1B0F-5363-4007-87DD-77D48D47A2C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: a query  R1     R2      …     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e have a function cost() that gives us the cost of every joi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best join tree for the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266720" y="2209320"/>
            <a:ext cx="305280" cy="203760"/>
            <a:chOff x="4266720" y="2209320"/>
            <a:chExt cx="305280" cy="203760"/>
          </a:xfrm>
        </p:grpSpPr>
        <p:sp>
          <p:nvSpPr>
            <p:cNvPr id="365" name=""/>
            <p:cNvSpPr/>
            <p:nvPr/>
          </p:nvSpPr>
          <p:spPr>
            <a:xfrm>
              <a:off x="426708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67080" y="2209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4572000" y="22093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426672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257440" y="2209320"/>
            <a:ext cx="305280" cy="203760"/>
            <a:chOff x="5257440" y="2209320"/>
            <a:chExt cx="305280" cy="203760"/>
          </a:xfrm>
        </p:grpSpPr>
        <p:sp>
          <p:nvSpPr>
            <p:cNvPr id="370" name=""/>
            <p:cNvSpPr/>
            <p:nvPr/>
          </p:nvSpPr>
          <p:spPr>
            <a:xfrm>
              <a:off x="525780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57800" y="2209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5562720" y="22093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525744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400440" y="2209320"/>
            <a:ext cx="305280" cy="203760"/>
            <a:chOff x="6400440" y="2209320"/>
            <a:chExt cx="305280" cy="203760"/>
          </a:xfrm>
        </p:grpSpPr>
        <p:sp>
          <p:nvSpPr>
            <p:cNvPr id="375" name=""/>
            <p:cNvSpPr/>
            <p:nvPr/>
          </p:nvSpPr>
          <p:spPr>
            <a:xfrm>
              <a:off x="640080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00800" y="2209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705720" y="22093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40044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8B9D-C91D-4FC9-9107-69683A7C96C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for each subset of {R1, …, Rn}, compute the best plan for that sub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creasing order of set cardina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for {R1}, {R2}, …, {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for {R1,R2}, {R1,R3}, …, {Rn-1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n: for {R1, …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set of {R1, …, Rn} is also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2DFD-3D91-4D49-9EBD-BE75594D310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subquery 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R1, …, Rn} comput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est plan for Q: Plan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that plan: Cost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1FD4-2AC1-4DD4-9ECA-E27A54F40C0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For each {Ri}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{Ri}) = B(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{Ri}) = 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{Ri}) = (cost of scanning 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542-6AE6-43DC-A21F-31CACD74B78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i: For each 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R1, …, Rn} of cardinality i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Size(Q)    (later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pair of subqueries Q’, Q’’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t. Q = Q’ U Q’’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cost(Plan(Q’)       Plan(Q’’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Q) = the smallest suc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Q) = the correspond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4952520" y="4572000"/>
            <a:ext cx="305280" cy="203040"/>
            <a:chOff x="4952520" y="4572000"/>
            <a:chExt cx="305280" cy="203040"/>
          </a:xfrm>
        </p:grpSpPr>
        <p:sp>
          <p:nvSpPr>
            <p:cNvPr id="388" name=""/>
            <p:cNvSpPr/>
            <p:nvPr/>
          </p:nvSpPr>
          <p:spPr>
            <a:xfrm>
              <a:off x="4952880" y="45720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52880" y="45720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257800" y="45720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4952520" y="45720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0419-36B3-40F7-9697-B89DCEA6D7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Plan({R1, …, Rn}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135-758A-4E7C-8FB1-4C043B4734B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llustrate, we will make the following simpl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P1      P2) = Cost(P1) + Cost(P2) +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size(intermediate result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te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1 = a join, then the size of the intermediate result is size(P1), otherwise the size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 for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a scan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362320" y="2971800"/>
            <a:ext cx="304560" cy="203040"/>
            <a:chOff x="2362320" y="2971800"/>
            <a:chExt cx="304560" cy="203040"/>
          </a:xfrm>
        </p:grpSpPr>
        <p:sp>
          <p:nvSpPr>
            <p:cNvPr id="397" name=""/>
            <p:cNvSpPr/>
            <p:nvPr/>
          </p:nvSpPr>
          <p:spPr>
            <a:xfrm>
              <a:off x="2362320" y="29718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362320" y="29718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2666880" y="29718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362320" y="29718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370-1468-4D3E-A90B-C4638305527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n equalit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index on a:  cost B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lustered index on a: cost T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ECA3-910F-4591-A990-7E2B9068B6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R5     R7)  = 0       (no intermediate resu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(R2     R1)      R7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Cost(R2     R1) + Cost(R7) + size(R2     R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size(R2       R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362320" y="2666520"/>
            <a:ext cx="304560" cy="203760"/>
            <a:chOff x="2362320" y="2666520"/>
            <a:chExt cx="304560" cy="203760"/>
          </a:xfrm>
        </p:grpSpPr>
        <p:sp>
          <p:nvSpPr>
            <p:cNvPr id="404" name=""/>
            <p:cNvSpPr/>
            <p:nvPr/>
          </p:nvSpPr>
          <p:spPr>
            <a:xfrm>
              <a:off x="2362320" y="26668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362320" y="2666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2666880" y="2666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362320" y="26668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514240" y="3200400"/>
            <a:ext cx="305280" cy="203040"/>
            <a:chOff x="2514240" y="3200400"/>
            <a:chExt cx="305280" cy="203040"/>
          </a:xfrm>
        </p:grpSpPr>
        <p:sp>
          <p:nvSpPr>
            <p:cNvPr id="409" name=""/>
            <p:cNvSpPr/>
            <p:nvPr/>
          </p:nvSpPr>
          <p:spPr>
            <a:xfrm>
              <a:off x="2514600" y="32004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1460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81952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514240" y="32004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3505320" y="3200400"/>
            <a:ext cx="304560" cy="203040"/>
            <a:chOff x="3505320" y="3200400"/>
            <a:chExt cx="304560" cy="203040"/>
          </a:xfrm>
        </p:grpSpPr>
        <p:sp>
          <p:nvSpPr>
            <p:cNvPr id="414" name=""/>
            <p:cNvSpPr/>
            <p:nvPr/>
          </p:nvSpPr>
          <p:spPr>
            <a:xfrm>
              <a:off x="3505320" y="32004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380988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3505320" y="32004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048120" y="3580920"/>
            <a:ext cx="304560" cy="203760"/>
            <a:chOff x="3048120" y="3580920"/>
            <a:chExt cx="304560" cy="203760"/>
          </a:xfrm>
        </p:grpSpPr>
        <p:sp>
          <p:nvSpPr>
            <p:cNvPr id="419" name=""/>
            <p:cNvSpPr/>
            <p:nvPr/>
          </p:nvSpPr>
          <p:spPr>
            <a:xfrm>
              <a:off x="30481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481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33526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30481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7162920" y="3580920"/>
            <a:ext cx="304560" cy="203760"/>
            <a:chOff x="7162920" y="3580920"/>
            <a:chExt cx="304560" cy="203760"/>
          </a:xfrm>
        </p:grpSpPr>
        <p:sp>
          <p:nvSpPr>
            <p:cNvPr id="424" name=""/>
            <p:cNvSpPr/>
            <p:nvPr/>
          </p:nvSpPr>
          <p:spPr>
            <a:xfrm>
              <a:off x="71629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1629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74674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71629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048120" y="4038120"/>
            <a:ext cx="304560" cy="203760"/>
            <a:chOff x="3048120" y="4038120"/>
            <a:chExt cx="304560" cy="203760"/>
          </a:xfrm>
        </p:grpSpPr>
        <p:sp>
          <p:nvSpPr>
            <p:cNvPr id="429" name=""/>
            <p:cNvSpPr/>
            <p:nvPr/>
          </p:nvSpPr>
          <p:spPr>
            <a:xfrm>
              <a:off x="3048120" y="40384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48120" y="40384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352680" y="40381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048120" y="40384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2F7A-80CF-4534-AA56-472D036CED3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s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 is clustered: B(R) = 2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 is unclustered: T(R) = 100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based se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clustered: B(R)/V(R,a)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unclustered: T(R)/V(R,a) = 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: when V(R,a) is small, then unclustered index is us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02320" y="1676520"/>
            <a:ext cx="24058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2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100,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48120" y="1981080"/>
            <a:ext cx="2760840" cy="53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F803-4B52-444C-A506-FB104DAE62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 has an index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e over R, for each tuple fetch corresponding tuple(s) from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R is clustered.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clustered:  B(R) + T(R)B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unclustered: B(R) + T(R)T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447920" y="2133720"/>
                <a:ext cx="5760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0FB-F11E-4BE0-A172-07F56093B3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both R and S have a sorted index (B+ tree)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erform a merge jo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zig-zag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39D2-29AF-435E-B231-4CC41EFA13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ed index: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lustered index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maker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4120" y="4495680"/>
            <a:ext cx="5275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maker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city = 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CD53-AEB8-4CC3-8630-E842117A53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3276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&lt;&lt;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3: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&lt;&lt;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 &lt;&lt;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886200" y="1219320"/>
                <a:ext cx="36504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4819680" y="160020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4280" y="243828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4880" y="24382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200040" y="16002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1523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90760" y="1295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2840" y="228600"/>
            <a:ext cx="7200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,000 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00      M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00,000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= 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87200" y="3200400"/>
            <a:ext cx="24912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city) = 2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maker) = 2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87200" y="4419720"/>
            <a:ext cx="24912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city) =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maker) = 2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63520" y="5486400"/>
            <a:ext cx="22366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city) =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maker) =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5214-1C06-40C5-92CB-199BC43590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03:09:03Z</dcterms:created>
  <dc:creator>Dan</dc:creator>
  <dc:description/>
  <dc:language>en-US</dc:language>
  <cp:lastModifiedBy>Administrator</cp:lastModifiedBy>
  <dcterms:modified xsi:type="dcterms:W3CDTF">2001-11-30T20:18:00Z</dcterms:modified>
  <cp:revision>6</cp:revision>
  <dc:subject/>
  <dc:title>Lecture 25</dc:title>
</cp:coreProperties>
</file>