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BE60C2-6F47-49E3-8BE5-990DD84E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4D11DF-750F-46D3-8F3E-AAEC3EB69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58B-EA66-43C2-9041-090F7234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45-5002-4E8B-907D-87F444C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4BC-1A43-4E9F-B420-86F5E542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69A-009D-4836-B19D-8CC77DE3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231-7BCC-48DB-B205-CEFA66B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5B7-8C4F-464C-B7E9-246C47D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307-03AA-4698-AC2D-8874E90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1FA-070E-43FF-8165-3B5528A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2E8-2C77-4D16-831A-449380E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47C-D55B-4E09-B727-57A94D1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267-2856-446B-A8CF-3935E62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CAB-B44C-49BD-AB83-A5B34B2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E9B-D62C-42B5-B2AA-F1D4D2F5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8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7FC-ECFA-4FA7-AEED-AD0D6F29C7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A29-C4B0-4C58-A8BE-7CCD180BF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in memory hash-based j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2133720"/>
                <a:ext cx="576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DBB-A4B4-443F-8F31-316AEE632B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066680" y="2057400"/>
                <a:ext cx="576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9BD-26FE-4615-BF36-970085155F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5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7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9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9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0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9C1-9311-45E7-80AB-3D3BDA7218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A7E-F143-4788-8130-69425FCDE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031-2D0E-407B-8B47-299DE6F4C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larg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C9F-452B-4FB0-BB26-BCECC73C5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B(R) = 1000, B(S) = 500, M =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k slightly larger than 500/101:  k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ets for S have size 500/6 =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1 in memory, still more than k=6 blocks available to parti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310-A4C4-4F80-8B7E-8A591ED5B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7DA-1215-4CEA-B3B2-499774A4EF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273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CDA-A13E-4E72-9F92-FD28C6DD88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based algorithms (6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ss algorithms based on hashing (6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ss algorithms based on indexes (6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QL to logical plans (7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 (7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822-084D-4C4B-B430-1A03A12A4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FEC-CC7C-4A83-BBA7-4AE617F7E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CFF-D302-4392-838A-F53F97DC4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99F-1654-4DE4-BBF7-0B9EED3EF5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677-B8DF-4431-A6A8-07D91ED1B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4120" y="4495680"/>
            <a:ext cx="527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54F-923F-4879-8873-E10C6E41EE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86200" y="1219320"/>
                <a:ext cx="3650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819680" y="160020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4280" y="2438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4880" y="2438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200040" y="1600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1523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91A-0FD6-4509-8CC0-3EE0F9AFA8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convert SQL to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: are the foundation for ev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 to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apply law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sult in cheaper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ased: estimate size and cost of intermediate results, search systematically for bes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40C-C654-4C8A-BB8F-2086BED3EC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from SQL to Logical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56272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536040" y="2133720"/>
            <a:ext cx="29314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0520" y="2819520"/>
            <a:ext cx="347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3440" y="4952880"/>
            <a:ext cx="54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1, …, bm, ag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4114800"/>
            <a:ext cx="33768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b1, …, 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17220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78168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400800" y="510552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10280" y="5095800"/>
                <a:ext cx="2286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634160" y="508176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D0A-049C-44EA-93C8-43D1FA8686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4060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maker in (Select company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ompany.city=“Seattl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4160" y="4648320"/>
            <a:ext cx="64447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 = company.n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095-9923-4011-97D9-AE4D11F2D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0080" y="59436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nvert this one to logical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132-2655-4336-B2E1-BAF37D1A33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ll: 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 main memory size,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541-6D1E-486D-9B53-CFBDFA3FE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70F-9191-48CC-AE91-80AA0E1AB8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CB-8840-45DA-B8DB-215E77B6B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EBF-1399-4785-91D8-010CE9BD9E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U S = S U R,  R U (S U T) = (R U S) U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S = S     R,  R     (S      T) = (R     S)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(S U T)  =  (R    S)  U  (R    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524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971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114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9528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47712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3152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7524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172040" y="48196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8672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6DD-C1ED-43D5-8398-96E2C47ADE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U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5146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24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A98-8302-4CFB-AAE0-BEE409E9EC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668320" y="2743200"/>
            <a:ext cx="517680" cy="459360"/>
            <a:chOff x="2668320" y="274320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743200" y="274320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2668320" y="2895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11320" y="3276720"/>
            <a:ext cx="517680" cy="459360"/>
            <a:chOff x="3811320" y="327672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3886200" y="327672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3811320" y="3429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767-B184-416A-ABAD-430417A7D2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43828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02920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51055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638680" y="51814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282096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4160" y="5410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32C-C4F2-46B0-8FB2-EEE7154B86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, R U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22A-7160-41F5-969C-D9F83D283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rging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981080"/>
          <a:ext cx="4114800" cy="395280"/>
        </p:xfrm>
        <a:graphic>
          <a:graphicData uri="http://schemas.openxmlformats.org/drawingml/2006/table">
            <a:tbl>
              <a:tblPr/>
              <a:tblGrid>
                <a:gridCol w="587160"/>
                <a:gridCol w="588960"/>
                <a:gridCol w="588240"/>
                <a:gridCol w="588960"/>
                <a:gridCol w="587160"/>
                <a:gridCol w="587160"/>
                <a:gridCol w="58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186000"/>
          <a:ext cx="4114800" cy="395280"/>
        </p:xfrm>
        <a:graphic>
          <a:graphicData uri="http://schemas.openxmlformats.org/drawingml/2006/table">
            <a:tbl>
              <a:tblPr/>
              <a:tblGrid>
                <a:gridCol w="587160"/>
                <a:gridCol w="588960"/>
                <a:gridCol w="588240"/>
                <a:gridCol w="588960"/>
                <a:gridCol w="587160"/>
                <a:gridCol w="587160"/>
                <a:gridCol w="58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438280" y="16765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88144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120" y="311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01560" y="135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080" y="252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389640" y="1981080"/>
          <a:ext cx="1763640" cy="395280"/>
        </p:xfrm>
        <a:graphic>
          <a:graphicData uri="http://schemas.openxmlformats.org/drawingml/2006/table">
            <a:tbl>
              <a:tblPr/>
              <a:tblGrid>
                <a:gridCol w="587160"/>
                <a:gridCol w="588960"/>
                <a:gridCol w="587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159880" y="196992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4520" y="16765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57800" y="135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3886200"/>
            <a:ext cx="365544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[i] &lt; S[j] :  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[i] = S[j] : T[k++]=R[i++];  j++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R[i] &gt; S[j] :  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il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3120" y="3886200"/>
            <a:ext cx="363420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[i] &lt; S[j] :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[i] = S[j]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R[i] &gt; S[j]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il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5D8-D648-4FB7-80CB-1CFE03181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752480" y="205740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090-4CC4-42FD-ADF1-ACAADDD7EC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28800" y="213372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C5B-17AE-4FC3-A54F-FB1C0749A5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80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90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20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1F3-F662-4D94-B5D3-2CD661D7D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4F1-6183-4BDD-AF82-B87144A086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1:53:57Z</dcterms:created>
  <dc:creator>Dan</dc:creator>
  <dc:description/>
  <dc:language>en-US</dc:language>
  <cp:lastModifiedBy>Administrator</cp:lastModifiedBy>
  <dcterms:modified xsi:type="dcterms:W3CDTF">2001-11-28T19:49:09Z</dcterms:modified>
  <cp:revision>18</cp:revision>
  <dc:subject/>
  <dc:title>Lecture 25: Query Execution</dc:title>
</cp:coreProperties>
</file>