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4730-804D-44F9-A534-89B1F3B23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C040-0E2C-4460-A5BF-419AFA5C7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6FF-F4FF-4851-B30B-32507C70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FE0-C934-4EBC-AD7A-C40AB45F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25F-3E66-49E8-9E6E-6329E63C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59A-56B0-47D7-8CF1-C1DF74F7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DB3-F194-4DB7-8DFD-716DB2C7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5FD-A653-4370-B005-83D03C9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FCD-2EAF-4CAE-BB65-9B614AFD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0AB-EEB8-4C93-AA9E-6EDC0D74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410-1AA6-4D53-A8C8-E79916C1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EF4-7EDD-4B70-B653-9ED92F44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BA7-8874-44E0-90FA-EA7DC76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0E7-0611-4E8C-A35A-951BDD3A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3F3F-EEDD-44B4-9CE5-BAC7685D5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 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6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BF1-0630-4E84-83A5-B9AD70DF2B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citi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price) for each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citie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F8E-8E87-4408-94C6-900E48E310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, R U 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88C-899E-49C3-AC57-2A416673C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ple-based nested loop 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T(R) T(S),  sometimes T(R)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562720" y="2133720"/>
                <a:ext cx="51732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71928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017-01B5-4112-B574-33ABB4113F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800" y="2743200"/>
            <a:ext cx="759852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1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F60-B94C-446E-8E35-0D2D8BAD4E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85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9724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8816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1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k &lt; B-1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7012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334200" y="2979720"/>
            <a:ext cx="858600" cy="2026440"/>
            <a:chOff x="6334200" y="2979720"/>
            <a:chExt cx="858600" cy="2026440"/>
          </a:xfrm>
        </p:grpSpPr>
        <p:grpSp>
          <p:nvGrpSpPr>
            <p:cNvPr id="110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5012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0192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160" y="5562720"/>
            <a:ext cx="703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uppose B(R1) = 1000, B(R2) = 2, M =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est way to do a nested loop join ? Its cos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21F-EEFF-4AA7-9C65-CEB5A8610E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1) times, and each time need to read R: costs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523880" y="5943600"/>
                <a:ext cx="517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C28-329C-4089-8F4D-5E94286C4E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multi-way merge sort needs only two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B51-3FED-4003-BA2E-0E88EC241B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91A-E190-4F8D-97FB-958950B4C6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price) for each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before: compute sum(price) during the merge p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644-FE72-4648-9607-3FD17E3DB2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, R U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F47-1526-4197-A4AC-00DA1E94EB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 (6.1-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based algorithms (6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ass algorithms based on hashing (6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ass algorithms based on indexes (6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69E-666D-48B6-8658-ED87689B7A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 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752480" y="2057400"/>
                <a:ext cx="517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DF1-D770-4868-B4A0-E3B3FE8A50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28800" y="2133720"/>
                <a:ext cx="517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8D4-5731-4693-80D7-146BAE8A72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141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151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172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181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1FE-61FF-47B6-88B8-C147D10289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17C-725E-4130-BAA5-EA5C4D0423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E8F-7173-42F6-B76A-ACAEC14554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in memory hash-based jo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523880" y="2133720"/>
                <a:ext cx="576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07A-01E7-415B-8ABE-FB7A7C1620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  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66680" y="2057400"/>
                <a:ext cx="576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EAB-C254-410E-BCDC-7C859ED021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214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237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253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267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277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98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307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801-2D9C-4232-9BCB-5F3E42FA39D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1BC-52D5-46F7-B1DA-819F9F87D4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keep first bucke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emory, k-1 buckets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ucket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oined immediately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-1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1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318-07C7-4406-849A-567177B2FD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CCB-E8E0-45BE-9757-E810E0FECB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big should we choose 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ucket size for S is B(S)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t B(S)/k + (k-1) block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S)/k + (k-1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slightly smaller than B(S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1AA-9169-4252-A2CF-5B5B73BAEB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cost of 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save 2 disk operations for one bu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re are k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we save 2/k(B(R) + B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(3-2/k)(B(R) + B(S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3-2M/B(S))(B(R) + B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B84-52B7-4ABD-BC77-A21517FACA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332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AAD-C767-44E6-930E-454DF8F4BF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54E-5F2F-444E-AA02-9138FBD2D8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(R) = 2000,  T(R) = 100,000, V(R, a) = 20, compute the 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316-66DE-4F0B-9EB6-1806F6FA10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26C-D10C-4277-B82E-62ED593B05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(called zig-zag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9F0-1DE6-459A-91EF-1F5F86CCFE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cost of sorting a table with B block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641-FBC6-4EA4-B969-3B8DB719BC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uster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.e. blocks consists only of records from this tabl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-scan: if we know where the block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can: if we have a sparse index to find the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 its records are placed on blocks with other t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one read for each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B5A-E8BF-4EAC-B322-E164F4459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While 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useful to have the output 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ways to scan it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a primary or secondary index on it, use it during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fits in memory, sort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use multi-way merge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45D-AD51-4B4A-B7D5-57F508BB2E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the Sca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:  B(R); to sort: 3B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can:  B(R); to sort: B(R) or 3B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; to sort: T(R) + 2B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FFC-BDFD-4267-82A0-2EA894F535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D3A-2491-4A49-B801-FA36A760C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C6B-DF5A-4829-812B-115EBE0A12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01:53:57Z</dcterms:created>
  <dc:creator>Dan</dc:creator>
  <dc:description/>
  <dc:language>en-US</dc:language>
  <cp:lastModifiedBy>Administrator</cp:lastModifiedBy>
  <dcterms:modified xsi:type="dcterms:W3CDTF">2001-11-26T06:02:21Z</dcterms:modified>
  <cp:revision>5</cp:revision>
  <dc:subject/>
  <dc:title>Lecture 25: Query Execution</dc:title>
</cp:coreProperties>
</file>