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195-3146-465A-80FF-525D9871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CA1-AABF-4F67-A6DD-454547B6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FD3-7073-4520-8946-512144C3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FE9-FB26-41EE-B096-8AF46F15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CE6-C002-46D0-9003-6596FC1C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FE1-A746-44A0-86B8-EE19CFD7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439-9056-4C77-8A00-F06C5770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B47-0154-43B1-B3E9-58E92D97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413-C628-43E8-9E5F-B2281AEA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BA8-4412-4D6F-B4E8-A319A6D2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1CF-B55E-4FB7-863D-C91A2F04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84E-24E6-4034-8109-61FC9B4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2177-D7A8-4BD4-BEB7-76C77FD3D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 Hash Tab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. 21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E21-6B52-46F3-AA5D-AEBA0AFFE0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=1, n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, k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only look at the first bit (0 or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25B-21CF-4C61-AA7B-9C480E48C0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36C-6384-40FE-916F-5F05936470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tend table, spli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become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10), 1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A3D-9221-41B7-9086-F1D0EE9181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B10-5259-42B6-A855-2E3E02679D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0000, then 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plit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791320" y="2666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(000), 0(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4A9-832A-4DF2-898B-6A8540FF39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plitting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(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FDF-2FC3-4BF4-BAC4-4168A655C5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verflow blocks: access always on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can be costly and disru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n extension table may no longer fit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F22-9A1A-462D-B793-BC17910B03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extend only one entry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n= no longer a power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i be such tha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n 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omputing h(k), use last i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ast i bits represent a number &gt; n, change msb from 1 to 0 (get a number &lt;=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168-8C73-463B-BB2D-564E3E7960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809880" y="358128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01)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BIT F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E96-E0AB-4026-BA78-B046B872CC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000: overflow block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6576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657600" y="48769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676520" y="44197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676520" y="35053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flipV="1">
            <a:off x="2133720" y="3657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28600" y="430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860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28600" y="50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209680" y="41911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65760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4008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84582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323-E634-4293-B6AE-F5839E1349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 (4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 (6.1-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86E-95D0-4EAE-A764-5271A860A4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: independent on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n:=n+1 when average number of records per block exceeds (say) 8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11E-39AD-4E33-8B34-5EB2BDB2F2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n=3 to n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eed to tou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lock (which one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530440" y="2743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530440" y="44197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49360" y="39625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49360" y="30481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 flipV="1">
            <a:off x="1006560" y="3200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0656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784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082520" y="37339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30440" y="35812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45878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02080" y="60958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7002720" y="4426560"/>
            <a:ext cx="1828800" cy="9003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2701" y="11029"/>
                </a:moveTo>
                <a:arcTo wR="-8102" hR="-8102" stAng="10702823" swAng="-10702823"/>
                <a:lnTo>
                  <a:pt x="0" y="10800"/>
                </a:lnTo>
                <a:arcTo wR="10800" hR="10800" stAng="10800000" swAng="10702823"/>
                <a:lnTo>
                  <a:pt x="24295" y="10418"/>
                </a:lnTo>
                <a:lnTo>
                  <a:pt x="20362" y="14580"/>
                </a:lnTo>
                <a:lnTo>
                  <a:pt x="16200" y="1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841-4F98-4DC2-BC6D-C0682FE035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n=3 to n=4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from n=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n=5 (new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touch e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block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60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18C-7DD3-4A18-AB8E-59C2F3F416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gebr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86B-AD0F-44C8-B4F1-346C607648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Operators in the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133720" y="3886200"/>
                <a:ext cx="51732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181480" y="1981080"/>
            <a:ext cx="1828800" cy="2286000"/>
          </a:xfrm>
          <a:custGeom>
            <a:avLst/>
            <a:gdLst>
              <a:gd name="textAreaLeft" fmla="*/ 0 w 1828800"/>
              <a:gd name="textAreaRight" fmla="*/ 660240 w 1828800"/>
              <a:gd name="textAreaTop" fmla="*/ 47880 h 2286000"/>
              <a:gd name="textAreaBottom" fmla="*/ 223812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8"/>
                  <a:pt x="10800" y="1455"/>
                </a:cubicBezTo>
                <a:lnTo>
                  <a:pt x="10800" y="9345"/>
                </a:lnTo>
                <a:cubicBezTo>
                  <a:pt x="10800" y="10073"/>
                  <a:pt x="16200" y="10800"/>
                  <a:pt x="21600" y="10800"/>
                </a:cubicBezTo>
                <a:cubicBezTo>
                  <a:pt x="16200" y="10800"/>
                  <a:pt x="10800" y="11528"/>
                  <a:pt x="10800" y="12255"/>
                </a:cubicBezTo>
                <a:lnTo>
                  <a:pt x="10800" y="20145"/>
                </a:lnTo>
                <a:cubicBezTo>
                  <a:pt x="10800" y="2087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237-D08E-493F-8E43-BBB8EE8945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8100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99520" y="5527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8628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5B7-0A1D-4E04-87E7-2105B40DF9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524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105080" y="1447920"/>
            <a:ext cx="5040720" cy="3802320"/>
            <a:chOff x="4105080" y="1447920"/>
            <a:chExt cx="5040720" cy="3802320"/>
          </a:xfrm>
        </p:grpSpPr>
        <p:sp>
          <p:nvSpPr>
            <p:cNvPr id="289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293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8552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7112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6852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716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5208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7380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168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414240" y="5602320"/>
            <a:ext cx="53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,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083-D9C9-47FD-AA50-B1FDD75B1E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uster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.e. blocks consists only of records from this table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-scan: if we know where the block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can: if we have a sparse index to find the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 its records are placed on blocks with other t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one read for each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32C-9BE6-4D08-BEC9-6D94800D22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While 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useful to have the output 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ways to scan it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a primary or secondary index on it, use it during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fits in memory, sort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use multi-way merge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261-52A8-47D2-9213-628C881984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the Cost of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mportant for the optimizer (next we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for a relatio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holding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ful if R is 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may need when R is 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a) = number of distinct values of the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7D3-C8D5-44F5-884D-1D401412C3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hash tables are much like main memory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6E3-AABB-41F9-B7DA-013A2318CE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the Scan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:  B(R); to sort: 3B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can:  B(R); to sort: B(R) or 3B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; to sort: T(R) + 2B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E8C-B644-4086-AA2A-6B0388C1D0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925-7A63-443B-955B-D8FD1FCDFC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C86-0AD0-40E0-A781-50BB67E46A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citi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price) for each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citie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159-18CC-4F51-97F1-16C3262041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, R U 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841-0541-4A7B-8FB3-DF550C51F5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B17-1A69-4D0D-8522-C76E024D4A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191-75EF-41CC-A0D3-114445C4DC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6D2-B8ED-43FC-B974-6312BD11FE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1A2-58F1-44B3-B71F-77285D8E4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C09-5F81-4AD1-8FE6-B2CCD5881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as table to grow, to avoid performance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 hash function h that returns numbers in {0, …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n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only look at first i most significant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C5E-C70B-423C-909C-43C10265AA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18:51:40Z</dcterms:created>
  <dc:creator>Dan</dc:creator>
  <dc:description/>
  <dc:language>en-US</dc:language>
  <cp:lastModifiedBy>Administrator</cp:lastModifiedBy>
  <dcterms:modified xsi:type="dcterms:W3CDTF">2001-11-21T18:04:04Z</dcterms:modified>
  <cp:revision>6</cp:revision>
  <dc:subject/>
  <dc:title>Lecture 22: Hash Tables</dc:title>
</cp:coreProperties>
</file>