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064C3C-41C8-47E0-A326-F06A5A4DE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C6A789-0B3D-47A8-B276-ABCFACF1E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99FD-EC1E-4638-8868-CB0B5A5E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7B21-71D2-4E29-96A1-19AC4C7C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0A9B-6827-4063-8538-06B6C58E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007-C599-4AE9-A0D3-80C08056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129-3062-4933-9D95-C6A87BF9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9AD-7E0C-48EE-87F0-3A6F9178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A0C-58FB-46F5-9412-8FA6EC0A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73CC-31F1-4632-B5CC-AC2A4C98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4FD-7BF2-4676-8E28-A4005F69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D112-30AC-473D-BF7D-1CB4E52A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99A-3B5A-4115-ACCD-F0A1136F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E047-FE93-4D40-A1A9-1CD22D61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6D9B-C75B-4C49-957B-9E38486C9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1: B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. 1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18F-63B8-4118-8F4D-9B1030804D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8920" y="16416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K=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A90-EBA3-42B4-B0D4-71C2B41B64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4840" y="17175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DAB-9752-4F9A-805D-B01486EDE3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1040" y="15652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nsert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6BE-F1E1-4383-8706-9F78028611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8520" y="15652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E43-A8A8-4267-8F3D-4532F1FF17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68880" y="15652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w have to spl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BE46-7B12-424C-A432-24E6438C26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8160" y="15652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DFF-EC58-431B-916A-74B48D2452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9960" y="15652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7E3F-B5D8-47AB-B60A-8858A941A5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8520" y="1565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8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2280" y="2133720"/>
            <a:ext cx="2210040" cy="761760"/>
          </a:xfrm>
          <a:prstGeom prst="wedgeEllipseCallout">
            <a:avLst>
              <a:gd name="adj1" fmla="val 45689"/>
              <a:gd name="adj2" fmla="val 79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change to 40, or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6CB-422C-43BD-B234-880E71E7FA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5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68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CCCF-B2E7-4F82-94B9-B794148960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0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68520" y="1565280"/>
            <a:ext cx="23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re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371600" y="3886200"/>
            <a:ext cx="1062000" cy="685800"/>
          </a:xfrm>
          <a:custGeom>
            <a:avLst/>
            <a:gdLst>
              <a:gd name="textAreaLeft" fmla="*/ 194400 w 1062000"/>
              <a:gd name="textAreaRight" fmla="*/ 730440 w 10620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06" hR="21600" stAng="10800000" swAng="5400000"/>
                <a:lnTo>
                  <a:pt x="10900" y="0"/>
                </a:lnTo>
                <a:arcTo wR="7906" hR="21600" stAng="-5400000" swAng="2321647"/>
                <a:lnTo>
                  <a:pt x="20885" y="12623"/>
                </a:lnTo>
                <a:lnTo>
                  <a:pt x="17308" y="21600"/>
                </a:lnTo>
                <a:lnTo>
                  <a:pt x="12301" y="12623"/>
                </a:lnTo>
                <a:lnTo>
                  <a:pt x="15096" y="12623"/>
                </a:lnTo>
                <a:arcTo wR="7906" hR="21600" stAng="-3078353" swAng="-2079404"/>
                <a:lnTo>
                  <a:pt x="9403" y="391"/>
                </a:lnTo>
                <a:arcTo wR="7906" hR="21600" stAng="-5642243" swAng="-5157757"/>
                <a:close/>
              </a:path>
              <a:path fill="darkenLess" w="21600" h="21600">
                <a:moveTo>
                  <a:pt x="0" y="21600"/>
                </a:moveTo>
                <a:arcTo wR="7906" hR="21600" stAng="10800000" swAng="5400000"/>
                <a:lnTo>
                  <a:pt x="7906" y="0"/>
                </a:lnTo>
                <a:arcTo wR="7906" hR="21600" stAng="-5400000" swAng="242243"/>
                <a:lnTo>
                  <a:pt x="9403" y="391"/>
                </a:lnTo>
                <a:arcTo wR="7906" hR="21600" stAng="-5642243" swAng="-5157757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55C-7D3C-4422-8DB0-7DB1609B15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+ trees (4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962-DAAF-4912-872B-AAA332E32B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7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0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7068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9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7998-B49D-4BA1-9E96-F266D572DB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7800" y="156528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733920" y="510552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6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828800" y="4267080"/>
            <a:ext cx="3352680" cy="1295640"/>
          </a:xfrm>
          <a:custGeom>
            <a:avLst/>
            <a:gdLst/>
            <a:ahLst/>
            <a:rect l="l" t="t" r="r" b="b"/>
            <a:pathLst>
              <a:path w="2112" h="816">
                <a:moveTo>
                  <a:pt x="17" y="114"/>
                </a:moveTo>
                <a:cubicBezTo>
                  <a:pt x="39" y="106"/>
                  <a:pt x="28" y="108"/>
                  <a:pt x="50" y="108"/>
                </a:cubicBezTo>
                <a:lnTo>
                  <a:pt x="720" y="0"/>
                </a:lnTo>
                <a:lnTo>
                  <a:pt x="1680" y="0"/>
                </a:lnTo>
                <a:lnTo>
                  <a:pt x="2112" y="144"/>
                </a:lnTo>
                <a:lnTo>
                  <a:pt x="2112" y="720"/>
                </a:lnTo>
                <a:lnTo>
                  <a:pt x="1728" y="816"/>
                </a:lnTo>
                <a:lnTo>
                  <a:pt x="624" y="768"/>
                </a:lnTo>
                <a:lnTo>
                  <a:pt x="48" y="720"/>
                </a:lnTo>
                <a:lnTo>
                  <a:pt x="0" y="384"/>
                </a:lnTo>
                <a:lnTo>
                  <a:pt x="17" y="11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6E7-8673-4931-9AAB-CC4C55EEC8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3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5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7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90920" y="36576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52680" y="5105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68880" y="156528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666880" y="51055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4CF8-3E4F-407D-976D-03565BFB18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  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1 node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+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leaves into a linked list (range queries are eas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809D-1F07-41D7-B270-202B54955F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d =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&gt;= d and &lt;= 2d keys (except 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eaf has &gt;=d and &lt;= 2d ke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00400" y="307980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 flipH="1">
            <a:off x="2666520" y="3613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3613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3613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3613320"/>
            <a:ext cx="1295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40194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k &lt;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69640" y="417204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30&lt;=k&lt;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2800" y="41464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120&lt;=k&lt;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7440" y="41464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240&lt;=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76720" y="507996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 flipH="1">
            <a:off x="2742840" y="561348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5613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56134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5613480"/>
            <a:ext cx="129564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7720" y="602352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630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74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84960" y="54482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 le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EAC-9673-43AE-9D71-17BB4664EC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6416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6E3-A2B8-4EEC-89ED-0E6757E5B8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size = 4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size = 8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ize = 4096 b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x 4  + (2d+1) x 8  &lt;=  40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1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3663-9666-4C33-8771-5B4946A2D3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ct key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at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ed down, to the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qu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quential tra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23880" y="2286000"/>
            <a:ext cx="212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9480" y="4191120"/>
            <a:ext cx="2296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 &lt;=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age &lt;=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2E11-83DF-4787-BE26-37F2308D19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order: 100.  Typical fill-factor: 6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fanout = 1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capac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4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12,900,700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3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  2,352,637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ften hold top levels in buffer po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1 =           1 page  =     8 K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2 =      133 pages =     1 M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3 = 17,689 pages = 133 MBytes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(K,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leaf where K belongs, 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overflow (2d keys or less), 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verflow (2d+1 keys), split node, insert in pa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eaf, keep K3 too in righ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oot splits, new root has 1 key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4572000"/>
          <a:ext cx="2895480" cy="685800"/>
        </p:xfrm>
        <a:graphic>
          <a:graphicData uri="http://schemas.openxmlformats.org/drawingml/2006/table">
            <a:tbl>
              <a:tblPr/>
              <a:tblGrid>
                <a:gridCol w="399960"/>
                <a:gridCol w="216000"/>
                <a:gridCol w="241200"/>
                <a:gridCol w="261360"/>
                <a:gridCol w="313200"/>
                <a:gridCol w="261360"/>
                <a:gridCol w="258840"/>
                <a:gridCol w="313200"/>
                <a:gridCol w="192240"/>
                <a:gridCol w="43812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11480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55308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5408280" y="3657600"/>
            <a:ext cx="10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ent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3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4191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4952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8600" y="4038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4880" y="3672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114440" y="41911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328-8C67-4C36-A5AE-4E69F898AD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8:47:12Z</dcterms:created>
  <dc:creator>Dan</dc:creator>
  <dc:description/>
  <dc:language>en-US</dc:language>
  <cp:lastModifiedBy>Administrator</cp:lastModifiedBy>
  <dcterms:modified xsi:type="dcterms:W3CDTF">2001-11-19T19:03:05Z</dcterms:modified>
  <cp:revision>5</cp:revision>
  <dc:subject/>
  <dc:title>Lecture 21: Hash Tables</dc:title>
</cp:coreProperties>
</file>