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FCD4-B1A6-4371-8089-E1240FC1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8C6B-A40B-4DA9-9719-1C632D1AD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929040" y="-144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929040" y="8624880"/>
            <a:ext cx="3005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-1440" y="8624880"/>
            <a:ext cx="3003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-1440" y="-1440"/>
            <a:ext cx="3003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E621-CD1F-4E2E-AA19-DE10011A5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29040" y="-144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29040" y="8624880"/>
            <a:ext cx="3005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-1440" y="8624880"/>
            <a:ext cx="3003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-1440" y="-1440"/>
            <a:ext cx="3003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48B1-A0F0-4330-96C7-C74CC7C3D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25560" y="4312800"/>
            <a:ext cx="5083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AD7A-F342-4FB2-88BA-AB8DBAA16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29040" y="-144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29040" y="8624880"/>
            <a:ext cx="3005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1440" y="8624880"/>
            <a:ext cx="3003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-1440" y="-1440"/>
            <a:ext cx="3003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C51-BF8A-4A3E-9086-25C31183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83B-EA5A-48F1-86B8-0EF42E98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BB2-8530-43CC-9D07-2D180AC4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E08-09D3-4E38-89D1-6A8EEEF7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6F4-E6D4-4631-857D-81CD439E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743-8709-45A7-89F9-13EE3FFF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FCF-7F8D-431B-9040-336A7DC3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E53-FDB5-496E-AE98-54E6B102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925-F861-4E64-B3FA-F05F96BF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2EA-A5A7-4FC1-92AD-768BC499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B18-2D6A-45C0-83A2-7E2D42D5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198-43B9-4368-B964-2A6BEB29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F456-2A5B-4A74-A939-BE4894BE0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16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0B2-770B-49C9-B958-211DCBE519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1D2-B9C0-4599-81B9-3E2BAB40A5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E70-90C2-4E9F-B4AC-C91E5CD1B5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888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4520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196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5592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716-DD0F-4AE4-A5AA-EB73569AAF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uste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any(name, city), Product(pid, mak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0600" y="3241800"/>
            <a:ext cx="320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=ma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id=“p04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2640" y="3200400"/>
            <a:ext cx="320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5715000"/>
            <a:ext cx="7924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5715000"/>
            <a:ext cx="15242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059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610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312408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5905080" y="499104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8381880" y="510516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6960" y="51055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8016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8048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858-8AC2-4313-ABB7-B86BF43886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e Search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mposite Search Key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on a combination of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 query: Every field value is equal to a constant value. E.g. wrt &lt;sal,age&gt; ind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=20 and sal =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query: Some field value is not a constant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=20; or age=20 and sal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7988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7988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7988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7988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7988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7988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7988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7988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3580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3580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3580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3580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4696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4696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4696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4696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80000" y="2589120"/>
            <a:ext cx="844560" cy="1127160"/>
          </a:xfrm>
          <a:custGeom>
            <a:avLst/>
            <a:gdLst/>
            <a:ahLst/>
            <a:rect l="l" t="t" r="r" b="b"/>
            <a:pathLst>
              <a:path w="532" h="710">
                <a:moveTo>
                  <a:pt x="0" y="0"/>
                </a:moveTo>
                <a:lnTo>
                  <a:pt x="531" y="70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40320" y="3605040"/>
            <a:ext cx="84240" cy="111240"/>
          </a:xfrm>
          <a:custGeom>
            <a:avLst/>
            <a:gdLst/>
            <a:ahLst/>
            <a:rect l="l" t="t" r="r" b="b"/>
            <a:pathLst>
              <a:path w="53" h="70">
                <a:moveTo>
                  <a:pt x="22" y="0"/>
                </a:moveTo>
                <a:lnTo>
                  <a:pt x="52" y="69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2887560"/>
            <a:ext cx="844560" cy="528840"/>
          </a:xfrm>
          <a:custGeom>
            <a:avLst/>
            <a:gdLst/>
            <a:ahLst/>
            <a:rect l="l" t="t" r="r" b="b"/>
            <a:pathLst>
              <a:path w="532" h="333">
                <a:moveTo>
                  <a:pt x="0" y="0"/>
                </a:moveTo>
                <a:lnTo>
                  <a:pt x="531" y="3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26280" y="3332160"/>
            <a:ext cx="98280" cy="84240"/>
          </a:xfrm>
          <a:custGeom>
            <a:avLst/>
            <a:gdLst/>
            <a:ahLst/>
            <a:rect l="l" t="t" r="r" b="b"/>
            <a:pathLst>
              <a:path w="62" h="53">
                <a:moveTo>
                  <a:pt x="14" y="0"/>
                </a:moveTo>
                <a:lnTo>
                  <a:pt x="61" y="52"/>
                </a:lnTo>
                <a:lnTo>
                  <a:pt x="0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80000" y="319104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32400" y="3914640"/>
            <a:ext cx="92160" cy="98640"/>
          </a:xfrm>
          <a:custGeom>
            <a:avLst/>
            <a:gdLst/>
            <a:ahLst/>
            <a:rect l="l" t="t" r="r" b="b"/>
            <a:pathLst>
              <a:path w="58" h="62">
                <a:moveTo>
                  <a:pt x="18" y="0"/>
                </a:moveTo>
                <a:lnTo>
                  <a:pt x="57" y="61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80000" y="349092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32400" y="4218120"/>
            <a:ext cx="92160" cy="95040"/>
          </a:xfrm>
          <a:custGeom>
            <a:avLst/>
            <a:gdLst/>
            <a:ahLst/>
            <a:rect l="l" t="t" r="r" b="b"/>
            <a:pathLst>
              <a:path w="58" h="60">
                <a:moveTo>
                  <a:pt x="18" y="0"/>
                </a:moveTo>
                <a:lnTo>
                  <a:pt x="57" y="59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80000" y="4089240"/>
            <a:ext cx="844560" cy="601920"/>
          </a:xfrm>
          <a:custGeom>
            <a:avLst/>
            <a:gdLst/>
            <a:ahLst/>
            <a:rect l="l" t="t" r="r" b="b"/>
            <a:pathLst>
              <a:path w="532" h="379">
                <a:moveTo>
                  <a:pt x="0" y="378"/>
                </a:moveTo>
                <a:lnTo>
                  <a:pt x="531" y="0"/>
                </a:lnTo>
                <a:lnTo>
                  <a:pt x="0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27720" y="408924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0" y="22"/>
                </a:moveTo>
                <a:lnTo>
                  <a:pt x="60" y="0"/>
                </a:lnTo>
                <a:lnTo>
                  <a:pt x="15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80000" y="4464000"/>
            <a:ext cx="844560" cy="523800"/>
          </a:xfrm>
          <a:custGeom>
            <a:avLst/>
            <a:gdLst/>
            <a:ahLst/>
            <a:rect l="l" t="t" r="r" b="b"/>
            <a:pathLst>
              <a:path w="532" h="330">
                <a:moveTo>
                  <a:pt x="0" y="329"/>
                </a:moveTo>
                <a:lnTo>
                  <a:pt x="531" y="0"/>
                </a:lnTo>
                <a:lnTo>
                  <a:pt x="0" y="3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6280" y="4464000"/>
            <a:ext cx="9828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0" y="17"/>
                </a:moveTo>
                <a:lnTo>
                  <a:pt x="61" y="0"/>
                </a:lnTo>
                <a:lnTo>
                  <a:pt x="14" y="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80000" y="3714840"/>
            <a:ext cx="844560" cy="1573200"/>
          </a:xfrm>
          <a:custGeom>
            <a:avLst/>
            <a:gdLst/>
            <a:ahLst/>
            <a:rect l="l" t="t" r="r" b="b"/>
            <a:pathLst>
              <a:path w="532" h="991">
                <a:moveTo>
                  <a:pt x="0" y="990"/>
                </a:moveTo>
                <a:lnTo>
                  <a:pt x="531" y="0"/>
                </a:lnTo>
                <a:lnTo>
                  <a:pt x="0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50040" y="3714840"/>
            <a:ext cx="74520" cy="118800"/>
          </a:xfrm>
          <a:custGeom>
            <a:avLst/>
            <a:gdLst/>
            <a:ahLst/>
            <a:rect l="l" t="t" r="r" b="b"/>
            <a:pathLst>
              <a:path w="47" h="75">
                <a:moveTo>
                  <a:pt x="0" y="52"/>
                </a:moveTo>
                <a:lnTo>
                  <a:pt x="46" y="0"/>
                </a:lnTo>
                <a:lnTo>
                  <a:pt x="25" y="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0000" y="3414600"/>
            <a:ext cx="844560" cy="973080"/>
          </a:xfrm>
          <a:custGeom>
            <a:avLst/>
            <a:gdLst/>
            <a:ahLst/>
            <a:rect l="l" t="t" r="r" b="b"/>
            <a:pathLst>
              <a:path w="532" h="613">
                <a:moveTo>
                  <a:pt x="0" y="612"/>
                </a:moveTo>
                <a:lnTo>
                  <a:pt x="531" y="0"/>
                </a:lnTo>
                <a:lnTo>
                  <a:pt x="0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374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0" y="36"/>
                </a:moveTo>
                <a:lnTo>
                  <a:pt x="54" y="0"/>
                </a:lnTo>
                <a:lnTo>
                  <a:pt x="20" y="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8040" y="2589120"/>
            <a:ext cx="841320" cy="1127160"/>
          </a:xfrm>
          <a:custGeom>
            <a:avLst/>
            <a:gdLst/>
            <a:ahLst/>
            <a:rect l="l" t="t" r="r" b="b"/>
            <a:pathLst>
              <a:path w="530" h="710">
                <a:moveTo>
                  <a:pt x="529" y="0"/>
                </a:moveTo>
                <a:lnTo>
                  <a:pt x="0" y="709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8040" y="3605040"/>
            <a:ext cx="82440" cy="111240"/>
          </a:xfrm>
          <a:custGeom>
            <a:avLst/>
            <a:gdLst/>
            <a:ahLst/>
            <a:rect l="l" t="t" r="r" b="b"/>
            <a:pathLst>
              <a:path w="52" h="70">
                <a:moveTo>
                  <a:pt x="51" y="26"/>
                </a:moveTo>
                <a:lnTo>
                  <a:pt x="0" y="69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8040" y="2887560"/>
            <a:ext cx="841320" cy="528840"/>
          </a:xfrm>
          <a:custGeom>
            <a:avLst/>
            <a:gdLst/>
            <a:ahLst/>
            <a:rect l="l" t="t" r="r" b="b"/>
            <a:pathLst>
              <a:path w="530" h="333">
                <a:moveTo>
                  <a:pt x="529" y="0"/>
                </a:moveTo>
                <a:lnTo>
                  <a:pt x="0" y="332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8040" y="333216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35"/>
                </a:moveTo>
                <a:lnTo>
                  <a:pt x="0" y="5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8040" y="319104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8040" y="3914640"/>
            <a:ext cx="88920" cy="98640"/>
          </a:xfrm>
          <a:custGeom>
            <a:avLst/>
            <a:gdLst/>
            <a:ahLst/>
            <a:rect l="l" t="t" r="r" b="b"/>
            <a:pathLst>
              <a:path w="56" h="62">
                <a:moveTo>
                  <a:pt x="55" y="29"/>
                </a:moveTo>
                <a:lnTo>
                  <a:pt x="0" y="61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8040" y="349092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8040" y="4218120"/>
            <a:ext cx="88920" cy="95040"/>
          </a:xfrm>
          <a:custGeom>
            <a:avLst/>
            <a:gdLst/>
            <a:ahLst/>
            <a:rect l="l" t="t" r="r" b="b"/>
            <a:pathLst>
              <a:path w="56" h="60">
                <a:moveTo>
                  <a:pt x="55" y="29"/>
                </a:moveTo>
                <a:lnTo>
                  <a:pt x="0" y="59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8040" y="3414600"/>
            <a:ext cx="841320" cy="973080"/>
          </a:xfrm>
          <a:custGeom>
            <a:avLst/>
            <a:gdLst/>
            <a:ahLst/>
            <a:rect l="l" t="t" r="r" b="b"/>
            <a:pathLst>
              <a:path w="530" h="613">
                <a:moveTo>
                  <a:pt x="529" y="612"/>
                </a:moveTo>
                <a:lnTo>
                  <a:pt x="0" y="0"/>
                </a:lnTo>
                <a:lnTo>
                  <a:pt x="529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280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34" y="64"/>
                </a:moveTo>
                <a:lnTo>
                  <a:pt x="0" y="0"/>
                </a:lnTo>
                <a:lnTo>
                  <a:pt x="54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8040" y="4089240"/>
            <a:ext cx="841320" cy="60192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8040" y="4089240"/>
            <a:ext cx="95040" cy="88920"/>
          </a:xfrm>
          <a:custGeom>
            <a:avLst/>
            <a:gdLst/>
            <a:ahLst/>
            <a:rect l="l" t="t" r="r" b="b"/>
            <a:pathLst>
              <a:path w="60" h="56">
                <a:moveTo>
                  <a:pt x="44" y="55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28040" y="4386240"/>
            <a:ext cx="841320" cy="60156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8040" y="4386240"/>
            <a:ext cx="9504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44" y="54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8040" y="3714840"/>
            <a:ext cx="841320" cy="1573200"/>
          </a:xfrm>
          <a:custGeom>
            <a:avLst/>
            <a:gdLst/>
            <a:ahLst/>
            <a:rect l="l" t="t" r="r" b="b"/>
            <a:pathLst>
              <a:path w="530" h="991">
                <a:moveTo>
                  <a:pt x="529" y="990"/>
                </a:moveTo>
                <a:lnTo>
                  <a:pt x="0" y="0"/>
                </a:lnTo>
                <a:lnTo>
                  <a:pt x="529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8040" y="3714840"/>
            <a:ext cx="73080" cy="118800"/>
          </a:xfrm>
          <a:custGeom>
            <a:avLst/>
            <a:gdLst/>
            <a:ahLst/>
            <a:rect l="l" t="t" r="r" b="b"/>
            <a:pathLst>
              <a:path w="46" h="75">
                <a:moveTo>
                  <a:pt x="21" y="74"/>
                </a:moveTo>
                <a:lnTo>
                  <a:pt x="0" y="0"/>
                </a:lnTo>
                <a:lnTo>
                  <a:pt x="45" y="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89280" y="43084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133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3240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23120" y="3338640"/>
            <a:ext cx="1206360" cy="1199880"/>
          </a:xfrm>
          <a:custGeom>
            <a:avLst/>
            <a:gdLst/>
            <a:ahLst/>
            <a:rect l="l" t="t" r="r" b="b"/>
            <a:pathLst>
              <a:path w="760" h="756">
                <a:moveTo>
                  <a:pt x="0" y="0"/>
                </a:moveTo>
                <a:lnTo>
                  <a:pt x="759" y="0"/>
                </a:lnTo>
                <a:lnTo>
                  <a:pt x="759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23120" y="363708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23120" y="3936960"/>
            <a:ext cx="1206360" cy="180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23120" y="423720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89640" y="3408480"/>
            <a:ext cx="50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88920" y="37051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88560" y="4010040"/>
            <a:ext cx="44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j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1336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3240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23240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3240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1336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133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11880" y="303228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11560" y="30322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29520" y="30322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68280" y="55069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&lt;sal, 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68280" y="37051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age, 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59920" y="3705120"/>
            <a:ext cx="69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57760" y="550692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&lt;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80240" y="31082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92840" y="28256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92840" y="250992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1,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81680" y="34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3,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94640" y="462456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2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94640" y="43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1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81680" y="490680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75,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81680" y="52070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80,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613720" y="25099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613720" y="28065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13720" y="31082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151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6151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615160" y="46083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15160" y="490680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615160" y="5207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3480" y="4646520"/>
            <a:ext cx="1646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Data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b2b2b2"/>
                </a:solidFill>
                <a:latin typeface="Book Antiqua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46160" y="5789520"/>
            <a:ext cx="215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Data entries in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&lt;sal,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66400" y="5789520"/>
            <a:ext cx="162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Data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9234db"/>
                </a:solidFill>
                <a:latin typeface="Book Antiqua"/>
              </a:rPr>
              <a:t>&lt;sa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55840" y="1576440"/>
            <a:ext cx="3876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Examples of composite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indexes using lexicographic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46F-7387-4FED-9856-742CD9E63F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21F-7FC2-450F-B9F0-8D7ADFDBC8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E47-D461-49F3-9D01-4F2B5CE481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226-F62C-483C-8DCD-BCCA2F66A4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4.1, 4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+ trees (4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 (4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6CD-9271-4666-A81E-D03D4132FA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2388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94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F94-F8FB-4F24-B44D-07DDE2996D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"/>
          <p:cNvSpPr/>
          <p:nvPr/>
        </p:nvSpPr>
        <p:spPr>
          <a:xfrm>
            <a:off x="5865840" y="38862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K3,    ) to pa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41148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AD2-94A3-4EFA-9A3E-592D501FB8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F80-E09E-40CE-BA5E-D8D939868E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484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7BE-8755-4047-A457-200071B61F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B7B-0B14-4D04-B856-0AA20599C7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6852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4EA-7AD5-4C19-9314-A58048E369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6888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F5B-EF7D-4BCA-AD16-652F75A98A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6816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9D1-D5CE-4C49-B8FC-602E36085F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6996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9A4-E8D8-49BD-8C00-BC9D4A4E38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852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3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175-CAC2-463D-968A-88D0CF7C8F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0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2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3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4A6-86E8-408B-A26D-C84F437445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1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2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3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4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6852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4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E0F-130D-4E09-A879-2C6058DF59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1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2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3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4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4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3DA-8BA1-4966-9743-98E6BB29F2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3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678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F42-F9FD-4135-A79B-CE90501E173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888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80F-BEF0-45D1-82F8-AC368BD6D8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B2A-FAF1-4098-B76C-40F5590CEC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6BF-9F94-42DC-9C87-89AA6C4448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561-1980-4644-ABC2-252FD77672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905120" y="33526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905120" y="45720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419720" y="3276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419720" y="4038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419720" y="4876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19720" y="5715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 flipV="1">
            <a:off x="259092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3733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3962520"/>
            <a:ext cx="1828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19112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645-5F89-4182-B427-8B094ED167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index: pointer to lowest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18402"/>
              <a:gd name="adj2" fmla="val -320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2666880"/>
            <a:ext cx="1066680" cy="1143000"/>
          </a:xfrm>
          <a:prstGeom prst="wedgeRoundRectCallout">
            <a:avLst>
              <a:gd name="adj1" fmla="val -88986"/>
              <a:gd name="adj2" fmla="val 96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but need to search here t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4E8-A27E-4F09-9819-F5421528D0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pointer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west new search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15 ? 35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05740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572000" y="28195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4419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 flipV="1">
            <a:off x="2743200" y="281916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4320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267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27259"/>
              <a:gd name="adj2" fmla="val -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4191120"/>
            <a:ext cx="1066680" cy="838080"/>
          </a:xfrm>
          <a:prstGeom prst="wedgeRoundRectCallout">
            <a:avLst>
              <a:gd name="adj1" fmla="val -88986"/>
              <a:gd name="adj2" fmla="val -122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ok to search fro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118-7611-4E98-A5D0-5750C70AE0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</dc:creator>
  <dc:description/>
  <dc:language>en-US</dc:language>
  <cp:lastModifiedBy>Administrator</cp:lastModifiedBy>
  <dcterms:modified xsi:type="dcterms:W3CDTF">2001-11-16T18:52:15Z</dcterms:modified>
  <cp:revision>16</cp:revision>
  <dc:subject/>
  <dc:title>PowerPoint Presentation</dc:title>
</cp:coreProperties>
</file>