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E949A0-9567-4643-8693-E5145362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A9D112-A2B0-4BDD-AF7F-FD77F6E8E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57480" y="-1440"/>
            <a:ext cx="3027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-1440" y="8818560"/>
            <a:ext cx="3025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-1440" y="-1440"/>
            <a:ext cx="3025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8CA0AB-D275-4429-A144-DD00DECB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57480" y="-1440"/>
            <a:ext cx="3027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-1440" y="8818560"/>
            <a:ext cx="3025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1440" y="-1440"/>
            <a:ext cx="3025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CA1190-523A-434E-B340-6D47FF14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D83DDB-5520-4011-ABBB-456BD2EC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7114B8-BA02-446A-A363-95BD6C53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8B3489-7ECE-42DE-88F1-0AB7D4D3E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D0C-B421-4C78-8A5C-0CC032B7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0A1-D473-4C95-A929-80060238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D55-20C5-4D9B-A472-AFCF4E74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078-4ABC-4DAE-A325-847C2248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2FD-85C7-4BD4-A277-B0A97DFC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6D0-50E3-499C-871F-8E6100E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41F-D189-4307-B5B8-F139F4A6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3F5-F04B-4643-9EAC-CA56E8C1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686-6556-40E3-A102-E8D7FEC6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EDC-2EC9-44DA-A0AE-96B1E0B0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BF3-7AB4-41F9-84C0-D556691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47A-02F3-424C-891E-1F17457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AEF1-8B82-4F2B-A44E-F4C65DA09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643-3B4B-4AAB-BA26-A7846711FE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nning Records Across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cords are very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medium size: saves space in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34290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3429000"/>
            <a:ext cx="3505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429000"/>
            <a:ext cx="914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24680" y="3429000"/>
            <a:ext cx="3812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7000" y="27050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2743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14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57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4868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9168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4724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4864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4320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486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4C6-C398-42E6-8073-51D8776B8E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005-F562-4A98-A1D3-E76ADBA40E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56F-D915-44C8-9514-99F7246B0B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377-28AB-4690-8048-D427FD698A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point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80A-D2D9-44AA-BD2E-05C3D057F0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B95-B970-4152-A795-01269695E4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and each record have a physical address that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ylind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ck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ck within th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cords: an offset in t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his is in the block’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F8D-249B-4B56-A749-C271B2CD36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ddress: a string of bytes (10-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: can blocks/records 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eed translation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3880" y="396252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FF9-AA13-471A-AD13-FE93BB9EDE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block is read in main memory, it receives a main memory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nother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23880" y="411480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4B3-665F-48A6-9B28-F5D68A1584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: 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the process of replacing a physical/logical pointer with a main memory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 translation table, but subsequent references are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B49-0E53-4AB4-977B-19D544A478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es (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4.1, 4.2, 4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E5A-4AD2-45F9-AA7D-4EEECBBE3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7212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000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0524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6840" y="270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65960" y="20224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6880" y="19461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3000" y="5105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480060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4844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8632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3657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78600" y="3851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9840" y="2502000"/>
            <a:ext cx="58428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3276720"/>
            <a:ext cx="2819520" cy="533160"/>
          </a:xfrm>
          <a:custGeom>
            <a:avLst/>
            <a:gdLst/>
            <a:ahLst/>
            <a:rect l="l" t="t" r="r" b="b"/>
            <a:pathLst>
              <a:path w="1776" h="336">
                <a:moveTo>
                  <a:pt x="1776" y="0"/>
                </a:moveTo>
                <a:cubicBezTo>
                  <a:pt x="1704" y="120"/>
                  <a:pt x="1632" y="240"/>
                  <a:pt x="1392" y="288"/>
                </a:cubicBezTo>
                <a:cubicBezTo>
                  <a:pt x="1152" y="336"/>
                  <a:pt x="568" y="328"/>
                  <a:pt x="336" y="288"/>
                </a:cubicBezTo>
                <a:cubicBezTo>
                  <a:pt x="104" y="248"/>
                  <a:pt x="52" y="1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4724280"/>
            <a:ext cx="58392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3429000"/>
            <a:ext cx="2819520" cy="2171880"/>
          </a:xfrm>
          <a:custGeom>
            <a:avLst/>
            <a:gdLst/>
            <a:ahLst/>
            <a:rect l="l" t="t" r="r" b="b"/>
            <a:pathLst>
              <a:path w="1776" h="1368">
                <a:moveTo>
                  <a:pt x="1776" y="1296"/>
                </a:moveTo>
                <a:cubicBezTo>
                  <a:pt x="1348" y="1332"/>
                  <a:pt x="920" y="1368"/>
                  <a:pt x="624" y="1152"/>
                </a:cubicBezTo>
                <a:cubicBezTo>
                  <a:pt x="328" y="936"/>
                  <a:pt x="164" y="46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267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53341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190512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434340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934-1834-4DE9-8A94-45C34CE149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block is read in main memory, swizzle all pointers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 dem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wizzle only when user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wizz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ways use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F54-A23B-4780-8DFD-B79DF14A4E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blocks return to disk: pointers need unswizz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: someone else may point to this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ned blocks: we don’t allow it to retur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 list of references to thi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549-3DCD-4419-9A40-FA8FC00659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6F6-740C-4B90-8431-CD22D887D6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81F-454B-48DA-B005-18320654C0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884-60C3-46DF-BDA5-72B823DAF8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32D-447E-427E-866C-663A41565A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E81-3C9E-479F-8FEA-5378C656FB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lowest new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BFA-5C33-4247-A4C7-B7E7BBEE4E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920" y="281952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997-9345-4D7F-A47F-A86BBD67C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D27-DBCC-4769-9F38-BD441E0BD8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323-75B1-4D6E-8E65-3015F57B8D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196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5592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3FA-2242-4F95-8485-DD6AA685E7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uste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ny(name, city), Product(pid, ma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920" y="324180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ame=m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id=“p04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7960" y="320040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57150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625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5715000"/>
            <a:ext cx="1524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7220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059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610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312408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5905080" y="499104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8381880" y="51051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6960" y="51055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8016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048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F92-BCC0-4448-AC04-1B6D5C75D5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ing obj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is represented as a record plus object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o do with repeating fields (e.g. mak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2360" y="2819520"/>
            <a:ext cx="56124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&lt;Product&gt; 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::mak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44D-577A-434C-B478-490657E78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63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088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4092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7F3-8CE3-42DE-B72D-CE73ADE124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83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348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3028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0012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616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D28-C875-44AB-BF4C-B95797A1A5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12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880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,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44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264-7DC1-494A-9C0D-7C37886305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s With Repeating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48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0862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911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6201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108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EE1-23CE-4EAC-88F4-78CA0991D6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E8A-47E7-48F6-9702-3C254FF473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</dc:creator>
  <dc:description/>
  <dc:language>en-US</dc:language>
  <cp:lastModifiedBy>uw</cp:lastModifiedBy>
  <dcterms:modified xsi:type="dcterms:W3CDTF">2001-11-14T23:12:10Z</dcterms:modified>
  <cp:revision>10</cp:revision>
  <dc:subject/>
  <dc:title>PowerPoint Presentation</dc:title>
</cp:coreProperties>
</file>