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62AF-D6DD-43A4-A35B-8C9EF7BB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AFB6-D7B1-4CB0-9D89-B89DD1AC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2904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E061-A3BB-4629-AFC4-05A54E7B3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2904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CDF0-E8F5-44C8-841E-0519AD662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2904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7AD5-7AAB-43FB-8581-71DD31428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92904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DCF3-3534-4E2C-8A39-F81BEE9E9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2760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2760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-1440" y="8624880"/>
            <a:ext cx="3004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-1440" y="-1440"/>
            <a:ext cx="300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3C53-7594-4A8A-8EBC-85F2F7F08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2904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8545-EC00-4AE8-9330-5258535D7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904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697-524F-421B-AD0E-70174CD25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2904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300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B5D-C8B1-49D1-82B7-AD424FCF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647-D303-4C0E-BBC0-62B8BBB9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AEE-5DC9-48F4-82DE-6C6AA154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87F-386C-4F86-BE7E-0B48B204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E0A-91AA-4696-9CFC-2552D7E0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63B-DF05-4374-9485-4E7942BE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484-C7F9-44B5-B5F8-3782E84E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E30-CC6F-4E82-B877-05E9132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96C-62E5-4BAA-AC07-72801398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083-9852-461F-9213-00CE4AC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6BF-23F6-4B57-B3F8-3FB7DD9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632-4FA4-4698-807C-FBC8D273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6AE0-154E-4E47-A7F6-4C90CFC6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8: DMBS Overview and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28A-E995-48BF-B492-46BCE57102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280" y="1295280"/>
            <a:ext cx="67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d names of people who bought telephon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5520" y="23702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52640" y="23702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4120" y="23544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7720" y="43718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95480" y="437184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47720" y="437184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7720" y="437184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52640" y="48830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68480" y="48830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27273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40" y="532296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0600" y="530712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66640" y="45813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0600" y="3200400"/>
            <a:ext cx="207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=“telephon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8080" y="24382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1920" y="426708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4080" y="21337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5280" y="449568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373392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3240" y="373392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373392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73392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33720" y="3962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52680" y="3962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6480" y="4038480"/>
            <a:ext cx="125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=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0880" y="358128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84880" y="2446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2360" y="2446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43840" y="2430360"/>
            <a:ext cx="174600" cy="180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7440" y="44481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15200" y="44481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67440" y="44481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67440" y="44481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72000" y="49593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88200" y="495936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78640" y="2803680"/>
            <a:ext cx="180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14360" y="53989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99240" y="538308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79880" y="403848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0320" y="3276720"/>
            <a:ext cx="207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=“telephon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7440" y="2514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1280" y="434340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5360" y="45720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3809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62960" y="3809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3809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809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553080" y="40381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77240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3200" y="4648320"/>
            <a:ext cx="125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=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0600" y="365760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29718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3048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98108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98108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1080" y="6137280"/>
            <a:ext cx="66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ut what if we’re only looking for Bob’s purcha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1E5-7FB7-4055-8EEA-E93E75A68E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0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0560" y="1793880"/>
            <a:ext cx="834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mic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of a transaction happen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sist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 transaction is consistent, and the database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nsistent state, then it will end in a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execution of one transaction is isolated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 a transaction commits, its effects persist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4AC-F8E7-46AB-BB0D-2C69BCE97B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Transaction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" y="1819440"/>
            <a:ext cx="74653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irline reservation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check if a sea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reserve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Bad scenario: (but very comm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1 -  finds a seat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2 - finds the same seat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1 - reserves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2 - reserves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stomer 1 will not be happy; spends night in airport ho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5AC-864B-4766-BCD2-3B8A7157E5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800" y="179388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 Memor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s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080" y="25146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00 nano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08240" y="2362320"/>
            <a:ext cx="295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0 G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ti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cess a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5 m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, ro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cords “clo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6200" y="2438280"/>
            <a:ext cx="32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MB/S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 GB typ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ly sequent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120" y="54864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s time 10 nan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EED-88A4-4F5D-B5A1-361C4485B7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, mos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 512MB are common on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atabases could fit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ndustry trend: Main Memor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Time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ssue is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D63-CA82-4E47-BD96-B3D2551BFB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, cheaper tha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ith a main memory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49A-8CD0-42EF-A044-04FC24C2F2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209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221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1024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5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6172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9800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4296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344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01F-7EA1-43A2-A7E4-2610420131E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800" y="1066680"/>
            <a:ext cx="8701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B7D-A4CF-4A9D-99BB-32CD044544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ti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es or optical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slow: used for long term archiving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FE0-6D6E-4025-A679-1101CF26F3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248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251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262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286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289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293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295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093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3B4-C673-40EC-9FFD-2693FDA2B6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Overview (1.1, 1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orag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A95-B2AB-4B47-9F07-7D7EC30514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time = typically 1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s read/write one block at a time (typically 4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894-F4C5-425A-AEBF-02FCD5ECE7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 algorithms we care about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cost is given only by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illustrate here with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601-CFBF-4960-B431-27E2EB50E1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llustrates the difference in algorithm design when your data is not in main mem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ort 1Gb of data with 1Mb of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ises in many places in database system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839-723F-4817-A353-182834448F4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buffer page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buffer pag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088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2088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643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4184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9028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334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337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48D-9E4F-4283-A401-C9DB4337E5F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ss we read + write each page in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pages in the file =&gt; the number of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otal cos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: start with larger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1GB with 1MB memory in 10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914400" y="3200400"/>
                <a:ext cx="2590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914400" y="4191120"/>
                <a:ext cx="27669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7932960" y="140184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33680" y="191448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33680" y="251316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35120" y="354024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20800" y="533700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9800" y="166068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49800" y="217332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9800" y="294336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51240" y="422748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464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2132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7388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49800" y="1919160"/>
            <a:ext cx="31932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260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0236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772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83000" y="2433600"/>
            <a:ext cx="31932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83000" y="2689200"/>
            <a:ext cx="31932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56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56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8812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8812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40680" y="2433600"/>
            <a:ext cx="317520" cy="25704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40680" y="2689200"/>
            <a:ext cx="317520" cy="25884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5928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5928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5928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62600" y="32018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6260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6260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6260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11840" y="448632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11840" y="474192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1840" y="499896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1840" y="525636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11840" y="551196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1840" y="57690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11840" y="602604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11840" y="628164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23720" y="62784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2132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976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7388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49800" y="1405080"/>
            <a:ext cx="31932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260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0236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772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464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04720" y="14144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1280" y="14018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4756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2384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0012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7640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22520" y="1401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95000" y="19288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0012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128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756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3320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66680" y="19144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1360" y="1914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23600" y="2451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33320" y="2697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85520" y="2397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76160" y="2664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58960" y="2417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47800" y="2664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49320" y="26640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09240" y="3208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11040" y="3476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20400" y="3722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11040" y="3989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7600" y="3476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17600" y="3722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96800" y="3957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63600" y="47480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63600" y="49957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63600" y="5251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63600" y="55198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63600" y="5765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63600" y="60213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59280" y="320976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38480" y="18288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38480" y="22860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0120" y="304812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0120" y="43434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21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45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40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34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2944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53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47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42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5124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53348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4016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52240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29440" y="220968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512040" y="220968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147080" y="2209680"/>
            <a:ext cx="212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429680" y="2209680"/>
            <a:ext cx="212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33840" y="2971800"/>
            <a:ext cx="424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098680" y="297180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40400" y="2971800"/>
            <a:ext cx="424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7005240" y="2971800"/>
            <a:ext cx="353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7760" y="4267080"/>
            <a:ext cx="847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016320" y="4267080"/>
            <a:ext cx="919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219320"/>
            <a:ext cx="0" cy="548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528-918F-43A3-8F2E-BC52C91890B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more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use it to improv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D07-1BAA-4F33-BB2E-4B04B40D37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28B-2DC3-44A2-B8E8-9F5BB107B67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/R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48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48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A74-5AA6-42D0-AEA4-3E4F3B206E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have now M/R (M/B – 1)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517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520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0B4-B4FA-4E0F-9F11-0AC2CF68F57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have now M/R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557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560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464-C7B5-4AFD-8C61-B99BEC57F0B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aïve Databas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data in text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udents(sid, name, dept), Courses(cid, name), Takes(sid,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 #sid#INT #name#STR#dept#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#cid#INT#name#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#sid#INT#cid#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th#123#C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#456#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1FB-6891-4D40-A21D-B9FF8EA14A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diffe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 = 4KB,  M = 64MB, R = 0.1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:  runs of length M/R = 64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6400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:  runs increase by a factor of M/B – 1 = 1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10,240,000,000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3:  runs increase by a factor of M/B – 1 = 1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has so much dat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24280" y="1371600"/>
                <a:ext cx="3560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DB8-7C6B-49E7-B113-FCC816BED5D0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aïv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/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schema file to determin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as nested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7960" y="2514600"/>
            <a:ext cx="775044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s.nam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s, Takes, Cours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s.sid=Takes.sid AND Takes.cid=Courses.c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ND Courses.name=‘Databas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2B3-5FC9-4625-9110-B9B0CB0DAF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the Naïv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ple layout is rigid: what do we do on updat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is expensive: always read the entire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processing is by “brute force”: more clever ways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D6B-A8E0-4D8F-A313-5084BD417B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the Naïv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way to buffer data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liability: we can lose data in a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27A-DC21-4AF6-97DB-48B1FD9FC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DBM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larg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queries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ultiple users to access the database concurrently and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durability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will we do all thi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A2E-C9B5-41FA-B2E9-1D8E615D5C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4320" y="1217880"/>
            <a:ext cx="3362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/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960" y="198108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4760" y="434340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173040"/>
            <a:ext cx="2971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ana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ging/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9810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962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24080" y="25905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FB8-FF69-4CD5-98F3-40A330D33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54720" y="22226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41840" y="22226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3320" y="22068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72080" y="421956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19840" y="42195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72080" y="42195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72080" y="42195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76640" y="47307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92840" y="473076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8480" y="350676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48480" y="25797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03840" y="321948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89520" y="3232080"/>
            <a:ext cx="76320" cy="14616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000" y="51703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04600" y="515448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1000" y="442908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0640" y="320040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85560" y="320040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07280" y="22906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32600" y="4114800"/>
            <a:ext cx="2529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Simple Nested Loop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5760" y="313992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04080" y="21337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240" y="3048120"/>
            <a:ext cx="3734640" cy="161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Q.s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07600" y="563868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 of R.A. ops, with choice of alg for each 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1160" y="6248520"/>
            <a:ext cx="79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find best plan.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actic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worst p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480" y="11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4840" y="28954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D31-747F-459F-A6FC-1A823AE54F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</dc:creator>
  <dc:description/>
  <dc:language>en-US</dc:language>
  <cp:lastModifiedBy>uw</cp:lastModifiedBy>
  <dcterms:modified xsi:type="dcterms:W3CDTF">2001-11-19T19:55:07Z</dcterms:modified>
  <cp:revision>18</cp:revision>
  <dc:subject/>
  <dc:title>PowerPoint Presentation</dc:title>
</cp:coreProperties>
</file>