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6FFA-4CA1-469F-B79B-81D9C4EEB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, like HTML, derived from 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 : extensible set of element t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lexible data representation th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al or object-oriented data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, missing elements,multiple instances of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can have variable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 : example of semistructur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A318-A28A-493D-91AE-5B932E07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9947-EBBC-4CA1-8B01-8F16316F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EC0E-73FF-45E8-A3E8-3BB812064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7072-A151-40E4-A7B6-15D6C26A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82F3-E0E0-4288-9F8A-E562A416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0E01-4835-4034-97B9-1A0000B2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A688-FDF6-4A19-9FBE-38A30293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3A16-4351-4B1D-9FDC-BEFA3C63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B07A-A63E-4AF7-8679-C3167D59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869F-C87C-4118-8656-9FCFC536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8E39-46A7-400C-BF7A-D698D7BE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826E-3743-4808-A73D-BEB2CB9A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EC0D-6CE6-4E5D-A90A-4E49AACF2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7: XPath and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Nov. 7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Qual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/author[firstname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first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first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last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last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Qual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author[firstname][address[//zip][city]]/last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last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… &lt;/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last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last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… &lt;/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last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Qual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@price &lt; “60”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author/@age &lt; “25”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author/text()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550280" cy="48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ny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the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ment under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/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//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t any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/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paper at any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per|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@pric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/book/@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ibute i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/book/[@price&lt;“55”]/author/lastnam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Xpath expression, p, establishes a relation betwe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ext n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ther words, p denotes a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[p] : Nodes -&gt; {Node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/fir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rt/*/*/subpart/../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what does it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oot and the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1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2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b is the “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ocument el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“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is above b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=  returns the document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=  returns the 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 ? Because we may have comments before and after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; they become siblings of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dvanced xm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navigate along 13 ax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ncestor-or-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ttrib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scendant-or-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ame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ce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hild::author/child:last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=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hor/last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hild::author/descendant::z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hor//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hild::author/parent::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=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hor/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hild::author/attribute::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hor/@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Quil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which is based on XML-Q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w3.org/TR/xquery/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/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Query data mod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ed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WR (“Flower”)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... LET... FOR... LE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Query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pa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 titles published after 199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5640" y="2895480"/>
            <a:ext cx="5756040" cy="157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03600" y="4876920"/>
            <a:ext cx="271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author of a book by Morgan Kaufmann, list all books she publish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3440" y="2971800"/>
            <a:ext cx="7305480" cy="30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ocument("bib.xml"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“Morgan Kaufmann”]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3440" y="6019920"/>
            <a:ext cx="63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 function that eliminates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Jones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expr  -- bind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value in the list exp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xpr   -- bind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entire list exp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for common subexpressions and for aggreg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3480" y="5181480"/>
            <a:ext cx="86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a (aggregate) function that returns the number of el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38320" y="1828800"/>
            <a:ext cx="6873840" cy="271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  <a:ea typeface="Courier New"/>
              </a:rPr>
              <a:t>big_publisher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Unicode MS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Unicode MS"/>
                <a:ea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Arial Unicode MS"/>
                <a:ea typeface="Courier New"/>
              </a:rPr>
              <a:t>distinc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(document("bib.xml")//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Unicode MS"/>
                <a:ea typeface="Courier New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:= document("bib.xml")/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  <a:ea typeface="Courier New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= </a:t>
            </a:r>
            <a:r>
              <a:rPr b="0" lang="en-US" sz="20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Unicode MS"/>
                <a:ea typeface="Courier New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Arial Unicode MS"/>
                <a:ea typeface="Courier New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) &gt; 1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Unicode MS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  <a:ea typeface="Courier New"/>
              </a:rPr>
              <a:t>big_publisher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books whose price is larger than aver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760" y="2971800"/>
            <a:ext cx="5656320" cy="178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ocument("bib.xml"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ocument("bib.xml"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-LET-WHERE-RETURN  = FLW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37480" y="3492360"/>
            <a:ext cx="203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/LET Cla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2320" y="4594320"/>
            <a:ext cx="1803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02280" y="5726160"/>
            <a:ext cx="190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54480" y="40212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54480" y="514656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75960" y="39546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75960" y="5195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77040" y="624852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ce of Xquery data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de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llection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120" y="2438280"/>
            <a:ext cx="575604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83480" y="2286000"/>
            <a:ext cx="32572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040" y="4343400"/>
            <a:ext cx="57222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38800" y="4343400"/>
            <a:ext cx="25210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ed and unordered 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an ordered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ct(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an unordered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collection (several authors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0200" y="4873680"/>
            <a:ext cx="4929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73400" y="4721400"/>
            <a:ext cx="27435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 of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131840"/>
            <a:ext cx="8763120" cy="55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 &lt;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Addison-Wesley &lt;/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Serge Abiteboul &lt;/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&lt;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ick &lt;/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Hull &lt;/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Victor Vianu &lt;/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Foundations of Databases &lt;/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1995 &lt;/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book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“55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Freeman &lt;/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Jeffrey D. Ullman &lt;/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Principles of Database and Knowledge Bas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1998 &lt;/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collections in expressions 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st of n pri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 0.7         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st of n numb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quant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st of n x m numbers ?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 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quant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quant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quant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quant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6720" y="1905120"/>
            <a:ext cx="769140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1752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_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Courier New"/>
              </a:rPr>
              <a:t>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document("bib.xml")/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text()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document("bib.xml")/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SORT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DESCEN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SORT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_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ing arugments: refer to the name space of the RETURN clause, not the FOR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96840" y="2057400"/>
            <a:ext cx="440136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1752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IN /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@type = "Journal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edi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SORT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(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ential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6680" y="2209680"/>
            <a:ext cx="5590440" cy="26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TISF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"sailing"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"windsurfing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al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54760" y="2362320"/>
            <a:ext cx="5757840" cy="21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TISF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"sailing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Stuff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F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ealing with order in the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s some edges in the result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ive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: arbitrary recu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haps more restrictions in the fu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 for XML document navigation and node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ommend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W3C (i.e. a stand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block for other W3C standar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SL Transformations (XSL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Link (XL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Pointer (XPoi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originally part of XSL – “XSL pattern languag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Simple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  &lt;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y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y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y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1998 &lt;/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y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paper/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  empty          (there were no pap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Restricted Kleene 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/auth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Serge Abiteboul &lt;/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Victor Vianu &lt;/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effrey D. Ullman &lt;/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/first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  &lt;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Text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/author/text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ge Abitebou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D. Ull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ck Hull doesn’t appear because he has firstname, 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Wild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/author/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first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first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last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last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ches any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Attribute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/@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“55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@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ans that price is has to be a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1-11-07T05:21:14Z</dcterms:modified>
  <cp:revision>3</cp:revision>
  <dc:subject/>
  <dc:title>PowerPoint Presentation</dc:title>
</cp:coreProperties>
</file>