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3B1-F332-4D7D-A37E-7738BC49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63B-6FF2-436C-A934-9A9BBEA0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E0A-23AF-464B-A878-F61C3E7F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249-A06D-41FC-90E3-89D2BAA3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165-831F-47FC-BA74-7537535B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063-17D1-4853-B6D0-24B6098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73D-AE64-4DFD-B6C7-72467372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604-6A2D-4F23-A53B-DBE3F73D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F4D-0F9C-4584-8523-F382FC3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2C5-5306-4C80-8725-2FA5E88D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D08-049D-4848-8035-CCCC2554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E28-09FF-46D7-9477-0DD3D6D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E2F-497A-4456-B51E-C21567F3D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2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CF8-4ED2-4D0A-B4D3-6F146AB35F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49E-B420-4C0E-9FAF-5C382F97D5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C58-8E02-44AE-9BF8-FA459A95F4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3F4-9A0A-4061-9424-596D81E48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Outer Joins and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atal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 &lt;name&gt; Gizmo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ore&gt;  Wiz &lt;/stor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 &lt;name&gt; Camera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ore&gt;  Ritz &lt;/stor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ore&gt;  Wiz &lt;/stor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  &lt;name&gt; OneClick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atal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8040" y="613728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on’t want to lose OneClick just because it never sol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7DA-04BF-4EC0-A0E9-624DC3468F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c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c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5D8-F72E-46CA-B856-C06BA46E2A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: Constraints and Trig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6 Ullman and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 properties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tion of the database may break these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handlers into the database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tial integrity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D59-0B20-439A-9707-C954BE66B1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Primary Key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ieStar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VARCHAR(255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CHAR(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ieStar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VARCHAR(255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CHAR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m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024-A5A1-4CC2-A471-18FB8F1168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ieStar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VARCHAR(255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CHAR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me, addres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2EB-A69A-4BEB-AC13-31DFE1C6AD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ieStar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VARCHAR(255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 CHAR(10)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CHAR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Name  CHAR(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m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ender, petNam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2D8-DCB9-46FA-A097-CAC8B3744A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edIn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FERENC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s(MovieNam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 IN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73B-2051-4DD7-B537-066CBA887B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ggre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 values (5.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00A-6059-4D6F-BB11-D372B967A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edIn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EIGN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ieN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ies(MovieNa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eName must be a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8CD-AA9F-41BC-B43B-2A0E483D02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Maintain th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change to DB, there are several possible viol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ew tuple with bogus foreign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 tuple to a bogus foreign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tuple in the referenced table with the referenced foreign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 tuple in the referenced table that changes the referenced foreign key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B17-3077-4A1B-B076-1818FC4197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int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, ActedIn has FK MovieNam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vi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y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atal Attraction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edIn(ActorName, Movie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ichael Douglas, Fatal Attr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: (Rick Moranis, Strange Br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E03-3555-4ADD-94AB-E387C1BA44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int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 for handling the chang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ject the update (defau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 (example: cascading dele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t update and delete actions independently in CREAT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ovies(MovieName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ELETE SET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UPDATE CAS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A7E-A895-476B-9594-622B7E743F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BCA-0712-4A64-A566-CB136B4E5E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99120" y="3622680"/>
            <a:ext cx="41266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259-E541-4DEE-9A23-3F84072277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9720" y="3581280"/>
            <a:ext cx="75387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D27-80D9-4FC5-B5C0-1C9FAF7BF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Null  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80B-7D1C-4B8C-919E-975976B8AB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380-775A-4CF9-82F4-31162EB02D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0E8-459A-4D2C-9815-BE5E4204D5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6D1-35AE-425A-81CD-B83AA38193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4:56:21Z</dcterms:created>
  <dc:creator>Administrator</dc:creator>
  <dc:description/>
  <dc:language>en-US</dc:language>
  <cp:lastModifiedBy>Gerome Miklau</cp:lastModifiedBy>
  <dcterms:modified xsi:type="dcterms:W3CDTF">2001-11-02T16:48:30Z</dcterms:modified>
  <cp:revision>8</cp:revision>
  <dc:subject/>
  <dc:title>Lecture 15</dc:title>
</cp:coreProperties>
</file>