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59A1-5506-4B11-B910-F51A49CB1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64B3-3D2C-4A4F-BE91-AFC3AE06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560E-2909-4348-B727-D61838526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5B6B-29E7-4B28-923E-30BBCC250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9C29-AA77-478F-A53F-38E3BE17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9FBC-E49C-47A0-9293-D980E04C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7A57-BDEA-4E97-BA89-BD108B45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8266-0A88-41FC-8725-288AF50F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1124-2EF9-4B98-A430-25F11FE5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194A-4012-4A36-B0A1-21575D8E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7AC7-2858-42E4-87D6-33454491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B153-842A-4876-A63D-77880C5C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8B19-741C-4DB9-93A4-D9483F29B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4: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October 31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77720" y="3276720"/>
            <a:ext cx="6182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Index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440" y="23623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4520" y="1752480"/>
            <a:ext cx="633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es can be created on more than one attribu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18200" y="2438280"/>
            <a:ext cx="46886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ubleindex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Person (ag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16760" y="3809880"/>
            <a:ext cx="50896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erson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ge = 55 AND city = “Seatt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6040" y="5181480"/>
            <a:ext cx="32259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erson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ty = “Seatt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42670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s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440" y="563868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t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21520" y="27082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8120" y="2438280"/>
            <a:ext cx="5395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es can be useful in range queries to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+ trees help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not create indexes on everyth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85160" y="3200400"/>
            <a:ext cx="5783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geIndex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erson (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78280" y="4267080"/>
            <a:ext cx="4255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ge &gt; 25 AND age &lt;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4600" y="1793880"/>
            <a:ext cx="7771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s are relations, except that they are not physically sto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esenting different information to different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sn, name, department, project, sala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roll has access to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thers only to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velo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880" y="3962520"/>
            <a:ext cx="51822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eveloper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,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artment = “Developmen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Different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6680" y="1143000"/>
            <a:ext cx="5254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maker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a new virtual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attle-view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6240" y="2666880"/>
            <a:ext cx="593388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eattle-view 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, seller, product,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.city = “Seattle” 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.name = Purchase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Different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6200" y="3200400"/>
            <a:ext cx="68497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Seattle-view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eattle-view.product = Product.name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category = “sho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2133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later use the vie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When We Query a Vie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6929280" cy="156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roduct = Product.name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category = “sho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14800" y="37339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1600" y="4267080"/>
            <a:ext cx="691740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,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urch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erson, Purch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erson.city = “Seattle” 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erson.name = Purchase.buy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urch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duct = Product.name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category = “sho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vie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d only on-demand – slow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p to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erialized 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data wareho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computed offline – fast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have stal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ing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4600" y="1192320"/>
            <a:ext cx="5735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can I insert a tuple into a table that doesn’t exis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sn, name, department, project, sal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7360" y="2362320"/>
            <a:ext cx="435780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Developers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ame,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Employ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= “Developmen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53760" y="4114800"/>
            <a:ext cx="33080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Developers   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“Joe”, “Optimizer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56680" y="5257800"/>
            <a:ext cx="57312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Employee 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ULL, “Joe”, NULL, “Optimizer”, NU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6200" y="4038480"/>
            <a:ext cx="226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we make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lowing insert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9440" y="533412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becom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Updatable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7120" y="1905120"/>
            <a:ext cx="593388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eattle-view 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eller, product,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.city = “Seattle” 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.name = Purchase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7520" y="4613400"/>
            <a:ext cx="813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can we add the following tuple to the vie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“Joe”,  “Shoe Model 12345”,  “Nine West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add “Joe” to Person first.  One copy ?  More copi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ng Relation Schema in SQL (5.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ng Views (5.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ion (5.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12920" y="2362320"/>
            <a:ext cx="35622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um(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maker=“Toyo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18840" y="4191120"/>
            <a:ext cx="576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supports several aggregation ope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, MIN, MAX, AVG,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: Cou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24920" y="2438280"/>
            <a:ext cx="29512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 year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58400" y="5334120"/>
            <a:ext cx="74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 COUNT, all aggregations apply to a single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: Cou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3360" y="1946160"/>
            <a:ext cx="7162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   applies to duplicates, unless otherwise sta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(name, category)          same as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ear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(DISTINCT name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ear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2640" y="1946160"/>
            <a:ext cx="663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uct, date, price,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1: 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find total sales for the entire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1’: 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find total sales of ba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 = ‘bage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Aggreg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82560" y="2017800"/>
          <a:ext cx="7661520" cy="387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2017800"/>
                    <a:ext cx="7661520" cy="3878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685800" y="259092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4290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41148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487692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3828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1360" y="613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9720" y="1641600"/>
            <a:ext cx="7770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, we want aggregations on certain parts of the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uct, date, price,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2: 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find total sales after 9/1 per produ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Sum(price*quantity) AS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GROUP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4200" y="2209680"/>
            <a:ext cx="740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Compute the relation (I.e., the FROM and WHER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Group by the attributes in the GROUP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Select one tuple for every group (and apply aggreg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can have (1) grouped attributes or (2) aggreg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compute the relation (date &gt; “9/1”) then group by produ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81120" y="1984320"/>
          <a:ext cx="7664400" cy="387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984320"/>
                    <a:ext cx="7664400" cy="3878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685800" y="259092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41148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3828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1992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33526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438280" y="487692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, aggreg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914400" y="1752480"/>
          <a:ext cx="5329080" cy="269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5329080" cy="26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735120" y="1627200"/>
            <a:ext cx="4572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35120" y="23130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35120" y="32274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92520" y="16272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57080" y="4648320"/>
            <a:ext cx="727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Sum(price*quantity) AS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GROUP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4940280"/>
            <a:ext cx="7332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Sum(price * quantity) AS Sum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(quantity) AS MaxQua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GROUP 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7480" y="4495680"/>
            <a:ext cx="805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very product, what is the total sales and max quantity so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85800" y="1295280"/>
          <a:ext cx="6711840" cy="339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95280"/>
                    <a:ext cx="6711840" cy="33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609480" y="1295280"/>
            <a:ext cx="66294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205740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335268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38280" y="12952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76920" y="12952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Definition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720" y="1523880"/>
            <a:ext cx="7584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far we have see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ata Manipulation Langu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ata Definition Langu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D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ata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s the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ata 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efining the sch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y table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dex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o improve pe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VING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10800" y="3352680"/>
            <a:ext cx="5595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Sum(quantity) &gt;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1560" y="1600200"/>
            <a:ext cx="745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query, except that we consider only products that h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 100 buy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8120" y="5603760"/>
            <a:ext cx="65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clause contains conditions on aggreg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form of 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C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C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= may contain attributes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/or any aggregates but NO OTHER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 = is any condition on the attributes in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 = is any condition on aggregate expr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form of 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C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step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the FROM-WHERE part, obtain a table with all attributes in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 by the attributes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the aggregates in C2 and keep only groups satisfying 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aggregates in S and return th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Type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1200" y="1905120"/>
            <a:ext cx="6621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 strings (fixed of varying leng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 strings (fixed or varying leng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  (SHORT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ating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s and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ains (=types) will be used in table declar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euse domai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DOM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ddress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  VARCH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7760" y="2362320"/>
            <a:ext cx="6444360" cy="375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   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                               VARCHAR(3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-security-number    INTEG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                                  SHORTI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y                                   VARCHAR(3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                             BIT(1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thdate                         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;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45560" y="16416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ng  or Modifying a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200" y="17524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Dele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80440" y="3505320"/>
            <a:ext cx="45468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TE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D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hon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6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TER 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R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g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7000" y="289548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Altering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dding or removing an attribu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1280" y="5791320"/>
            <a:ext cx="68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when you make changes to the sche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99480" y="41148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66640" y="2209680"/>
            <a:ext cx="2059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R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34480" y="22096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9680" y="1946160"/>
            <a:ext cx="33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ying default val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01760" y="2590920"/>
            <a:ext cx="696060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VARCHAR(3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-security-number  INTEG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          SHORTINT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EFA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y      VARCHAR(30)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EFA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‘Seattle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         CHAR(1)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EFA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‘?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thdate                        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6095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ault of defaults:   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84872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LLY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t to speed up query processing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 (name, ag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tial scan of the file Person may take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31680" y="4114800"/>
            <a:ext cx="34786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 = “Smi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n index on na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+ trees have fan-out of 100s: max 4 level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990720" y="4800600"/>
          <a:ext cx="7162560" cy="584280"/>
        </p:xfrm>
        <a:graphic>
          <a:graphicData uri="http://schemas.openxmlformats.org/drawingml/2006/table">
            <a:tbl>
              <a:tblPr/>
              <a:tblGrid>
                <a:gridCol w="1193760"/>
                <a:gridCol w="1193760"/>
                <a:gridCol w="1193760"/>
                <a:gridCol w="1193760"/>
                <a:gridCol w="1193760"/>
                <a:gridCol w="1193760"/>
              </a:tblGrid>
              <a:tr h="58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t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r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0" name=""/>
          <p:cNvGrpSpPr/>
          <p:nvPr/>
        </p:nvGrpSpPr>
        <p:grpSpPr>
          <a:xfrm>
            <a:off x="3200400" y="2743200"/>
            <a:ext cx="1982880" cy="1373040"/>
            <a:chOff x="3200400" y="2743200"/>
            <a:chExt cx="1982880" cy="1373040"/>
          </a:xfrm>
        </p:grpSpPr>
        <p:sp>
          <p:nvSpPr>
            <p:cNvPr id="71" name=""/>
            <p:cNvSpPr/>
            <p:nvPr/>
          </p:nvSpPr>
          <p:spPr>
            <a:xfrm>
              <a:off x="4267080" y="2743200"/>
              <a:ext cx="154080" cy="154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809880" y="3124080"/>
              <a:ext cx="154080" cy="154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648320" y="3124080"/>
              <a:ext cx="153720" cy="154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00400" y="3505320"/>
              <a:ext cx="15408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733920" y="3505320"/>
              <a:ext cx="15372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419720" y="3505320"/>
              <a:ext cx="15372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029200" y="3505320"/>
              <a:ext cx="15408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19720" y="3962520"/>
              <a:ext cx="15372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029200" y="3962520"/>
              <a:ext cx="15408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 flipH="1">
            <a:off x="3962520" y="28954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2895480"/>
            <a:ext cx="22860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76360" y="320040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809880" y="3276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571640" y="3276720"/>
            <a:ext cx="15228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276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95680" y="365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3657600"/>
            <a:ext cx="457200" cy="3049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81480" y="4114800"/>
            <a:ext cx="914400" cy="6858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04:04:01Z</dcterms:created>
  <dc:creator>Administrator</dc:creator>
  <dc:description/>
  <dc:language>en-US</dc:language>
  <cp:lastModifiedBy>Administrator</cp:lastModifiedBy>
  <dcterms:modified xsi:type="dcterms:W3CDTF">2001-10-31T05:05:49Z</dcterms:modified>
  <cp:revision>7</cp:revision>
  <dc:subject/>
  <dc:title>Lecture 14</dc:title>
</cp:coreProperties>
</file>