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31C-45C5-407C-B1E9-0002D9A0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B12-C275-4DEE-B7D6-DF4C5BAF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CCF-52C8-4E19-9012-C127C33B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5A9-B9CB-4977-8C08-1352282C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DC8-A59A-4349-A2A4-37595FCB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010-EAC6-4A66-981A-CFB65DAA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031-3C15-4E1D-ABD5-B7824D5A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F07-F3CF-4B30-8981-F7AAB900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EE6-D170-4D16-BBB2-3C961A47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FF3-A9FA-4A85-B483-5D23A51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F0C-4BFB-4722-A5F0-C700F03D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C8E-9541-4E0A-9AFC-FF0E3DE7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5AB0-5C9C-4620-9CF8-4145387B2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15D-3407-407B-8A78-2376629EE2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 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A50-DADA-47C6-8255-DC8916DF76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s on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2160" y="2438280"/>
            <a:ext cx="75344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Product.name,price)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, Purchase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831-D194-4811-93A4-1F781B2E3B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276720"/>
            <a:ext cx="54720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 AN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300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9720" y="601992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D01-26EB-4273-B226-0274E42ED8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ALL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E0D-B52A-4751-8804-13F6E9FB28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8000" y="2514600"/>
            <a:ext cx="610452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5320" y="148896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ON, INTERSECTION and EXCEPT ope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as sets, not b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502-C3E3-4AB9-B42F-AED63BF6D6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4E4-9012-4A09-888A-7DBC0AC7D4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E73-F472-4BB8-BF31-94B90BE0B2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EB5-2721-4AC4-A60E-C99F7D6987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45F-AD99-4791-AB84-66DA25677F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373-3B6B-4529-9F0B-C67975C89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5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s (5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5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5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5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 5.7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49A-2F3B-4004-9CE8-E4D60011DC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1B4-EF39-4BBE-A7CE-82CB0BC581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5E3-5866-48F0-AF1B-48C8681420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DD3-F46B-46AD-B66A-D9E45FA07E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72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920-39F9-4A22-B571-D160EB9C71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" y="1905120"/>
            <a:ext cx="6621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strings (fixed of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strings (fixed or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 (SHORT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 an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s (=types) will be used in table decla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ress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  VAR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08C-796E-4D35-83B6-DE660EE2FE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56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00E-DCF9-4E2B-A614-9E7956027B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20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04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00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128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9948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6664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3448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CF3-941C-4ECD-BDFC-3719B71177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68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0176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2E6-3884-41F6-B096-026F94092C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168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6B1-64C2-4543-9F5C-E21E682C29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49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32F-885D-44F5-AB0F-CBF9E4282A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query producing a single tu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4000" y="2514600"/>
            <a:ext cx="5484600" cy="20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“123456789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736-B99A-4B00-8E4E-2E91C2FE2B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44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A6F-024B-406C-BF4C-0689ACABD9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520" y="17524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8200" y="2438280"/>
            <a:ext cx="468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Person (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6760" y="3809880"/>
            <a:ext cx="5089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55 AND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6040" y="5181480"/>
            <a:ext cx="3225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2670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440" y="56386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" y="270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4B8-FB90-4E0C-97FD-3711ED77D6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812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828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6E1-919E-4F6F-AF2E-CABDDFAFED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B01-AA77-4354-9FD9-582DF6C8DB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6680" y="1143000"/>
            <a:ext cx="525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attle-view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6240" y="26668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994-B597-4696-9935-DCEC3877CE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6200" y="3200400"/>
            <a:ext cx="6849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E55-9EBF-477B-BAB1-74203F827B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7F8-E81C-4F47-85FC-0110921C27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A3C-5647-4AA2-9C72-7825F87506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6680" y="5257800"/>
            <a:ext cx="5731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67E-5E32-4E7B-A117-1C497DBE56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7120" y="190512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7520" y="4613400"/>
            <a:ext cx="813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Joe”,  “Shoe Model 12345”,  “Nine West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add “Joe” to Person first.  One copy ?  More copi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1F2-F3E9-44A9-BC0E-BCE9F6482D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his is equivalent to the previous one when the ssn is a key; otherwise they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9800" y="2666880"/>
            <a:ext cx="6264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“123456789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64D-1EA8-47C9-BA19-7941C963FD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7640" y="2590920"/>
            <a:ext cx="7272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.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3000" y="2022480"/>
            <a:ext cx="80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ho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4120" y="5715000"/>
            <a:ext cx="51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F88-3DED-4850-BAEA-59891853FD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7480" y="25909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buyer = “Joe Bl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52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320" y="5029200"/>
            <a:ext cx="56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858-31E6-493E-A244-A344903152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5880" y="175248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“Joe Bl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5880" y="41911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“Joe Bl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53880" y="175248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07240" y="4191120"/>
            <a:ext cx="21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D81-FD4D-49AE-BD15-5EAC91F1A1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9400" y="46483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buyer = “Joe Bl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9040" y="1600200"/>
            <a:ext cx="719568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412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B35-7135-4F2F-A345-148DEACA3E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920" y="4572000"/>
            <a:ext cx="7518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ALL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Gizmo-Work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48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168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D1C-D85D-42DD-8E0B-F218BD9649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</dc:creator>
  <dc:description/>
  <dc:language>en-US</dc:language>
  <cp:lastModifiedBy>Administrator</cp:lastModifiedBy>
  <dcterms:modified xsi:type="dcterms:W3CDTF">2001-10-29T17:36:34Z</dcterms:modified>
  <cp:revision>25</cp:revision>
  <dc:subject/>
  <dc:title>PowerPoint Presentation</dc:title>
</cp:coreProperties>
</file>