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A0E90-4884-4B58-91C1-CBA4A7440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3FE6D-D32E-4E62-A77E-612AFF4D2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06CC9-5958-4DA1-8CF7-E3D8EFFD2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52A29-3F3D-4349-A121-3B684B909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D6FA6-2BDE-43DC-B08D-77E953308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268C2-4DCF-4D9C-B9BE-AEDD1E939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A4E68-4D81-4F73-8903-0D4A45438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E55AA-A333-4E04-982A-29E561441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F8A28-F061-4174-A9D0-106EFB6DE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D34B8-C916-4478-BF61-0C9A27235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FA06F-299B-4BC5-9D23-E668A4537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FB912-9CF2-42B5-814B-6B15C3E64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20FF6-C7C5-4C0B-9CD3-C61A25E1EE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cture 12: SQ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iday, October 26, 20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F802D-9F0D-4BFA-9A29-38851785C14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rdering the Resul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7520" y="2133720"/>
            <a:ext cx="6188400" cy="155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name, stock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Comp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country=“USA” AND stockPrice &gt; 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5050"/>
                </a:solidFill>
                <a:latin typeface="Times New Roman"/>
              </a:rPr>
              <a:t>ORDERB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country, 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34160" y="4079880"/>
            <a:ext cx="8325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dering is ascending, unless you specify the DESC keywo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es are broken by the second attribute on the ORDERBY list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83D09-3FA5-4A4A-9DA2-38C9C78AB10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oi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30440" y="257184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914400" y="1752480"/>
            <a:ext cx="7191360" cy="48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oduct (pname,  price, category, mak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rchase (buyer,  seller,  store,  produ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ompany (cname, stockPrice, countr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erson(pname, phoneNumber, cit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names of people living in Seattle that bought gizmo products, and the names of the stores they bought fro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220400" y="4648320"/>
            <a:ext cx="5717520" cy="155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pname, store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Person, Purchase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name=buyer AND city=“Seattle”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AND product=“gizmo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DDEF5-7B91-47A0-AF25-9371F0ECFD3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ambiguating Attribu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09480" y="2590920"/>
            <a:ext cx="7169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oduct (name,  price, category, mak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rchase (buyer,  seller,  store,  produ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erson(name, phoneNumber, cit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23200" y="1828800"/>
            <a:ext cx="623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names of people buying telephony produc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297800" y="4267080"/>
            <a:ext cx="5249520" cy="19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Person.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Person, Purchase,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son.name=Purchase.buy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 Product=Product.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 Product.category=“telephony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5F647-B74A-4CA4-99AE-811BFEA00DF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uple Variab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15240" y="2438280"/>
            <a:ext cx="6727680" cy="155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1.maker, product2.ma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Product AS product1, Product AS product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duct1.category=product2.categor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 product1.maker &lt;&gt; product2.ma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03400" y="1488960"/>
            <a:ext cx="783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pairs of companies making products in the same categ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137240" y="5562720"/>
            <a:ext cx="510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oduct ( name,  price, category, mak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B9437-285F-4717-9D0C-5EF53896328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uple Variab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73920" y="1523880"/>
            <a:ext cx="71546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uple variables introduced automatically by the syste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oduct ( name,  price, category, mak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om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esn’t work when Product occurs more than o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that case the user needs to define variables explicite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595600" y="2666880"/>
            <a:ext cx="288432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ce &gt;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673720" y="4343400"/>
            <a:ext cx="386460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 AS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ce &gt;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A8E02-94E3-4AC9-8638-C8D0DE53A6F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aning (Semantics) of SQL Quer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1828440"/>
            <a:ext cx="807732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1, a2, …, a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1 AS x1, R2 AS x2, …, Rn AS x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d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Nested loop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78520" y="3809880"/>
            <a:ext cx="7704720" cy="272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swer = {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x1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1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x2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2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xn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n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d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swer = Answer U {(a1,…,a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s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69F0F-6427-4345-BBB8-FAD855F08A6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aning (Semantics) of SQL Quer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1, a2, …, a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1 AS x1, R2 AS x2, …, Rn AS x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d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Parallel assig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esn’t impose any order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ke Datalo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6000" y="3886200"/>
            <a:ext cx="7930440" cy="141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swer = {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ll assignments x1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1, …, xn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n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dition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swer = Answer U {(a1,…,ak)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s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E926D-DD36-4A19-AE54-B6ACDA9E655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aning (Semantics) of SQL Quer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1, a2, …, a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1 AS x1, R2 AS x2, …, Rn AS x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d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 Translation to Datalog: one r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90320" y="4419720"/>
            <a:ext cx="8037720" cy="51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swer(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…,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…,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Cond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4AF83-FE18-4DB2-A65E-10B671539EA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aning (Semantics) of SQL Quer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1, a2, …, a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1 AS x1, R2 AS x2, …, Rn AS x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d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. Translation to Relational algebr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Symbol" charset="2"/>
              <a:buChar char="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a1,…,a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onditio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R1 x R2 x … x Rn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5050"/>
                </a:solidFill>
                <a:latin typeface="Times New Roman"/>
              </a:rPr>
              <a:t>Select-From-Where queries are precisely Select-Project-Jo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12272-4274-42BA-AFA5-A0D5D7B9202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rst Unintuitive SQLis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98680" y="1793880"/>
            <a:ext cx="46584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R.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R, S, 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R.A=S.A    OR   R.A=T.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oking for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      (S      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 what happens if T is empt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2514600" y="3733920"/>
                <a:ext cx="380880" cy="29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3200400" y="3733920"/>
                <a:ext cx="387360" cy="29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FFCFA-5B5A-42ED-895F-A5681C98FDD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mple Queries in SQL (5.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eries with more than one relation (5.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bqueries (5.3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uplicates (5.4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F9918-60E6-40E9-9979-9A6458EB68F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on, Intersection, Dif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6600" y="1717560"/>
            <a:ext cx="61045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City=“Seattle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ff5050"/>
                </a:solidFill>
                <a:latin typeface="Times New Roman"/>
              </a:rPr>
              <a:t>UN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Person, 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buyer=name AND store=“The Bon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02320" y="5832360"/>
            <a:ext cx="773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ilarly, you can use INTERSECT and EXCEP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must have the same attribute names (otherwise: renam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85B5F-39BD-4B07-A732-BF441987A4F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ercise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06640" y="1870200"/>
            <a:ext cx="87487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oduct ( pname,  price, category, mak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rchase (buyer,  seller,  store,  produ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ompany (cname, stock price, countr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erson( per-name, phone number, cit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Ex #1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ind people who bought telephony produc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Ex #2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ind names of people who bought American produ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Ex #3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ind names of people who bought American products and d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buy French produ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Ex #4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ind names of people who bought American products and th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ve in Seatt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Ex #5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ind people who bought stuff from Joe or bought produ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a company whose stock prices is more than $5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73F3B-6A39-499A-AE09-24B88AD4093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bquer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subquery producing a single tu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urchase.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buyer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ssn = “123456789”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this case, the subquery returns one valu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it returns more, it’s a 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run-time err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11AD6-EF5E-413A-873C-4FA56128E5A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say the same thing without a subquer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urchase.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Purchase,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buyer = name AND ssn = “123456789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5050"/>
                </a:solidFill>
                <a:latin typeface="Times New Roman"/>
              </a:rPr>
              <a:t>Is this query equivalent to the previous one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4AF5C-9007-48BB-A806-B4A958697B0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bqueries Returning Rel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80520" y="2590920"/>
            <a:ext cx="6094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Company.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Company,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Company.name=ma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Product.name  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buyer = “Joe Blow”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re the subquery returns a set of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13000" y="2022480"/>
            <a:ext cx="805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companies who manufacture products bought by Joe Bl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776ED-A403-45B6-8C02-84C19A19F0A9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bqueries Returning Rel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81600" y="2590920"/>
            <a:ext cx="5118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Company.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Company, Product, 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Company.name=ma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Product.name  =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buyer = “Joe Blow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15520" y="2022480"/>
            <a:ext cx="190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831960" y="5410080"/>
            <a:ext cx="565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5050"/>
                </a:solidFill>
                <a:latin typeface="Times New Roman"/>
              </a:rPr>
              <a:t>Is this query equivalent to the previous one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C1296-CDA0-487D-B8F2-260BB3B0C374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bqueries Returning Rel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31000" y="4572000"/>
            <a:ext cx="75189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price &gt;  ALL (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maker=“Gizmo-Works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00480" y="3124080"/>
            <a:ext cx="7770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oduct ( pname,  price, category, mak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products that are more expensive than all those produc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“Gizmo-Work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841680" y="1905120"/>
            <a:ext cx="392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can also use:   s &gt; ALL 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 &gt; ANY 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ISTS 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2B893-915A-4FAE-A151-E76CE434B13A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 for Database Fans and their Frien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we express this query as a single SELECT-FROM-WHERE query, without subqueries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nt:  show that all SFW queries are </a:t>
            </a:r>
            <a:r>
              <a:rPr b="0" lang="en-US" sz="2800" spc="-1" strike="noStrike">
                <a:solidFill>
                  <a:srgbClr val="ff5050"/>
                </a:solidFill>
                <a:latin typeface="Times New Roman"/>
              </a:rPr>
              <a:t>monoton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figure out what this means).  A query with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L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not monot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46EA1-CB1A-45A5-BD2B-A4716D2EB740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ditions on Tu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80520" y="2590920"/>
            <a:ext cx="6094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Company.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Company,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Company.name=ma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(Product.name,price)  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duct, pric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buyer = “Joe Blow”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F32C9-D0F4-417D-AC5B-C630CA3CC622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rrelated Quer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290600" y="3276720"/>
            <a:ext cx="5472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tit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Movie AS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year &lt; ANY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ye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Mov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title =  </a:t>
            </a:r>
            <a:r>
              <a:rPr b="0" lang="en-US" sz="2400" spc="-1" strike="noStrike">
                <a:solidFill>
                  <a:srgbClr val="ff505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title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03000" y="1828800"/>
            <a:ext cx="6455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Movie (</a:t>
            </a:r>
            <a:r>
              <a:rPr b="0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title,  year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 director, length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movies whose title appears more than o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-9720" y="6019920"/>
            <a:ext cx="89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 (1) scope of variables (2) this can still be expressed as single SF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172200" y="3200400"/>
            <a:ext cx="1523880" cy="7621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rre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4495320" y="3581280"/>
            <a:ext cx="16765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5867280" y="3962520"/>
            <a:ext cx="91440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61E15-5322-4202-B0EF-C19F0B4946DC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QL Introdu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56760" y="1717560"/>
            <a:ext cx="6828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ndard language for querying and manipulating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uctured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ery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35240" y="3241800"/>
            <a:ext cx="7803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y standards out there: SQL92, SQL2, SQL3, SQL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ndors support various subsets of these, but all of what we’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 talking abou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683DB-88C6-4FC3-BDAD-95A1EDC8D19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plex Correlated Que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Product ( pname,  price, category, maker, yea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d products (and their manufacturers) that are more expensive than all products made by the same manufacturer before 197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pname, mak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Product AS 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price &gt; ALL  (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pr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Product AS 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x.maker = y.maker AND y.year &lt; 1972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5050"/>
                </a:solidFill>
                <a:latin typeface="Times New Roman"/>
              </a:rPr>
              <a:t>Powerful, but much harder to optimize 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2ED34-9E38-43FD-9CF2-240ADB4E6A7A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moving Duplica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56840" y="2133720"/>
            <a:ext cx="6094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DISTIN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mpany.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Company,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Company.name=ma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(Product.name,price)  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duct, pric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buyer = “Joe Blow”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732F7-AEF3-4EBC-9EB0-C9506CC43599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serving Duplica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32440" y="2666880"/>
            <a:ext cx="6104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City=“Seattle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ON  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Person, 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buyer=name AND store=“The Bon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45320" y="1488960"/>
            <a:ext cx="707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UNION, INTERSECTION and EXCEPT operato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rate as sets, not bag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E14B4-27F9-4783-8422-BF49AED5E46C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QL Introdu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46760" y="2666880"/>
            <a:ext cx="76712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sic form: (many many more bells and whistles in addi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293840" y="3957480"/>
            <a:ext cx="558648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attribu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relations (possibly multiple, join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conditions (selection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E1CE8-DF4B-424B-85C1-550A2BFFA67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le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77880" y="1828800"/>
            <a:ext cx="67276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ompany(sticker, name, country, stockPric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all US companies whose stock is &gt; 50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 schema: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R(sticker, name, country, stockPric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148400" y="3581280"/>
            <a:ext cx="618840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*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Company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country=“USA”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tockPrice &gt; 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3D790-0926-48A0-A70D-EC60E47C136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le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78240" y="1828800"/>
            <a:ext cx="74988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at you can use in WHER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ribute names of the relation(s) used in the FRO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rison operators:  =, &lt;&gt;, &lt;, &gt;, &lt;=, &gt;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y arithmetic operations:  stockprice*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rations on strings (e.g., “||”  for concatenation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xicographic order on string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ttern matching:    s LIKE 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cial stuff for comparing dates and tim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F8418-FA2F-48E5-9EA3-EE0698F1CA6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IK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operat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IK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:  pattern matching on stri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 may contain two special symbo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%  = any sequence of charac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_   = any single charac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Company(sticker, name, address, country, stockPric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nd all US companies whose address contains “Mountain”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48520" y="5029200"/>
            <a:ext cx="443736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*</a:t>
            </a:r>
            <a:br>
              <a:rPr sz="2000"/>
            </a:b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Company</a:t>
            </a:r>
            <a:br>
              <a:rPr sz="2000"/>
            </a:b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country=“USA”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ND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dress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IK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“%Mountain%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3E2AF-D3BD-4BF4-8034-484E5E88A66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je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377000" y="2590920"/>
            <a:ext cx="618840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name, stock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Comp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country=“USA” AND stockPrice &gt; 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9240" y="1600200"/>
            <a:ext cx="8118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 only a subset of the attribu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 schema: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ompany(sticker, name, country, stockPric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 schema: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R(name, stock pric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42282-D279-4085-851A-8A8219FB721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447840" y="1752480"/>
            <a:ext cx="8118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name the attributes in the resulting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 schema: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ompany(sticker, name, country, stockPric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 schema: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R(company, pric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je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992520" y="2590920"/>
            <a:ext cx="640620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name AS company, stockprice AS 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Comp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country=“USA” AND stockPrice &gt; 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64104-F78E-4886-88F7-033DA0F7EE6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Dan</dc:creator>
  <dc:description/>
  <dc:language>en-US</dc:language>
  <cp:lastModifiedBy>Administrator</cp:lastModifiedBy>
  <dcterms:modified xsi:type="dcterms:W3CDTF">2001-10-26T02:25:02Z</dcterms:modified>
  <cp:revision>7</cp:revision>
  <dc:subject/>
  <dc:title>PowerPoint Presentation</dc:title>
</cp:coreProperties>
</file>