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EAB-DDB6-4519-B3F3-D52CDC4C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A5A7-314F-4FA8-8C09-42925077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96AC-E88D-40F2-98E9-00C1CD27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D00-A1FD-4D02-A15F-5450B56B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DDD-B696-467D-BEAF-D00CA38A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862-8F91-4D86-BF46-37E9AACC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25C-4127-43AF-9EBB-17B475E1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082-2AC0-4655-9119-18055C24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1AA-7586-4EC9-AF14-AED570F0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BB4-3AAB-474E-AFA9-EA013E4B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5CD-DF5A-4ECE-AC33-7663CAD5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D54-63FF-4B93-9029-E75D690D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3329-B01A-4C68-905A-FAD52DBBC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. 24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8BB-762D-4370-9393-E98114E5C5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DATA mea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sed Character 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 mouthful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7360" y="1905120"/>
            <a:ext cx="474984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|publishe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,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(#PCDAT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(#PCDAT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(#PCDAT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#PCDAT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818-EBD1-4848-84A7-77D2D9DC0E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DTDs: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600200"/>
            <a:ext cx="569736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|publishe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,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CDATA  #REQ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langu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DATA #IMPLIE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CDATA #IMPLIE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90960" y="4419720"/>
            <a:ext cx="548460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55”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langu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English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 Complete Guide to DB2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Chamberli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960" y="4648320"/>
            <a:ext cx="2972880" cy="1582200"/>
          </a:xfrm>
          <a:prstGeom prst="wedgeRoundRectCallout">
            <a:avLst>
              <a:gd name="adj1" fmla="val 75777"/>
              <a:gd name="adj2" fmla="val -103750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y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ATA =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 = a ke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REF = a foreign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s=rarely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1600200"/>
            <a:ext cx="2887920" cy="1022040"/>
          </a:xfrm>
          <a:prstGeom prst="wedgeRoundRectCallout">
            <a:avLst>
              <a:gd name="adj1" fmla="val -67097"/>
              <a:gd name="adj2" fmla="val 64962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declarat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REQUIRED=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IMPLIED=op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FIXED=fixed (rarely u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2520" y="392760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9A39-999A-460E-BF95-AAEAD11576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s as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thing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TD is a EBNF (Extended BNF)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XML tree is precisely a derivation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5920" y="6095880"/>
            <a:ext cx="85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Documents that have a DTD and conform to it are calle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240" y="2133720"/>
            <a:ext cx="47224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::=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ook|publishe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::=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,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::= 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::=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::=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::=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99F-B854-462C-A9E9-728B25941B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DTDs as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6680" y="1866960"/>
            <a:ext cx="61592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 |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2080" y="4441680"/>
            <a:ext cx="79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16320" y="62136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documents can be nested arbitrarily d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11CB-A901-43C5-892A-3EBFBBF193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8400" y="464040"/>
            <a:ext cx="6497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or Represent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14800" y="3962160"/>
            <a:ext cx="46814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7760" y="2060640"/>
          <a:ext cx="4029120" cy="42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2060640"/>
                    <a:ext cx="402912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640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2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873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8128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4376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728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630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110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880" y="14479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2880" y="1574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08B-BD7B-416B-B7DF-5A1C4F037E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vs Data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0F9-9891-4FF6-8DA0-7E58A0B1A9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present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with nu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3240" y="2514600"/>
            <a:ext cx="37378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1720" y="3962520"/>
            <a:ext cx="15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791320" y="4876920"/>
          <a:ext cx="213336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CAE-47E9-42BA-9343-29399D213F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3600" y="2590920"/>
            <a:ext cx="36100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95400" y="312408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419720" y="5105520"/>
          <a:ext cx="320040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06704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7925400" y="5486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DA0-AEEC-4255-980A-80F948BC93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93960" y="274320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 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196-70F0-49DB-9C1A-79A5F2E5DA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 v.s. E/R, ODL, Rela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is XML better or wor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serves different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/R, ODL, Relational mod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entralized processing, when we control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sharing between differen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 not have control over the entir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on th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use XML to model your data ! Use E/R, ODL, or relational inst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9B6-0AA1-47B0-9CB1-7064EAE417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, DTDs  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808080"/>
                </a:solidFill>
                <a:latin typeface="Times New Roman"/>
              </a:rPr>
              <a:t>Data on the Web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, 3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structured data in XML 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(3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shing XML 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(8.3.1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ing XML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 (8.2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291-A5CA-41E4-B311-C39729462A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XML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12408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05720" y="3124080"/>
            <a:ext cx="190476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2590920"/>
            <a:ext cx="2133720" cy="2971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71800" y="41911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34440" y="3699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5760" y="37339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6640" y="1905120"/>
            <a:ext cx="223956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06064"/>
              <a:gd name="adj5" fmla="val 405629"/>
              <a:gd name="adj6" fmla="val 11590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49560" y="1905120"/>
            <a:ext cx="18662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8282"/>
              <a:gd name="adj5" fmla="val 344208"/>
              <a:gd name="adj6" fmla="val -2283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45BD-86AA-467F-9367-49DB598C05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elational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(pid, name, weig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(cid, 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(pid, cid, pr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2819520"/>
            <a:ext cx="1143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19920" y="2819520"/>
            <a:ext cx="12952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2514600"/>
            <a:ext cx="1214280" cy="1214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8191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81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51B-2BA0-4871-8FEB-FA848AA649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elational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5798880" cy="477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GizmoWork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Tacoma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gizmo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9.99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Ban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Kirkland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gizmo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22.99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79880" y="5029200"/>
            <a:ext cx="191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41800" y="217476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146-062D-4565-8739-AC56847E4E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elational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7543800" cy="309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7600" y="213372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T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DA11-0232-4D59-AF51-0FD6A27D3C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elational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79560"/>
            <a:ext cx="5797440" cy="52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Gizmo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nufactur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GizmoWork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9.99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Tacoma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nufactur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nufactur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Ban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22.99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Kirkland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nufactur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OneCl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4280" y="3733920"/>
            <a:ext cx="201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1200" y="2438280"/>
            <a:ext cx="13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17A-23DB-4F87-B1F7-2D39A72D58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elational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choose the output structure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d by agreement, with our partners, or dictated by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dialects (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D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ata is often nested, irregular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ormal forms for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6DA-E907-4D0C-9106-86C7BBE802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the XML data is small and is parsed directly into the application (DOM AP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big, and we need to store it in a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XML storag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choose the schema of the databa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harder than XML publishing 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hy 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ECF7-1E07-477B-A41A-E934D9E4BEB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olu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derived from 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8F1-66FF-4A7D-8F0D-8B6B451699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1320" y="175248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Edge (and value)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278160" y="1219320"/>
            <a:ext cx="5679720" cy="2472480"/>
            <a:chOff x="3278160" y="1219320"/>
            <a:chExt cx="5679720" cy="2472480"/>
          </a:xfrm>
        </p:grpSpPr>
        <p:grpSp>
          <p:nvGrpSpPr>
            <p:cNvPr id="267" name=""/>
            <p:cNvGrpSpPr/>
            <p:nvPr/>
          </p:nvGrpSpPr>
          <p:grpSpPr>
            <a:xfrm>
              <a:off x="3278160" y="1549440"/>
              <a:ext cx="5679720" cy="2142360"/>
              <a:chOff x="3278160" y="1549440"/>
              <a:chExt cx="5679720" cy="214236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3345120" y="1649520"/>
                <a:ext cx="5545800" cy="2042280"/>
                <a:chOff x="3345120" y="1649520"/>
                <a:chExt cx="5545800" cy="20422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833080" y="16495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d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23900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88312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476840" y="2147400"/>
                  <a:ext cx="69732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publish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44196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33872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18580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98248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72984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7684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22420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sta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345120" y="3143880"/>
                  <a:ext cx="8236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omple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uid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o DB2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042800" y="3242520"/>
                  <a:ext cx="1098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hamberl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991040" y="3242520"/>
                  <a:ext cx="109800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ransa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rocessing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936400" y="3293280"/>
                  <a:ext cx="1006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ernste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82760" y="3293280"/>
                  <a:ext cx="915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ewcomer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629120" y="3143880"/>
                  <a:ext cx="7322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org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aufma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524440" y="3193920"/>
                  <a:ext cx="366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A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>
                  <a:off x="4786560" y="1848600"/>
                  <a:ext cx="10458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131880" y="1947960"/>
                  <a:ext cx="49680" cy="19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381360" y="1848600"/>
                  <a:ext cx="119556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>
                  <a:off x="3889800" y="2396160"/>
                  <a:ext cx="3985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538160" y="2446200"/>
                  <a:ext cx="9936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5484240" y="244620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231960" y="2446200"/>
                  <a:ext cx="493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381360" y="239616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>
                  <a:off x="7725960" y="2446200"/>
                  <a:ext cx="493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975080" y="2446200"/>
                  <a:ext cx="4482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6366960" y="154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03560" y="2045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7816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3004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54520" y="21117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9228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98464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97464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899120" y="19796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767720" y="26398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624880" y="257544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114960" y="1285200"/>
              <a:ext cx="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16400" y="1219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0" name=""/>
          <p:cNvGraphicFramePr/>
          <p:nvPr/>
        </p:nvGraphicFramePr>
        <p:xfrm>
          <a:off x="533520" y="3581280"/>
          <a:ext cx="2514600" cy="301464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3429000" y="4800600"/>
          <a:ext cx="2819520" cy="1727280"/>
        </p:xfrm>
        <a:graphic>
          <a:graphicData uri="http://schemas.openxmlformats.org/drawingml/2006/table">
            <a:tbl>
              <a:tblPr/>
              <a:tblGrid>
                <a:gridCol w="914400"/>
                <a:gridCol w="1905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 guide 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mber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518760" y="29368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720" y="4267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9AF-1ECF-4F45-AF0B-9AEA4BC33E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relation 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relational schema for every XML docu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(Source, Tag, De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(Source, V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ffici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tags multiple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many joins to reconstruc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3D9D-DB9E-44B8-87D9-EBCB20E013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0240" y="256860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34600" y="256860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d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23680" y="256860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0240" y="280836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78600" y="280836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bo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55320" y="280836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89520" y="304956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10240" y="304956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tit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31680" y="304956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72800" y="3049560"/>
            <a:ext cx="3041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Complete Guide to DB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03280" y="304956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91640" y="304956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tit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13080" y="304956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89520" y="328932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10240" y="3289320"/>
            <a:ext cx="869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auth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76040" y="328932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19320" y="3289320"/>
            <a:ext cx="1448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Chamberli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61840" y="328932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50200" y="3289320"/>
            <a:ext cx="869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auth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16360" y="328932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89880" y="3530520"/>
            <a:ext cx="434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22960" y="353052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bo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00040" y="353052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0240" y="377028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78600" y="377028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bo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55320" y="377028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9520" y="401148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10240" y="401148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tit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31680" y="401148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72800" y="4011480"/>
            <a:ext cx="3186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Transaction Process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48000" y="401148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36360" y="401148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tit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57800" y="401148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89520" y="425124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10240" y="4251240"/>
            <a:ext cx="869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auth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76040" y="425124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19320" y="4251240"/>
            <a:ext cx="1303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Bernstei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17480" y="425124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05840" y="4251240"/>
            <a:ext cx="869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auth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1640" y="425124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89520" y="449280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10240" y="4492800"/>
            <a:ext cx="869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auth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040" y="449280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19680" y="4492800"/>
            <a:ext cx="1158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Newcom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74560" y="449280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61120" y="4492800"/>
            <a:ext cx="869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auth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27280" y="449280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89880" y="4732200"/>
            <a:ext cx="434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22960" y="473220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bo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00040" y="473220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0240" y="497376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77880" y="4973760"/>
            <a:ext cx="1303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publish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6040" y="497376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89520" y="521352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 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67320" y="521352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nam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44400" y="521352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86600" y="5213520"/>
            <a:ext cx="2027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Morgan Kaufma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06560" y="521352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94920" y="521352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nam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71640" y="521352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89520" y="545472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 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67320" y="545472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st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8760" y="545472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31680" y="545472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20400" y="545472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08760" y="545472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st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0200" y="545472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89880" y="5694480"/>
            <a:ext cx="434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22240" y="5694480"/>
            <a:ext cx="1303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publish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20760" y="569448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0240" y="593568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lt;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78960" y="593568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d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68040" y="593568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Courier New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FB8B-45EB-4B36-9C06-15BF7985A8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9880" y="1752480"/>
            <a:ext cx="54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Use the DTD to derive relatio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0760" y="2743200"/>
            <a:ext cx="3386880" cy="201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ook|publishe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,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(#PCDATA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(#PCDATA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yea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(#PCDATA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(#PCDATA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ublis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state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70720" y="2652840"/>
            <a:ext cx="4249440" cy="2187720"/>
            <a:chOff x="4770720" y="2652840"/>
            <a:chExt cx="4249440" cy="2187720"/>
          </a:xfrm>
        </p:grpSpPr>
        <p:sp>
          <p:nvSpPr>
            <p:cNvPr id="320" name=""/>
            <p:cNvSpPr/>
            <p:nvPr/>
          </p:nvSpPr>
          <p:spPr>
            <a:xfrm>
              <a:off x="6482880" y="2652840"/>
              <a:ext cx="54396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16360" y="3373560"/>
              <a:ext cx="83268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87520" y="3449880"/>
              <a:ext cx="132624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Times New Roman"/>
                </a:rPr>
                <a:t>publis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17160" y="4364280"/>
              <a:ext cx="70056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Times New Roman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70720" y="4287960"/>
              <a:ext cx="99000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Times New Roman"/>
                </a:rPr>
                <a:t>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19720" y="4287960"/>
              <a:ext cx="74844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Times New Roman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171840" y="300672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934320" y="30067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410440" y="3768840"/>
              <a:ext cx="380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72200" y="38448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24840" y="376884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72400" y="39211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81480" y="29163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164360" y="2930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35560" y="37688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45400" y="39211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31400" y="39211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39320" y="4364280"/>
              <a:ext cx="78084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Times New Roman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25040" y="392112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95080" y="23004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75120" y="2147760"/>
            <a:ext cx="14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D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47840" y="489096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ike an E/R diag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85880" y="5334120"/>
            <a:ext cx="301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year, tit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itle,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id, 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19720" y="3276720"/>
            <a:ext cx="685800" cy="485640"/>
          </a:xfrm>
          <a:prstGeom prst="rightArrow">
            <a:avLst>
              <a:gd name="adj1" fmla="val 50000"/>
              <a:gd name="adj2" fmla="val 353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19320" y="5638680"/>
            <a:ext cx="685800" cy="486000"/>
          </a:xfrm>
          <a:prstGeom prst="rightArrow">
            <a:avLst>
              <a:gd name="adj1" fmla="val 50000"/>
              <a:gd name="adj2" fmla="val 352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BD5-2245-47F9-9A5A-9B7090FFF67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 to relations (summary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like converting an E/R diagram to a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fficient than the edge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need 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when the DTD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8B8-9613-43D7-B3F3-8DFD6C45FE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XML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AP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 = “Document Object Mod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langu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th – will discuss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 – will discuss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16120" y="5105520"/>
            <a:ext cx="41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w3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don’t spend rest of you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those standards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0D85-6D8E-45A5-8D9B-404F0E2F29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 on XML Data Management at U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languages (XML-QL, a precursor of Xque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kw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publishing/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lk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ressor: Xm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l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 contai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8FE-415F-49D8-84AA-3F6950159C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4000" y="1752480"/>
            <a:ext cx="827244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a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tags must correspond to end tags,  and convers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F51F-2BB8-4873-8CA5-B315B49A83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4360" y="1752480"/>
            <a:ext cx="802944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verything between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el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&lt;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Complete Guide to DB2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el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may b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breviated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XML document has a uniqu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07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4840" y="3276720"/>
            <a:ext cx="614052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omplete Guide to DB2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Chamberli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BE2-A8B5-43B5-9B06-05D1F01986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XML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190512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266688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266688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66688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65760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65760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73392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373392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365760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365760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96080" y="365760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240" y="4191120"/>
            <a:ext cx="1029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mple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Gui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o DB2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4920" y="4343400"/>
            <a:ext cx="137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hamberlin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2840" y="4343400"/>
            <a:ext cx="13726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cessing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0760" y="4419720"/>
            <a:ext cx="12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ernstein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040" y="4419720"/>
            <a:ext cx="114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Newcomer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320" y="4191120"/>
            <a:ext cx="9151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org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Kaufman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2920" y="4267080"/>
            <a:ext cx="45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437920" y="2209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3623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22096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066680" y="30481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31240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505320" y="31240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124080"/>
            <a:ext cx="75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30481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933960" y="312408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31240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5360" y="5299200"/>
            <a:ext cx="28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s o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values on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C99-6726-4DF9-A6F9-789BB0874F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 Syntax: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64566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    Complete Guide to DB2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Chamberlin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   1998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96640" y="537516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ice, curr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FBE-0585-4804-980C-D6C59F9977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acing Attributes with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5560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 Complete Guide to DB2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hamberli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1998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5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USD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200" y="6019920"/>
            <a:ext cx="66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s ar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ltern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ys to represen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AAE-7B15-4D17-8932-8DC3424BAA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” (or “Schemas”) for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Type Definition –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the XML document, but we use it as substitute for types/sch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replaced by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ML-Schem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xtends DT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1BE-2CAD-4736-A4E4-D2F6752C76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00:46:30Z</dcterms:created>
  <dc:creator>Dan</dc:creator>
  <dc:description/>
  <dc:language>en-US</dc:language>
  <cp:lastModifiedBy>Administrator</cp:lastModifiedBy>
  <dcterms:modified xsi:type="dcterms:W3CDTF">2001-10-24T18:34:01Z</dcterms:modified>
  <cp:revision>20</cp:revision>
  <dc:subject/>
  <dc:title>Lecture 11 XML</dc:title>
</cp:coreProperties>
</file>