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39BA-0DB8-47A3-A2DD-D2CCDE01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8374-9C29-43FD-881B-EADAD3EF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E903-8549-43CE-A571-FBD2619F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A4D-16AA-4C2D-88C4-4716D005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7D8-9C62-43EC-97FB-94C0CBD4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A538-946B-4581-8110-FC2266BC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2CAF-695F-4D11-B8C3-78FFF91C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75C7-3E7D-4F15-92DF-26849487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E23-D8B5-41FD-AC81-E2B7E14A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BE1-AD22-43D2-81EC-25EA3C4A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BBB-D920-44E0-A90E-3125F25E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74FC-1320-459A-9F6D-5D6C2459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175C-9805-4137-B302-43524D65D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. 21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(non-recursive) Datalog to 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take an exampl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(A,B,C), S(D,E,F,G), T(H,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x,y)     R(x,y,z) AND S(y,y,w,x) AND T(z,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make all variables distinct, add arithmetic at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x,y)     R(x,y,z) AND S(y1,y2,w,x3) AND T(z4,c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=y1 AND y1=y2 AND x=x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z=z4 AND c5=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A:  a select-project-join expre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=D AND D=E AND A=G AND C=H AND I=5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 x S x 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59984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59984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(non-recursive) Datalog to 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 a rule with negation to RA (hint: use dif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d multiple rules to RA (hint: use union and/or substitutions; remember that rules are non-recurs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atalog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Fred’s re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(x)      R(“Fred”,x,_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(y)      Relative(x) AND R(x,y,_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029200" y="1828800"/>
          <a:ext cx="3124080" cy="2438280"/>
        </p:xfrm>
        <a:graphic>
          <a:graphicData uri="http://schemas.openxmlformats.org/drawingml/2006/table">
            <a:tbl>
              <a:tblPr/>
              <a:tblGrid>
                <a:gridCol w="1041480"/>
                <a:gridCol w="1041480"/>
                <a:gridCol w="104112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 flipH="1">
            <a:off x="2895120" y="5105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895120" y="5638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1440" y="6019920"/>
            <a:ext cx="40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commended reading: 4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s About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4 books at Amaz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6,344,313 pages at www.altavista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database vendor has an XML p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oracle.com/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microsoft.com/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ibm.com/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applications are just fancier Web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most importantly, XML enable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aring on the Web – hence our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ML 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HTML to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29160" cy="3814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9840" y="6019920"/>
            <a:ext cx="74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HTML describes the presentation: easy for hu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5003640" cy="311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Bibliograph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teboul, Hull, Via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r&gt; Addison Wesley,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ata on the Web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teboul, Buneman, Su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organ Kaufmann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0" y="5838840"/>
            <a:ext cx="45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HTML is hard for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23420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Foundations…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ddison Wesle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880" y="5943600"/>
            <a:ext cx="78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XML describes the content: easy for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ble Markup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s: comes from SG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ery nast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roots: a format for sharing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erging format for data exchange on the Web and between applic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ing data between different components of an appl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ve data in text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: electronic data exchan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 between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rs and suppliers sharing product data (au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nets: building relationships between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tists sharing data about experi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ng data by email -- se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Datalog (4.2-4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, DTDs  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808080"/>
                </a:solidFill>
                <a:latin typeface="Times New Roman"/>
              </a:rPr>
              <a:t>Data on the Web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, 3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structured data in XML 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(3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ing Relational Data in XML 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(8.3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0240" y="256860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34600" y="256860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d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23680" y="256860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0240" y="280836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78600" y="280836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bo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55320" y="280836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89520" y="304956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10240" y="304956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tit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31680" y="304956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72800" y="3049560"/>
            <a:ext cx="3041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Complete Guide to DB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03280" y="304956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91640" y="304956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tit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13080" y="304956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89520" y="328932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0240" y="3289320"/>
            <a:ext cx="869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auth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6040" y="328932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9320" y="3289320"/>
            <a:ext cx="1448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Chamberli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61840" y="328932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50200" y="3289320"/>
            <a:ext cx="869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auth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16360" y="328932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89880" y="3530520"/>
            <a:ext cx="434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22960" y="353052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bo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00040" y="353052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0240" y="377028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78600" y="377028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bo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5320" y="377028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89520" y="401148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10240" y="401148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tit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31680" y="401148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72800" y="4011480"/>
            <a:ext cx="3186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Transaction Process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48000" y="401148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36360" y="401148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tit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57800" y="401148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9520" y="425124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10240" y="4251240"/>
            <a:ext cx="869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auth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76040" y="425124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19320" y="4251240"/>
            <a:ext cx="1303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Bernstei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17480" y="425124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05840" y="4251240"/>
            <a:ext cx="869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auth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71640" y="425124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89520" y="449280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10240" y="4492800"/>
            <a:ext cx="869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auth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76040" y="449280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19680" y="4492800"/>
            <a:ext cx="1158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Newcom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74560" y="449280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61120" y="4492800"/>
            <a:ext cx="869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auth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27280" y="449280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89880" y="4732200"/>
            <a:ext cx="434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22960" y="473220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bo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00040" y="473220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0240" y="497376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77880" y="4973760"/>
            <a:ext cx="1303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publish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76040" y="497376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9520" y="521352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 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67320" y="521352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nam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44400" y="521352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86600" y="5213520"/>
            <a:ext cx="2027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Morgan Kaufma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06560" y="521352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94920" y="521352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nam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71640" y="521352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89520" y="545472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 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67320" y="545472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st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88760" y="545472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31680" y="545472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20400" y="545472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08760" y="545472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st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30200" y="545472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89880" y="5694480"/>
            <a:ext cx="434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22240" y="5694480"/>
            <a:ext cx="1303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publish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20760" y="569448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0240" y="593568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78960" y="593568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d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68040" y="593568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14000" y="1752480"/>
            <a:ext cx="827244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a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tag: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,  end tag: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tags must correspond to end tags,  and convers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4360" y="1752480"/>
            <a:ext cx="802944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verything between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el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&lt;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Complete Guide to DB2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el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may b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element: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breviated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XML document has a uniqu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oo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0760" y="5932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well form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ML document: if it has matching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4840" y="3276720"/>
            <a:ext cx="614052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omplete Guide to DB2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Chamberlin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XML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1905120"/>
            <a:ext cx="914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2666880"/>
            <a:ext cx="914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14800" y="2666880"/>
            <a:ext cx="914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266688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3657600"/>
            <a:ext cx="914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3657600"/>
            <a:ext cx="914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3733920"/>
            <a:ext cx="914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67080" y="3733920"/>
            <a:ext cx="914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080" y="3657600"/>
            <a:ext cx="914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3657600"/>
            <a:ext cx="914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96080" y="3657600"/>
            <a:ext cx="914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240" y="4191120"/>
            <a:ext cx="10296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mple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Gui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o DB2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4920" y="4343400"/>
            <a:ext cx="137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hamberlin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2840" y="4343400"/>
            <a:ext cx="13726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ocessing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0760" y="4419720"/>
            <a:ext cx="12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ernstein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040" y="4419720"/>
            <a:ext cx="114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Newcomer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81320" y="4191120"/>
            <a:ext cx="9151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org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Kaufman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52920" y="4267080"/>
            <a:ext cx="45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437920" y="2209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23623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76920" y="22096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066680" y="30481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31240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505320" y="31240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48320" y="3124080"/>
            <a:ext cx="75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0481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933960" y="312408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31240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25360" y="5299200"/>
            <a:ext cx="28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s o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values on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 Syntax: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6456600" cy="22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    Complete Guide to DB2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Chamberlin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   1998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96640" y="537516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ice, curr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acing Attributes with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5560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 Complete Guide to DB2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hamberli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1998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5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USD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6200" y="6019920"/>
            <a:ext cx="66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s ar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ltern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ys to represen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” (or “Schemas”) for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Type Definition –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the XML document, but we use it as substitute for types/sch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replaced by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ML-Schem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ill extend DT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DATA mea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sed Character 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 mouthful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7360" y="1905120"/>
            <a:ext cx="474984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|publishe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,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(#PCDATA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#PCDATA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#PCDATA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#PCDATA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DTDs: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600200"/>
            <a:ext cx="569736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|publishe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,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CDATA  #REQ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langu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DATA #IMPLIE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CDATA #IMPLIE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90960" y="4419720"/>
            <a:ext cx="548460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55”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langu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English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 Complete Guide to DB2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Chamberli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7960" y="4648320"/>
            <a:ext cx="2972880" cy="1582200"/>
          </a:xfrm>
          <a:prstGeom prst="wedgeRoundRectCallout">
            <a:avLst>
              <a:gd name="adj1" fmla="val 75777"/>
              <a:gd name="adj2" fmla="val -103750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yp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ATA = 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 = a ke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REF = a foreign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s=rarely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1600200"/>
            <a:ext cx="2887920" cy="1022040"/>
          </a:xfrm>
          <a:prstGeom prst="wedgeRoundRectCallout">
            <a:avLst>
              <a:gd name="adj1" fmla="val -67097"/>
              <a:gd name="adj2" fmla="val 64962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declarati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REQUIRED=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IMPLIED=op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FIXED=fixed (rarely us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s as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thing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TD is a EBNF (Extended BNF)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XML tree is precisely a derivation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5920" y="6095880"/>
            <a:ext cx="85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Documents that have a DTD and conform to it are calle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240" y="2133720"/>
            <a:ext cx="47224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::=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ook|publisher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::=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,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::= 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::=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::=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::=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Datalo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 (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 price, category, maker-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urchase (buyer-ssn,  seller-ssn,  store,  p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stock price, count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phone number, 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names of buyers and sell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n)      Person(s,n,_,_), Purchase(s,_,_,_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n)      Person(s,n,_,_), Purchase(_,s,_,_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rules correspond to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90476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90476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DTDs as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6680" y="1866960"/>
            <a:ext cx="61592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 |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2080" y="4441680"/>
            <a:ext cx="79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16320" y="62136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documents can be nested arbitrarily d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28400" y="464040"/>
            <a:ext cx="6497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or Represent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14800" y="3962160"/>
            <a:ext cx="46814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6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u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34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Dick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636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47760" y="2060640"/>
          <a:ext cx="4029120" cy="42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2060640"/>
                    <a:ext cx="402912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 flipH="1">
            <a:off x="5459400" y="1752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50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50120" y="17524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93848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72000" y="2313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081840" y="2313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50120" y="2286000"/>
            <a:ext cx="3175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071840" y="2313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5344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829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73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6400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9640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9204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8732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2971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81280" y="33256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4376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77280" y="3325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96600" y="33256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6308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91100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6880" y="14479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2900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42880" y="1574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vs Data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lf-d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elements become par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tional schema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(name,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XML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re part of the data, and are repeated man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XML is much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mi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structured Data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33240" y="2514600"/>
            <a:ext cx="37378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71720" y="3962520"/>
            <a:ext cx="15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h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09920" y="5105520"/>
            <a:ext cx="36100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Mary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345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456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71720" y="563868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hon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structured Data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with different types in different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collections (no 1N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neous colle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&lt;db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both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and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2590920"/>
            <a:ext cx="5125680" cy="173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93960" y="274320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 nam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 v.s. E/R, ODL, Rela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is XML better or wor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serves different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/R, ODL, Relational mod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centralized processing, when we control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sharing between differen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 not have control over the entir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on the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use XML to model your data ! Use E/R, ODL, or relational inst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haring with XML: Easy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312408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05720" y="3124080"/>
            <a:ext cx="1904760" cy="19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3048120"/>
            <a:ext cx="2438280" cy="2971800"/>
          </a:xfrm>
          <a:prstGeom prst="flowChartPunchedTap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1911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34440" y="3699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rting Relational Data to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(pid, name, weigh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ny(cid, name, addr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(pid, cid,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2819520"/>
            <a:ext cx="1143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920" y="2819520"/>
            <a:ext cx="12952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62520" y="2514600"/>
            <a:ext cx="1214280" cy="12142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8191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1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rt data grouped by compan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5798880" cy="477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GizmoWork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Tacoma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gizmo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19.99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Ban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Kirkland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gizmo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22.99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79880" y="5029200"/>
            <a:ext cx="191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309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Datalo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 (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 price, category, maker-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urchase (buyer-ssn,  seller-ssn,  store,  p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stock price, count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phone number, 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Seattle residents who bought products over $1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s)           Product(i,_,p,_,_) AND Purchase(s,_,_,i) AND p&gt;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n)           Person(s,n,_,”Seattle”) AND 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rules correspond to sequential c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as substituting E’s body in the second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59984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67616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rt Data by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5797440" cy="527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Gizmo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nufactur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GizmoWork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19.99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Tacoma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nufactur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nufactur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Ban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22.99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Kirkland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nufactur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OneClick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4280" y="3733920"/>
            <a:ext cx="201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One Do We Choos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ucture of the XML data is determined by agreement, with our partners, or dictated by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XML dialects (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ata is often nested, irregular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ormal forms for XM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got lots of XML data from the Web, how do we store i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ly: convert to relational data, store in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harder than exporting relations to XML 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hy 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 Vendors currently work on tools for loading XML data into an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on in Data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 (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, name,  price, category, maker-c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urchase (buyer-ssn,  seller-ssn,  store,  p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, name, stock price, coun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, name, phone number, c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“ba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id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”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which don’t occur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p)                   Product(p,_,_,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dP(p)             Purchase(_,_,_,p) AND NOT P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 solution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dPWrong(p)             Purchase(_,_,_,p) AND NOT Product(p,_,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82844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82844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43792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on in Datalog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 (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 price, category, maker-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urchase (buyer-ssn,  seller-ssn,  store,  p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stock price, count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phone number, 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products that were never so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d(p)             Purchase(_,_,_,p) AND Product(p,_,_,_,_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Sold(p)    Product(p,_,_,_) AND NOT Sold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1424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66652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 and Data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lo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s nothing about how to eval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frien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ay in which order to eval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news: relational algebra is equivalent to (non-recursive) datalog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elational Algebra to Data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  R1 U R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x,y,z)      R1(x,y,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x,y,z)       R2(x,y,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  R1  - 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x,y,z)       R1(x,y,z)  AND NOT R2(x,y,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tesian product  R1 x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x,y,z,u,w)       R1(x,y,z)  AND R2(u,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4379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437920" y="3352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437920" y="4419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123720" y="556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A to Datalog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z &gt; 3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x,y,z,u)       R(x,y,z,u) AND z &gt; 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,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x,z)           R(x,y,z,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74320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209320" y="5638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00:46:30Z</dcterms:created>
  <dc:creator>Administrator</dc:creator>
  <dc:description/>
  <dc:language>en-US</dc:language>
  <cp:lastModifiedBy>Administrator</cp:lastModifiedBy>
  <dcterms:modified xsi:type="dcterms:W3CDTF">2001-10-22T01:54:43Z</dcterms:modified>
  <cp:revision>11</cp:revision>
  <dc:subject/>
  <dc:title>Lecture 10 XML</dc:title>
</cp:coreProperties>
</file>