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72F-9EDE-4F85-9A70-1B76C5B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B13-F0B1-4ACC-B799-15DA6F3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164-3A1E-4169-9916-3443A25C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358-CB3D-4C2B-954F-4979A61B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6E5-2425-4AE6-BDFC-B6490BA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83D-08E8-4351-A4F9-42C2AFA0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A53-150C-4AF7-AA1A-7107CDD8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79E-B602-4FA8-8331-069150D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72E-6AAF-4701-8FD6-01EEDFF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E24-F5EA-487F-9E4B-D4BF458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B23-65EC-4E81-896F-63D707E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907-6F3C-4672-AD60-EB41FAA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616-B8FE-452B-AA9E-1EE296A26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(continued),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087-A587-496C-9022-DA733FE63E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703-889A-4AA1-BD10-189721B2E0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 is good because it can express different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 is unfriendly for writing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 is friendlier for writing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Order Log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: a subset, friendlier but as powe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s based on logic (following lect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198108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00B-B87F-4430-91D1-F23DA20AB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products over $99.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lection: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rice&gt;99.99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24480" y="4956840"/>
            <a:ext cx="7101360" cy="520560"/>
            <a:chOff x="924480" y="4956840"/>
            <a:chExt cx="7101360" cy="520560"/>
          </a:xfrm>
        </p:grpSpPr>
        <p:sp>
          <p:nvSpPr>
            <p:cNvPr id="100" name=""/>
            <p:cNvSpPr/>
            <p:nvPr/>
          </p:nvSpPr>
          <p:spPr>
            <a:xfrm>
              <a:off x="924480" y="4956840"/>
              <a:ext cx="7101360" cy="520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(i,n,p,c,m)      Product(i,n,p,c,m) AND p&gt;99.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74284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98F-45D4-497E-A3C5-3D01BD7E9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names of all products over $99.99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lection-projection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price&gt;99.99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Produ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52360" y="4575960"/>
            <a:ext cx="6037560" cy="520560"/>
            <a:chOff x="1152360" y="4575960"/>
            <a:chExt cx="6037560" cy="520560"/>
          </a:xfrm>
        </p:grpSpPr>
        <p:sp>
          <p:nvSpPr>
            <p:cNvPr id="105" name=""/>
            <p:cNvSpPr/>
            <p:nvPr/>
          </p:nvSpPr>
          <p:spPr>
            <a:xfrm>
              <a:off x="1152360" y="4575960"/>
              <a:ext cx="6037560" cy="520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(n)      Product(i,n,p,c,m) AND p&gt;99.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04400" y="4876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B36-493A-4AEB-A2AF-8D333E0704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tore names where Fred bou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lection-projection-jo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tore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ame=“Fred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Person)      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ssn=buyer-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48160" y="4271040"/>
            <a:ext cx="7483680" cy="520560"/>
            <a:chOff x="848160" y="4271040"/>
            <a:chExt cx="7483680" cy="520560"/>
          </a:xfrm>
        </p:grpSpPr>
        <p:sp>
          <p:nvSpPr>
            <p:cNvPr id="110" name=""/>
            <p:cNvSpPr/>
            <p:nvPr/>
          </p:nvSpPr>
          <p:spPr>
            <a:xfrm>
              <a:off x="848160" y="4271040"/>
              <a:ext cx="7483680" cy="520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(n)      Person(s,”Fred”,t,c) AND Purchase(s,l,n,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600200" y="4572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16200000">
            <a:off x="4439520" y="5618880"/>
            <a:ext cx="193680" cy="385920"/>
          </a:xfrm>
          <a:prstGeom prst="flowChartCollat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D8D-683A-4024-80FF-E10585753D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 is really frie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ee the formal definitions, then mor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13C-8891-4FEC-A7D6-67AA094106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s a rela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(x,y,z,…), with P a predicate and x,y,z variables or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i,n,p,c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i,”gizmo”,p,”electronics”,”gizmoWork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database instance, an atom i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rithmetic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 &gt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y &lt;=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pendent on the database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064-4198-4D8B-9DE0-0561E8D78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log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n)            Person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, p, t, c) AND  Purchase (b,  s,  “Gizmo Store”, 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og program = a collection of rules (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82160" y="2483280"/>
            <a:ext cx="6360480" cy="648720"/>
            <a:chOff x="1082160" y="2483280"/>
            <a:chExt cx="6360480" cy="648720"/>
          </a:xfrm>
        </p:grpSpPr>
        <p:sp>
          <p:nvSpPr>
            <p:cNvPr id="120" name=""/>
            <p:cNvSpPr/>
            <p:nvPr/>
          </p:nvSpPr>
          <p:spPr>
            <a:xfrm>
              <a:off x="1082160" y="2483280"/>
              <a:ext cx="6360480" cy="648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tom         ato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… AND ato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13336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13720" y="3657600"/>
            <a:ext cx="1074960" cy="652680"/>
          </a:xfrm>
          <a:prstGeom prst="wedgeEllipseCallout">
            <a:avLst>
              <a:gd name="adj1" fmla="val -31087"/>
              <a:gd name="adj2" fmla="val -8544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642480"/>
            <a:ext cx="3581280" cy="1166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oals: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d by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7339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933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5235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9400" y="3962520"/>
            <a:ext cx="1122120" cy="652680"/>
          </a:xfrm>
          <a:prstGeom prst="wedgeEllipseCallout">
            <a:avLst>
              <a:gd name="adj1" fmla="val 37296"/>
              <a:gd name="adj2" fmla="val -1508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771-BB75-4367-9958-532E37E38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names of people who bought from “Gizmo Sto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n)            Person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, _, _, _) AND  Purchase (_, s, “Gizmo Store”, 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 _  means a fresh, new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useful: makes Datalog even easier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9984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DCE-C69D-4358-8A33-CFCB50B17D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 Variable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p)      Person(x,”Fred”,_,_) AND Purchase(y,x,_,pid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pid,”gizmo”,_,_,_) AND Person(y,_,p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44756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752-1BBE-4A74-9C97-F42EB46C31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Relational Algebra (4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 (4.2-4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9D8-06A0-4E20-9EF2-848C29DBD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log rule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riable in the rule appears at least in one non-negated atom in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unsaf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Product(x,y,z,u,v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)           Product(x,y,z,u,v) AND z &gt;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)           Product(x,y,z,u,v) AND NOT Purchase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,t,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7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0476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90476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9CD-784B-4113-9333-F1123A801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a Safe Datalo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{x1,…,xn} be all variables in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values to x1,…,xn in all possible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ssignment, if the body is true, add the head to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meaning: map tuples rather tha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 section 4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37560" y="2027520"/>
            <a:ext cx="6360480" cy="648720"/>
            <a:chOff x="1537560" y="2027520"/>
            <a:chExt cx="6360480" cy="648720"/>
          </a:xfrm>
        </p:grpSpPr>
        <p:sp>
          <p:nvSpPr>
            <p:cNvPr id="142" name=""/>
            <p:cNvSpPr/>
            <p:nvPr/>
          </p:nvSpPr>
          <p:spPr>
            <a:xfrm>
              <a:off x="1537560" y="2027520"/>
              <a:ext cx="6360480" cy="648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tom         ato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… AND ato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590200" y="2361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81B-AE2E-430D-A34F-EA844B1C8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names of buyers and sell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Person(s,n,_,_), Purchase(s,_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Person(s,n,_,_), Purchase(_,s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ules correspond to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90476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476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929-9385-4C4D-AEAA-B7703C0B96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eattle residents who bought products over $1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           Product(i,_,p,_,_) AND Purchase(s,_,_,i) AND p&g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n)           Person(s,n,_,”Seattle”) AND 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ules correspond to sequential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 substituting E’s body in the second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67616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2B0-70C2-40C1-813D-0CA12BADB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in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“ba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i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”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which don’t occur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p)                   Product(p,_,_,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P(p)             Purchase(_,_,_,p) AND NOT P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solution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PWrong(p)             Purchase(_,_,_,p) AND NOT Product(p,_,_,_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2844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284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79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065-D800-450F-B759-BE611966C4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on in Datalog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roducts that were never s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(p)             Purchase(_,_,_,p) AND Product(p,_,_,_,_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Sold(p)    Product(p,_,_,_) AND NOT Sold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24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5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9BA-88B9-4260-A773-A89EBD60DF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nd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s nothing about how to 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y in which order to 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: relational algebra is equivalent to (non-recursive) datalo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656-A18D-4029-BCA8-20F8CA05EC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Algebra to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 R1 U R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R1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 R2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 R1  - 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)       R1(x,y,z)  AND NOT R2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  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,u,w)       R1(x,y,z)  AND R2(u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37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37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3792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12372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2C5-EE34-4F29-9538-A2FDD81D90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A to Datalog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z &gt; 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y,z,u)       R(x,y,z,u) AND z &gt;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,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x,z)           R(x,y,z,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743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0932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E88-BD60-4D8A-94FD-D7C9385854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(non-recursive) Datalog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take an examp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,B,C), S(D,E,F,G), T(H,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,y)     R(x,y,z) AND S(y,y,w,x) AND T(z,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ake all variables distinct, add arithmetic a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x,y)     R(x,y,z) AND S(y1,y2,w,x3) AND T(z4,c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=y1 AND y1=y2 AND x=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z=z4 AND c5=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A:  a select-project-joi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=D AND D=E AND A=G AND C=H AND I=5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 x S x 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59984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599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34C-0E7C-43B0-843C-34A91DD4A3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basic operators, many der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operators in order to construct queries: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relational algebra expression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shown as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922-C845-4614-BA83-00E9D78464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(non-recursive) Datalog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a rule with negation to RA (hint: use dif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multiple rules to RA (hint: use union and/or substitutions; remember that rules are non-recurs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643-98DE-49FF-A7DB-E57AC13B2B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atalog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red’s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(x)      R(“Fred”,x,_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(y)      Relative(x) AND R(x,y,_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29200" y="1828800"/>
          <a:ext cx="3124080" cy="243828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 flipH="1">
            <a:off x="2895120" y="5105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89512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1440" y="60199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commended reading: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D6E-D7F3-414B-BE74-3BF6952775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200" y="1870200"/>
            <a:ext cx="612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657600"/>
            <a:ext cx="8001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uyer-ssn, seller-ssn a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id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r-cid is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elephony products that somebody b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58B-6DD3-481D-92A4-913ECA912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8520" y="5029200"/>
            <a:ext cx="167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516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9880" y="3581280"/>
            <a:ext cx="1741320" cy="461160"/>
            <a:chOff x="3809880" y="3581280"/>
            <a:chExt cx="1741320" cy="461160"/>
          </a:xfrm>
        </p:grpSpPr>
        <p:sp>
          <p:nvSpPr>
            <p:cNvPr id="57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4000" y="370512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019920" y="2743200"/>
            <a:ext cx="1221120" cy="461160"/>
            <a:chOff x="6019920" y="2743200"/>
            <a:chExt cx="1221120" cy="461160"/>
          </a:xfrm>
        </p:grpSpPr>
        <p:sp>
          <p:nvSpPr>
            <p:cNvPr id="60" name=""/>
            <p:cNvSpPr/>
            <p:nvPr/>
          </p:nvSpPr>
          <p:spPr>
            <a:xfrm rot="16200000">
              <a:off x="6116040" y="26470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1880" y="286704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352680" y="2057400"/>
            <a:ext cx="1752120" cy="461160"/>
            <a:chOff x="3352680" y="2057400"/>
            <a:chExt cx="1752120" cy="461160"/>
          </a:xfrm>
        </p:grpSpPr>
        <p:sp>
          <p:nvSpPr>
            <p:cNvPr id="63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5360" y="2181240"/>
              <a:ext cx="136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3B1-9468-4EF5-8C21-3B13DB6907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44B-52B5-432A-85AD-3E14C07A5F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bother ? Can write any RA expression directly in C++/Java, seems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or admits sophisticated implementations (think of            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 in relational algebra can be rewritten: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opt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658480" y="41709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8D9-4531-48DE-B09F-7CBBB6728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pse Ahead: Efficient Implementations of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gt;= 30 AND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lt;= 3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1: scan the file, test each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2: use an index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is better ? Depends a lo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s       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Employees, then over Rel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Relatives, then over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Employees, Relatives, do “merge-jo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-jo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991600" y="37137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57E-F329-4232-8028-8F3ACCE81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pse Ahead: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bet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rice&gt;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uct)     (Purchase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ty=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rice&gt;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uct)     Purchase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ty=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!  This is the optimizer’s job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3906000" y="41709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058280" y="47044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5887080" y="47808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811120" y="42472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301-2E89-47F0-8509-A67A3AF5B3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Administrator</cp:lastModifiedBy>
  <dcterms:modified xsi:type="dcterms:W3CDTF">2001-10-19T02:32:16Z</dcterms:modified>
  <cp:revision>40</cp:revision>
  <dc:subject/>
  <dc:title>PowerPoint Presentation</dc:title>
</cp:coreProperties>
</file>