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DAF6-73DF-494D-A994-C72A730F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5D89-0545-409F-A52B-8830B07E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E98-7087-4F5A-B315-53829842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47F-5698-434A-8C6C-C9B355C8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9E21-F8BF-4746-90FE-AE5A9623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A2B7-E107-4C27-9D92-3941D058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66B-40D8-4CD3-8FE0-8DA0D9F5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42DF-0AF8-48D3-96D9-18300829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1CE-9C01-4C95-AA17-B1B4DBB3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936-DABA-440B-AFFE-B233A53B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0A8F-453A-4BBB-B345-4E8687BD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8D29-6DCF-43C1-A89B-E62B9CC7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2EF9-C3F2-45C1-97F3-FF4ED12DB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10/17/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F0C6-3E51-4778-997F-BB8FF8C77E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582480"/>
            <a:ext cx="8077320" cy="5589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6600" y="3800520"/>
            <a:ext cx="73983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nd all employees with salary more than $40,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D846-2821-4AE2-A332-8DAD2A5EA8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operation: returns certain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s duplicate tuple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  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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A1,…,An</a:t>
            </a: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schem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(B1,…,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A1, …, An}       {B1, …, Bm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chem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(A1,…,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project social-security number and na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SSN, Name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(Employ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724280" y="3276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DAA-15D8-4936-9B62-95279ACC4F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9480" y="584280"/>
            <a:ext cx="7391520" cy="5306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96240" y="3429000"/>
            <a:ext cx="33678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SN, Na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4BF9-5259-4879-B643-F32BB26162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tesian Pro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upl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each tupl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1 x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schem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1(A1,…,An), R2(B1,…,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A1,…,An}    {B1,…Bm}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chema is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(A1, …, An, B1, …, 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1 x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ployee x Depen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rare in practice; but joins are very of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419720" y="3581280"/>
            <a:ext cx="30456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3567-8E11-428C-A062-862583FA6F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74840" y="274680"/>
            <a:ext cx="6357960" cy="62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AB9-119F-4CD8-94F3-799BEC5528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change the relational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he relational schema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B1,…,B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schema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(A1, …, 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schema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(B1, …, B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Symbol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8A3-80C9-4F7C-AC74-70A9A1A88C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am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9400" y="194616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9400" y="231768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06080" y="231768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22874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24360" y="22874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46680" y="22874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0480" y="26719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05000" y="26719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65284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24360" y="26528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35520" y="265284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0120" y="30160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05000" y="30160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335268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33526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46680" y="335268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0960" y="5060880"/>
            <a:ext cx="125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57640" y="506088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Soc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03064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76640" y="50306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98960" y="503064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2760" y="54151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57280" y="54151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5396040"/>
            <a:ext cx="33145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76640" y="53960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87800" y="5396040"/>
            <a:ext cx="33037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2760" y="57592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57280" y="57592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609588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76640" y="60958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98960" y="609588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505320"/>
            <a:ext cx="74674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Symbol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E3C5-0FC7-4A41-82B9-B2E3FDE640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ed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ection is deriv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       R2  =  R1 – (R1 – R2)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nother way to express it (la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importantly: joins, in many vari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27468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7486-95F8-4663-B575-FDD3DEDD16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1     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Schema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1(A1, …, An), R2(B1, …, 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chema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(C1,…,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C1, …, Cp} = {A1, …, An} U {B1, …, Bm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ing: combine all pairs of tuples in R1 and R2 that agree on the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A1,…,An}       {B1,…, Bm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called the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cross product followed by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ployee        Depen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rot="16200000">
            <a:off x="3143880" y="135180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4363200" y="523800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048120" y="4191120"/>
            <a:ext cx="274680" cy="34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1C2E-2D9C-41AE-BC9A-431AEF8127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22560" y="407880"/>
            <a:ext cx="288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Joi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62440" y="87804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2440" y="124920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79120" y="12492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82520" y="121932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97400" y="121932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121932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63520" y="16034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78040" y="160344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82520" y="158436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97400" y="158436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08560" y="158436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63160" y="194796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78040" y="1947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82520" y="2284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97400" y="2284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284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63880" y="2654280"/>
            <a:ext cx="152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64600" y="30258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77320" y="302580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82520" y="2995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97400" y="2995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2995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63160" y="33796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76240" y="337968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82520" y="3363840"/>
            <a:ext cx="331488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97400" y="336384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08560" y="3363840"/>
            <a:ext cx="33033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63160" y="372420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78040" y="372420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2520" y="40622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97400" y="40622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40622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82320" y="502272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48880" y="502272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800" y="502272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499284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5240" y="499284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5760" y="499284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87880" y="499284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10200" y="499284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4840" y="537696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48160" y="5376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29360" y="537696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5359320"/>
            <a:ext cx="13622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05240" y="5359320"/>
            <a:ext cx="1080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6040" y="5359320"/>
            <a:ext cx="16718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7880" y="535932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9040" y="5359320"/>
            <a:ext cx="164772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7720" y="57214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48160" y="57214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29360" y="572148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605808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5240" y="605808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25760" y="605808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87880" y="605808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10200" y="605808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8560" y="4191120"/>
            <a:ext cx="7674480" cy="782280"/>
            <a:chOff x="538560" y="4191120"/>
            <a:chExt cx="7674480" cy="782280"/>
          </a:xfrm>
        </p:grpSpPr>
        <p:sp>
          <p:nvSpPr>
            <p:cNvPr id="177" name=""/>
            <p:cNvSpPr/>
            <p:nvPr/>
          </p:nvSpPr>
          <p:spPr>
            <a:xfrm>
              <a:off x="538560" y="4191120"/>
              <a:ext cx="767448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mployee         Dependents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ame, SSN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=SSN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Employee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2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Dependents)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1848600" y="4247280"/>
              <a:ext cx="193680" cy="3855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5FC3-ED45-471A-96F2-E97EDAF4BA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Algebra (4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on Bags (4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AF93-B2E0-4E1E-ABCB-BBC94AC0F2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=                               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752480" y="2133720"/>
          <a:ext cx="2514600" cy="182556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410080" y="2133720"/>
          <a:ext cx="2514600" cy="146052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 rot="16200000">
            <a:off x="1543680" y="439956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590920" y="4191120"/>
          <a:ext cx="4495680" cy="2371680"/>
        </p:xfrm>
        <a:graphic>
          <a:graphicData uri="http://schemas.openxmlformats.org/drawingml/2006/table">
            <a:tbl>
              <a:tblPr/>
              <a:tblGrid>
                <a:gridCol w="1498320"/>
                <a:gridCol w="1498680"/>
                <a:gridCol w="14986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856B-6B46-4004-ADAE-0270A106E5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he schemas R(A, B, C, D), S(A, C, E), what is the schema of R     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, C),  S(D, E), what is R    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),  S(A, B),  what is  R     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5201280" y="257076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7411320" y="379008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7258680" y="493308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FB2-6F1A-429C-88A5-6C24DF3870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ta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oin that involves a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1      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where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schemas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1(A1,…,An), R2(B1,…,B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A1,…An}      {B1,…,Bm}  =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schema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(A1,…,An,B1,…,B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ived opera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1      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R2 =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(R1 x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3525120" y="272340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971800" y="3886200"/>
            <a:ext cx="274680" cy="343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rot="16200000">
            <a:off x="2077200" y="561888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EA93-C7C0-46D6-B5AB-BEB3A9C492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requently used in pract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1      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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 join is a particular case of eq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t of research on how to do it effici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3372480" y="325656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2F82-22AC-4FD7-BBCC-8BCA64AE31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       S  =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(R        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he schema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(A1,…An),  S(B1,…,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(A1,…,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2209680"/>
            <a:ext cx="304920" cy="15264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lnTo>
                  <a:pt x="0" y="96"/>
                </a:lnTo>
                <a:lnTo>
                  <a:pt x="0" y="0"/>
                </a:lnTo>
                <a:lnTo>
                  <a:pt x="19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5201280" y="211356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35DE-5122-4C6D-8012-1D6BB4C119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in distributed datab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d, pname, ...)  at sit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name, ...) at si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rice&gt;1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oduct) 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d=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rice&gt;1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roduct)          site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T2 =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1)                           site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send T2 to site 2                          (T2 smaller than T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T3 = T2       Company            site 2  (semijoin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send T3 to site 1                          (T3 smaller than Compan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Answer = T3      T1                site 1 (semijo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5181480"/>
            <a:ext cx="304560" cy="15264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lnTo>
                  <a:pt x="0" y="96"/>
                </a:lnTo>
                <a:lnTo>
                  <a:pt x="0" y="0"/>
                </a:lnTo>
                <a:lnTo>
                  <a:pt x="19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5791320"/>
            <a:ext cx="30456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lnTo>
                  <a:pt x="0" y="96"/>
                </a:lnTo>
                <a:lnTo>
                  <a:pt x="0" y="0"/>
                </a:lnTo>
                <a:lnTo>
                  <a:pt x="19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4134600" y="340920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014-0BF7-4C78-B7A4-3F95C91072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basic operators, many der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operators in order to construct queries: 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relational algebra expression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shown as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90EC-9272-4646-B3D4-4A97DC4E8C9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5200" y="1870200"/>
            <a:ext cx="6125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 price, category, maker-c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-ssn,  seller-ssn,  store,  p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stock 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3657600"/>
            <a:ext cx="80010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buyer-ssn, seller-ssn ar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eign key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id i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ker-cid is 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hone numbers of people who bought gizmos from F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elephony products that somebody b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3CB-C8EA-4678-A9D2-706A1CFFCE1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6640" y="1870200"/>
            <a:ext cx="87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 price, category, maker-c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-ssn,  seller-ssn,  store,  p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stock 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telephony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uy French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 in Seat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stuff from Joe or bought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company whose stock prices is more than $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69A-7559-4BBA-9C6A-61E48DF1D5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on Ba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d why we ca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 {a,b,b,c} U {a,b,b,b,e,f,f} = {a,a,b,b,b,b,b,c,e,f,f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number of occur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{a,b,b,b,c,c} – {b,c,c,c,d} = {a,b,b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tract the number of occur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: {a,b,b,b,c,c}   {b,b,c,c,c,c,d} = {b,b,c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um of the two numbers of occur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 preserve the number of occur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preserve the number of occurrences (no duplicate elim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, join: no duplicat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3480" y="624852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ading assignment: 4.6.2 - 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98CB-CC92-40FE-B014-1ACFF71C09B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specify what we want from our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nd all the employees who earn more than $50,000 and pay taxes in New Jers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write in C++/Java, but bad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-level query langua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tical: Relational Algebra,  Dat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al: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algebra: a basic set of operations on relations that provid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sic princip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910-6091-4005-88C8-82B443E9AC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bother ? Can write any RA expression directly in C++/Java, seems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perator admits sophisticated implementations (think of            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ions in relational algebra can be rewritten: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optim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5658480" y="417096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02B-416D-4806-ACB5-48A722BD41F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impse Ahead: Efficient Implementations of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&gt;= 30 AND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&lt;= 35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1: scan the file, test each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2: use an index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ne is better ? Depends a lo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ployees        Rel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e over Employees, then over Rel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e over Relatives, then over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Employees, Relatives, do “merge-joi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-joi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991600" y="371376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E1C6-8145-437C-8C64-1EC306DFAD2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impse Ahead: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 price, category, maker-c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-ssn,  seller-ssn,  store,  p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is bett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rice&gt;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roduct)     (Purchase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ity=s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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rice&gt;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roduct)     Purchase)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ity=s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s !  This is the optimizer’s job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3906000" y="417096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4058280" y="470448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5887080" y="478080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5811120" y="424728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9F4-CE19-426B-B54F-ACA9805D3F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ly: RA has Limitations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ompute “transitive clos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direct and indirect relatives of F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express in RA !!!  Need to write C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057400" y="2590920"/>
          <a:ext cx="4495680" cy="2508120"/>
        </p:xfrm>
        <a:graphic>
          <a:graphicData uri="http://schemas.openxmlformats.org/drawingml/2006/table">
            <a:tbl>
              <a:tblPr/>
              <a:tblGrid>
                <a:gridCol w="1498680"/>
                <a:gridCol w="1498680"/>
                <a:gridCol w="1498320"/>
              </a:tblGrid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on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07B-770F-4E93-8957-BEC62ED9280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 at a G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s: relations as input, new relation as outp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ve basic RA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asic Set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ion, difference (no intersection, no compl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our relations have attribute na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388-F510-4D09-9B29-61E57BE477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, difference, inter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section can be expressed in other 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5CD8-7177-4653-9680-4709E1260C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 Operations: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: all tuples in R1 or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U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, R2 must have the same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U R2 has the same schema as R1,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Employees U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AD3-2B18-4CE5-9C3C-71D0260EF0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 Operations: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:  all tuples in R1 and not in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–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, R2 must have the same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- R2 has the same schema as R1, R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Employees  - 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FD2-358D-400F-BAA8-7D6D9E0044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 Operations: 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:  all tuples both in R1 and in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 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, R2 must have the same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  R2 has the same schema as R1, R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izedEmployees    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352680" y="2666880"/>
            <a:ext cx="306360" cy="381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52480" y="3809880"/>
            <a:ext cx="306360" cy="381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800600" y="4952880"/>
            <a:ext cx="30636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D2D9-1824-4B00-88FE-9722940BEF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all tuples which satisfy a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ndition: =, &lt;, &gt;, and, or,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schema: same as input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employees with salary more than $40,000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Times New Roman"/>
              </a:rPr>
              <a:t>Salary &gt; 40000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30E-EE24-4A7B-80A0-110416D0ED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02:55:32Z</dcterms:created>
  <dc:creator>Dan</dc:creator>
  <dc:description/>
  <dc:language>en-US</dc:language>
  <cp:lastModifiedBy>Administrator</cp:lastModifiedBy>
  <dcterms:modified xsi:type="dcterms:W3CDTF">2001-10-17T17:34:05Z</dcterms:modified>
  <cp:revision>20</cp:revision>
  <dc:subject/>
  <dc:title>Lecture 7</dc:title>
</cp:coreProperties>
</file>