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7A6-8259-41AF-8765-6E55FEDD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436-AD85-49E4-899D-9632F55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E7C-952F-493D-93EF-8FADFBC2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99F-34DF-451F-8B25-70226AFF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B7B-D751-4816-9948-CA8E5D1A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75F-7794-4EB6-8855-CC61B33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033-26AA-4F61-89E5-B29AF398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C61-9734-43CA-A925-909B9D14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21D-3066-4200-9FED-CD9346F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7DD-86C7-4820-9D42-6DA8CCD2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D35-11E6-44C4-BA64-2D4D7D7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D3C-08DF-4853-89A9-4E65242F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D8E1-F074-41B1-B36B-16411917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10/15/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785-CF6E-4997-83AC-270B23D116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96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83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639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355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27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625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400" y="3013200"/>
            <a:ext cx="67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04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392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,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9C5-DCDD-4D2D-84FA-468A3336A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3117960"/>
            <a:ext cx="6432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Name, Age, Eye Color, Draft-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raft-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400" y="1565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480" y="4114800"/>
            <a:ext cx="816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CF Decompos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  Person1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Name, Age, EyeColor, Draft-wor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2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  Person1a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Name, Age, EyeCol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Person1b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, Draft-wor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2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2120" y="2057400"/>
            <a:ext cx="7467480" cy="872640"/>
            <a:chOff x="762120" y="2057400"/>
            <a:chExt cx="7467480" cy="872640"/>
          </a:xfrm>
        </p:grpSpPr>
        <p:sp>
          <p:nvSpPr>
            <p:cNvPr id="119" name=""/>
            <p:cNvSpPr/>
            <p:nvPr/>
          </p:nvSpPr>
          <p:spPr>
            <a:xfrm>
              <a:off x="821880" y="2057400"/>
              <a:ext cx="73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SSN   Age   EyeColor  Draft-worth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hone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254916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262548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21682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2446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21682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1682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76960" y="222552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162920" y="5715000"/>
            <a:ext cx="147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A7D-52B1-4483-AF9E-AAE063800C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,  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,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C,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plit into  R1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R2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249-83CA-4C34-A2E3-821988819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R1(A,B)  ,    R2(A,C) 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’(A,B,C)   =  R(A,B,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CC8-CED9-4A8D-8695-4E1297613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 Based on BCNF is Necessarily Loss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960" y="2209680"/>
            <a:ext cx="895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 B, C),    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:   R1(A,B),   R2(A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uple    (a,b,c)  in R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b’,c’) also i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s into    (a,b)  in R1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b’) also in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(a,c)  in R2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c’) also in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 tuples in R:  (a,b,c),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b,c’), (a,b’,c), (a,b’,c’) also in 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b,c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bogus tuple?  What abou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b’,c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794-6EE5-4FB7-A0F3-758FECDB30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CCD-ACB8-4635-A3AD-D9E24D2AB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231-2187-467F-9B13-1AC8E9BCCA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040" y="297180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12D-6415-4115-BA25-45E7A75651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valued Dependenc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96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96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2360" y="190512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Phone Number    Cou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981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590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(206)  572-4312   CSE-444                         123-321-99      (206)  572-4312   CSE-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(206)  432-8954   CSE-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(206)  432-8954   CSE-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7560" y="4384800"/>
            <a:ext cx="63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lti-valued dependenc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BBA-2513-46AF-BBA6-6E478FA62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Multi-valued Depende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3760" y="2267280"/>
            <a:ext cx="7421760" cy="439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,An,B1,…,Bm,C1,…,C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VD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,An       B1,…,B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olds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values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set of values”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1,…,B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“independent” of those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1,…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19720" y="3733920"/>
            <a:ext cx="457200" cy="0"/>
            <a:chOff x="4419720" y="3733920"/>
            <a:chExt cx="457200" cy="0"/>
          </a:xfrm>
        </p:grpSpPr>
        <p:sp>
          <p:nvSpPr>
            <p:cNvPr id="192" name=""/>
            <p:cNvSpPr/>
            <p:nvPr/>
          </p:nvSpPr>
          <p:spPr>
            <a:xfrm>
              <a:off x="44197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24640" y="3733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487-51D4-4B89-A666-2F2089B901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: BCNF, 3NF  (3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valued Dependencies, 4NF (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(4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0E7-866D-4AC9-9C47-3B9D391D5C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MVD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ly:  the decomposition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1,…,An,B1,…,B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,      R2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1,…,An,C1,…,C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loss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an MVD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1,…,An        B1,…,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ly talks about “the other” attribut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1,…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BBD-0D28-482E-8061-80114E5E15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MV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An          B1,…,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,An         B1,…,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rules in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3505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CED-8178-4A83-9DD7-909BDCB247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ormal Form (4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07720" y="2101680"/>
            <a:ext cx="5249880" cy="273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is in 4NF if when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,An        B1,…,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nontrivial MV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038480" y="3048120"/>
            <a:ext cx="533520" cy="0"/>
            <a:chOff x="4038480" y="3048120"/>
            <a:chExt cx="533520" cy="0"/>
          </a:xfrm>
        </p:grpSpPr>
        <p:sp>
          <p:nvSpPr>
            <p:cNvPr id="206" name=""/>
            <p:cNvSpPr/>
            <p:nvPr/>
          </p:nvSpPr>
          <p:spPr>
            <a:xfrm>
              <a:off x="403848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3048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75840" y="5257800"/>
            <a:ext cx="75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me as BCNF with FDs replaced by MV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7B8-04C7-4DC2-8F2A-B7B1EA56C4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used by Normal For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4480" y="2211480"/>
            <a:ext cx="3198960" cy="358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048120"/>
            <a:ext cx="19047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06668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49200" y="2327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25520" y="30891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7800" y="42321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3560" y="5943600"/>
            <a:ext cx="65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  (1) 3NF is enough, (2) don’t overdo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AA8-E10E-4CB6-9B44-51EE20614D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358-9A42-4ECE-B508-A58722CE77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d all the employees who earn more than $50,000 and pay taxes in New Jers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sig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gh-level query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(used ever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log (used by database theoreticians, their students, friends and fami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: a basic set of operations on relations that provid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C33-8108-4534-A70B-DD19795308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: relations as input, new relation as out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ve basic RA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sic Set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ion, difference (no intersection, no c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ur relations have attribute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2B8-6B9D-4C0F-82A0-D1550CA9C1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: all tuples in R1 or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U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Employees U Retired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:  all tuples in R1 and not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mployees  -  Retired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261-0FA4-4FA0-BF23-530367CF0A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: returns a subset of the tuples which satisfy some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, &lt;, &gt;, and, or,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employees with salary more than $40,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3240" y="30481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3200" y="5867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alary &gt; 4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8E6-8FAF-4DE3-A325-F656F058FF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57200" y="582480"/>
          <a:ext cx="80773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82480"/>
                    <a:ext cx="80773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16600" y="3800520"/>
            <a:ext cx="73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5D8-F94C-42A8-8FB4-809B475FDC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5A9-1806-4086-8A33-B3C40FD798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: returns certain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duplicate tupl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7440" y="29718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A1,…,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8120" y="510552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SSN,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DCB-3305-4E2F-9711-70420995FD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09480" y="584280"/>
          <a:ext cx="739152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84280"/>
                    <a:ext cx="739152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173-10CF-4810-ABA0-881012DBFE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tuples combining any element of R1 with any element of R2, for R1 X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is union of Schema(R1) &amp; Schema(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1 x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ployee x Depe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bu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o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very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FA3-BA5A-4AAC-BA50-419839E99F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374840" y="274680"/>
          <a:ext cx="6357960" cy="62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74680"/>
                    <a:ext cx="635796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639-27D4-42A4-8F82-1E9A318B19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(Nat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, expensive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two relations, selecting only related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a cross product followed by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ing schema has all attributes of the two relations, but one copy of join condition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ADB-B9E0-4708-A6C9-49BB497CD0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143000" y="404640"/>
          <a:ext cx="66294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4640"/>
                    <a:ext cx="66294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B0A-F13B-45B0-93AE-17F131450A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eliminate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EBC-2FFF-460A-9BA1-3E6057831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4NF) = this lecture (only brief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FEA-860C-41CC-8806-A3160C53D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280" y="1946160"/>
            <a:ext cx="74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760" y="2749680"/>
            <a:ext cx="7860600" cy="164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 and only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A97-7B85-4EA7-8AD7-CD06922266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9360" y="21686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9360" y="232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3400" y="16765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59092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30481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3160" y="4384800"/>
            <a:ext cx="444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SSN, 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D34-1CD7-4C06-9B29-A6E174BD9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2360" y="19051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8640" y="2819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2767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438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6400" y="4038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4572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560" y="4572000"/>
            <a:ext cx="47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50292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4191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996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4880" y="617220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581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500-76F0-4597-8839-6A0D7204CC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64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640" y="2701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440" y="20574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Price                      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240" y="2971800"/>
            <a:ext cx="621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$19.99           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Click                 $24.99                       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21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59440" y="21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4040" y="426708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Price,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080" y="60958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 is already in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EBF-0FAA-4E6C-9B02-10844AA41C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02:55:32Z</dcterms:created>
  <dc:creator>Dan</dc:creator>
  <dc:description/>
  <dc:language>en-US</dc:language>
  <cp:lastModifiedBy>Gerome Miklau</cp:lastModifiedBy>
  <dcterms:modified xsi:type="dcterms:W3CDTF">2001-10-15T16:55:20Z</dcterms:modified>
  <cp:revision>14</cp:revision>
  <dc:subject/>
  <dc:title>Lecture 7</dc:title>
</cp:coreProperties>
</file>