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1FE2-60F3-4672-8A41-4F858130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DFA-0879-42E0-987F-1137C227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2E29-1A47-4D06-A47F-80724510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7EF1-D234-47BC-B463-1A00AE17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2121-8CAE-48D4-A12D-30AF6594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1660-9E99-4273-ACC3-B0435BD8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E75-384C-43BC-8752-7A9169C4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B2A4-D8CF-442D-8660-CA0D0967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F009-B6E7-41FA-BA62-DFE28F2A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3B18-9424-41E9-B0E8-A5FC2761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ADD8-156D-4951-BB14-BC4F9884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4F4-DFB2-4C06-B70D-D9A3B23D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B355-E46C-49A0-8200-0A7E319CC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 and 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12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th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5840" y="3321000"/>
            <a:ext cx="1822320" cy="55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21040" y="3154320"/>
            <a:ext cx="1104840" cy="9939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97200" y="3443400"/>
            <a:ext cx="1546200" cy="552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58760" y="2933640"/>
            <a:ext cx="1049400" cy="496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5876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3876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998720" y="3321000"/>
            <a:ext cx="109440" cy="1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052720" y="3983040"/>
            <a:ext cx="38736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33680" y="365112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25880" y="3651120"/>
            <a:ext cx="93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195960" y="3871800"/>
            <a:ext cx="38736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83320" y="3871800"/>
            <a:ext cx="44136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65680" y="6033960"/>
            <a:ext cx="33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me, 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78280" y="4457880"/>
            <a:ext cx="1049400" cy="496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1800" y="41529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2320" y="1219320"/>
            <a:ext cx="805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If the relation comes from a many-many relationship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of the relation is the set of all attribute keys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 corresponding to the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th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960" y="1371600"/>
            <a:ext cx="772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cep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there is an arrow from the relationship to E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n’t need the key of E as part of the relation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057400" y="2514600"/>
            <a:ext cx="5029200" cy="2239920"/>
            <a:chOff x="2057400" y="2514600"/>
            <a:chExt cx="5029200" cy="2239920"/>
          </a:xfrm>
        </p:grpSpPr>
        <p:sp>
          <p:nvSpPr>
            <p:cNvPr id="171" name=""/>
            <p:cNvSpPr/>
            <p:nvPr/>
          </p:nvSpPr>
          <p:spPr>
            <a:xfrm>
              <a:off x="4069080" y="3017160"/>
              <a:ext cx="914040" cy="82260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rch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40280" y="2514600"/>
              <a:ext cx="13255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40480" y="4297320"/>
              <a:ext cx="1325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60720" y="3200040"/>
              <a:ext cx="1325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83480" y="3428640"/>
              <a:ext cx="7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26280" y="3840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66160" y="2971800"/>
              <a:ext cx="5029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57400" y="4205880"/>
              <a:ext cx="1325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ayment Meth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382920" y="3428640"/>
              <a:ext cx="685800" cy="77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371600" y="312408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4114800"/>
            <a:ext cx="91440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d-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4343400"/>
            <a:ext cx="76176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5880" y="251460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980720" y="2971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523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81480" y="4495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4771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68600" y="5791320"/>
            <a:ext cx="64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 , sname, 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rd-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th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one, one-many, one-on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wa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ry to find them yourself, check bo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for FD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4440" y="254952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2920" y="27511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70120" y="27511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08200" y="27511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96920" y="2778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11320" y="254952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79800" y="2736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37000" y="2736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75080" y="27367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92360" y="392112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60480" y="4122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17680" y="4122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56120" y="4122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44840" y="4149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35560" y="40734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2600" y="335268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quivalen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68880" y="3886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92360" y="445464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60480" y="46562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17680" y="46562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56120" y="46562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44840" y="46832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35560" y="4606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8880" y="441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68320" y="5521320"/>
            <a:ext cx="17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36800" y="5722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94000" y="5722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32080" y="5722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21160" y="5749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11520" y="5673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45200" y="5486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2360" y="502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8400" y="2638440"/>
            <a:ext cx="228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plitt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mb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in FD’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39720" y="3921120"/>
            <a:ext cx="17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08200" y="4122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65400" y="4122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03480" y="4122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92560" y="4149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59240" y="4149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30640" y="39211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5880" y="380988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ivial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80520" y="50706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in FD’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55960" y="353232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3733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81280" y="3733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19720" y="3733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08440" y="3760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28960" y="2505240"/>
            <a:ext cx="38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ransitive Closure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55960" y="452268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47242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81280" y="47242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19720" y="47242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08440" y="4751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55960" y="551340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57150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81280" y="57150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19720" y="57150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08440" y="5742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593680" y="3532320"/>
            <a:ext cx="1851840" cy="596520"/>
            <a:chOff x="5593680" y="3532320"/>
            <a:chExt cx="1851840" cy="596520"/>
          </a:xfrm>
        </p:grpSpPr>
        <p:sp>
          <p:nvSpPr>
            <p:cNvPr id="254" name=""/>
            <p:cNvSpPr/>
            <p:nvPr/>
          </p:nvSpPr>
          <p:spPr>
            <a:xfrm>
              <a:off x="5775480" y="376056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93680" y="353232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 , B  …,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32680" y="376056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47080" y="376056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701680" y="4522680"/>
            <a:ext cx="1851120" cy="596880"/>
            <a:chOff x="5701680" y="4522680"/>
            <a:chExt cx="1851120" cy="596880"/>
          </a:xfrm>
        </p:grpSpPr>
        <p:sp>
          <p:nvSpPr>
            <p:cNvPr id="259" name=""/>
            <p:cNvSpPr/>
            <p:nvPr/>
          </p:nvSpPr>
          <p:spPr>
            <a:xfrm>
              <a:off x="5883120" y="47512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01680" y="452268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 , C  …,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40320" y="47512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54720" y="47512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778000" y="5513400"/>
            <a:ext cx="1851120" cy="596880"/>
            <a:chOff x="5778000" y="5513400"/>
            <a:chExt cx="1851120" cy="596880"/>
          </a:xfrm>
        </p:grpSpPr>
        <p:sp>
          <p:nvSpPr>
            <p:cNvPr id="264" name=""/>
            <p:cNvSpPr/>
            <p:nvPr/>
          </p:nvSpPr>
          <p:spPr>
            <a:xfrm>
              <a:off x="5959440" y="57420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78000" y="551340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 , C  …,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16640" y="57420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331040" y="57420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280520" y="34704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57200" y="44607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80160" y="5527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53760" y="609588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of a set of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8440" y="1981080"/>
            <a:ext cx="8358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iven a set of attributes  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1, …, An}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nd a set of dependencies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blem: find all attribute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such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y relation which satisfies S also satisf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1, …, An       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19520" y="335268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9240" y="4156200"/>
            <a:ext cx="64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A1, …, An}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A1, …, An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all such attribu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82760" y="41148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2080" y="1946160"/>
            <a:ext cx="528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X={A1, …, An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 unt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doesn’t change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                                        is in S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is not i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C to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3429000"/>
            <a:ext cx="17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3516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9236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3044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19520" y="3657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43560" y="33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2120" y="396252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06560" y="42400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63760" y="42400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0" y="41911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43200" y="3962520"/>
            <a:ext cx="21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ll in X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9120" y="1641600"/>
            <a:ext cx="650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     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D          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               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F               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 of {A,B}:     X = {A, B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 of  {A, F}:    X = {A, F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190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3880" y="2209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4792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2971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s the Algorithm Correc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 the following by ind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1, …, An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= {A1, …, An}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h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ction step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1, …, B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es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1, …, An      B1, …, 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lso ha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1, …, Bm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ransitivity we ha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1, …, An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hows that the algorithm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need to show it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48120" y="3048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48320" y="47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1500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62520" y="434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 and keys (3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forms: BCNF (3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r Logical Desig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some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out its FD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m to design a better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3657600" y="1905120"/>
            <a:ext cx="3581280" cy="864720"/>
            <a:chOff x="3657600" y="1905120"/>
            <a:chExt cx="3581280" cy="864720"/>
          </a:xfrm>
        </p:grpSpPr>
        <p:sp>
          <p:nvSpPr>
            <p:cNvPr id="306" name=""/>
            <p:cNvSpPr/>
            <p:nvPr/>
          </p:nvSpPr>
          <p:spPr>
            <a:xfrm>
              <a:off x="6253920" y="2113560"/>
              <a:ext cx="984600" cy="29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49800" y="2024280"/>
              <a:ext cx="596880" cy="5367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u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105080" y="2173320"/>
              <a:ext cx="835560" cy="29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657600" y="190512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657600" y="250164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25600" y="2501640"/>
              <a:ext cx="56664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71880" y="250164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s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4164840" y="2113560"/>
              <a:ext cx="5976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4194720" y="2471760"/>
              <a:ext cx="208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41000" y="2292840"/>
              <a:ext cx="2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46680" y="2292840"/>
              <a:ext cx="50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6433200" y="2412000"/>
              <a:ext cx="20880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42000" y="2412000"/>
              <a:ext cx="2386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515880" y="20224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6600" y="3733920"/>
            <a:ext cx="239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lus FD’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6960" y="525780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3809880" y="3809880"/>
          <a:ext cx="1524240" cy="78768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5867280" y="3809880"/>
          <a:ext cx="1905120" cy="59040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4800600" y="5181480"/>
          <a:ext cx="1143000" cy="787680"/>
        </p:xfrm>
        <a:graphic>
          <a:graphicData uri="http://schemas.openxmlformats.org/drawingml/2006/table">
            <a:tbl>
              <a:tblPr/>
              <a:tblGrid>
                <a:gridCol w="380880"/>
                <a:gridCol w="380880"/>
                <a:gridCol w="38124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6248520" y="5181480"/>
          <a:ext cx="380880" cy="78768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7010280" y="5181480"/>
          <a:ext cx="762120" cy="78768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3581280" y="5181480"/>
          <a:ext cx="762120" cy="78732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556272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96216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832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6477120" y="45720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10280" y="44956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: eliminate anoma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cy anoma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 anoma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anoma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06560" y="262584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06560" y="27781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0600" y="2133720"/>
            <a:ext cx="58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SSN              Phon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76520" y="3048120"/>
            <a:ext cx="59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d                  123-321-99      (201)  555-1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76520" y="350532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d                  123-321-99      (206)  572-43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                    909-438-44      (908)  464-00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                    909-438-44      (212)  555-4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22860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10080" y="22860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4000" y="5105520"/>
            <a:ext cx="6322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oma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        = repea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anomalies = need to update in many 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on anomalies = need to delete many tu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2240" y="1676520"/>
            <a:ext cx="63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set attributes (persons with several phon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76200" y="495288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SSN no longer a key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2360" y="190512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               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48640" y="281952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3-321-99          F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47920" y="327672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9-438-44           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8080" y="243828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24080" y="2057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526400" y="4038480"/>
            <a:ext cx="44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                        Phon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19320" y="45720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560" y="4572000"/>
            <a:ext cx="47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3-321-99               (201)  555-1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00200" y="502920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3-321-99               (206)  572-43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9-438-44               (908)  464-00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9-438-44               (212)  555-4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29000" y="4191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12040" y="148896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eak the relation into t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24280" y="1752480"/>
            <a:ext cx="17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892760" y="19540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49960" y="19540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88040" y="19540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58560" y="1717560"/>
            <a:ext cx="43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a relation with attrib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8200" y="2631960"/>
            <a:ext cx="59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wo relations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ttrib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143000" y="342900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31112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6832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60676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733920" y="342900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, C , …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0204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5924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9732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8720" y="407988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43000" y="441972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311120" y="4621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68320" y="4621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06760" y="4621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733920" y="441972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, C , …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02040" y="4621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59240" y="4621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97320" y="4621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82040" y="437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10880" y="437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19920" y="441972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88040" y="4621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645240" y="4621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483320" y="4621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9520" y="5146560"/>
            <a:ext cx="44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projec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projec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48320" y="556272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16440" y="5764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73640" y="5764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111720" y="5764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628956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, C , …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16440" y="649116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73640" y="649116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11720" y="649116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rrect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incorr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819520" y="28195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0" name=""/>
          <p:cNvSpPr/>
          <p:nvPr/>
        </p:nvSpPr>
        <p:spPr>
          <a:xfrm>
            <a:off x="1358640" y="4876920"/>
            <a:ext cx="612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ompose on 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, Category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,  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rrect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676520" y="2819520"/>
          <a:ext cx="2408040" cy="1452600"/>
        </p:xfrm>
        <a:graphic>
          <a:graphicData uri="http://schemas.openxmlformats.org/drawingml/2006/table">
            <a:tbl>
              <a:tblPr/>
              <a:tblGrid>
                <a:gridCol w="1258560"/>
                <a:gridCol w="1149480"/>
              </a:tblGrid>
              <a:tr h="412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Cl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5105520" y="2819520"/>
          <a:ext cx="2170080" cy="1452600"/>
        </p:xfrm>
        <a:graphic>
          <a:graphicData uri="http://schemas.openxmlformats.org/drawingml/2006/table">
            <a:tbl>
              <a:tblPr/>
              <a:tblGrid>
                <a:gridCol w="1020600"/>
                <a:gridCol w="1149480"/>
              </a:tblGrid>
              <a:tr h="412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4114800" y="4572000"/>
          <a:ext cx="2895480" cy="2025720"/>
        </p:xfrm>
        <a:graphic>
          <a:graphicData uri="http://schemas.openxmlformats.org/drawingml/2006/table">
            <a:tbl>
              <a:tblPr/>
              <a:tblGrid>
                <a:gridCol w="1142640"/>
                <a:gridCol w="782640"/>
                <a:gridCol w="970200"/>
              </a:tblGrid>
              <a:tr h="39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Cl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Cl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"/>
          <p:cNvSpPr/>
          <p:nvPr/>
        </p:nvSpPr>
        <p:spPr>
          <a:xfrm>
            <a:off x="4343400" y="3733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34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343400" y="38095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343400" y="38098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9080" y="518148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e put it bac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1440" y="583236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nnot recov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ll attributes are ato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2NF) = old and obso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3NF) = this l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yce Codd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BCNF) = this l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ce-Codd Norm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5280" y="1946160"/>
            <a:ext cx="740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BCNF if and only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there is a nontrivial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 R , it is the case that  {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uper-key for 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6200" y="380988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54320" y="40114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11520" y="40114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49960" y="40114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307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43600" y="342900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1172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56892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40736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9080" y="4917960"/>
            <a:ext cx="850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nglish (though a bit vagu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a set of attribu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termining another attribu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determin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attribu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orm of constraint (hence, part of the sche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them is part of the database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used in normalizing the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9360" y="216864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9360" y="23209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73400" y="1676520"/>
            <a:ext cx="58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SSN              Phon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19320" y="2590920"/>
            <a:ext cx="59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d                  123-321-99      (201)  555-1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219320" y="304812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d                  123-321-99      (206)  572-43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                    909-438-44      (908)  464-00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                    909-438-44      (212)  555-4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666880" y="1828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52880" y="1828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3160" y="4384800"/>
            <a:ext cx="444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dependenc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  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ke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, SSN, Phone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in BCN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5740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e it into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2360" y="190512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               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8640" y="281952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3-321-99          F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47920" y="327672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9-438-44           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8080" y="243828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2057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6400" y="4038480"/>
            <a:ext cx="44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                        Phon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19320" y="45720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00560" y="4572000"/>
            <a:ext cx="47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3-321-99               (201)  555-1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00200" y="502920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3-321-99               (206)  572-43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9-438-44               (908)  464-00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9-438-44               (212)  555-4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4191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59960" y="33526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     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64880" y="617220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     Phone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19920" y="3581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6400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01640" y="25495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1640" y="2701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522440" y="2057400"/>
            <a:ext cx="61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  Price                      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371240" y="2971800"/>
            <a:ext cx="621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 $19.99                        ga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Click                 $24.99                        cam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63960" y="216864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959440" y="216864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4040" y="4267080"/>
            <a:ext cx="34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Price,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8098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971080" y="609588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t is already in BC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9960" y="187020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dependency that violates the BCNF cond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00200" y="243828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68320" y="26398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25520" y="26398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063960" y="26398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3526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67080" y="24382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35560" y="26258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92760" y="26258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730840" y="26258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96920" y="392112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444840" y="399744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583440" y="48769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302920" y="48355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21520" y="4876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97640" y="61722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3800" y="61722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4400" y="3013200"/>
            <a:ext cx="672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euristics: choose B , B , … B  “as large as possib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43200" y="32004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32004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038480" y="3200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5040" y="407988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5840" y="5222880"/>
            <a:ext cx="193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nd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-attrib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ion t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in BCN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613920" y="4537080"/>
            <a:ext cx="225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u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NF vi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Decomposi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94360" y="2174760"/>
            <a:ext cx="56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SSN   Age   EyeColor  Phone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3520" y="26668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3520" y="27432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47920" y="2286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343400" y="236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971800" y="2286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286000" y="2286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0920" y="3276720"/>
            <a:ext cx="710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 dependencie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                Name, Age, Eye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098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2280" y="5562720"/>
            <a:ext cx="736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at if we also had an attribute Draft-worthy, and the F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ge                Draft-wor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505320" y="6553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400" y="15652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373400" y="4343400"/>
            <a:ext cx="612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CF:    Person1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, Name, Age, Eye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2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, Phone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,B,C,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     B,    B     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: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,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olations of BCNF: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  B,  A   C,  A   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   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split into  R1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,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 R2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,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if we pick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 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fir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8620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86400" y="2286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0552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3915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36232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62720" y="5257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ct Decompos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composition is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lossl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we can recov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(A,B,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(A,B)      R2(A,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’(A,B,C)   =  R(A,B,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352680" y="27432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352680" y="44197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40880" y="6137280"/>
            <a:ext cx="63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’ is in general larger than R.  Must ensure R’ =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360" y="19191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160" y="1752480"/>
            <a:ext cx="57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wo tuples agree on the attrib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4648320"/>
            <a:ext cx="17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49560" y="4849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06760" y="4849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44840" y="4849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64040" y="3581280"/>
            <a:ext cx="54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y must also agree on the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40384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68320" y="42260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25520" y="42260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63960" y="42260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0640" y="461340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mall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304812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68320" y="3249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25520" y="3249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63960" y="3249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464832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16440" y="48355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73640" y="48355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11720" y="48355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1440" y="5715000"/>
            <a:ext cx="44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in (and simplest) examp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ID         Name, Phone,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on        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Times New Roman"/>
              </a:rPr>
              <a:t>but  Phone        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5791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56386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92160" y="1754280"/>
            <a:ext cx="1355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32040" y="1754280"/>
            <a:ext cx="1476360" cy="411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68520" y="1754280"/>
            <a:ext cx="1157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08400" y="1754280"/>
            <a:ext cx="1278000" cy="411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6520" y="1754280"/>
            <a:ext cx="1197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86400" y="1754280"/>
            <a:ext cx="1317600" cy="411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64120" y="1754280"/>
            <a:ext cx="1516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04000" y="1754280"/>
            <a:ext cx="1636560" cy="411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92160" y="2165400"/>
            <a:ext cx="1355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00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32040" y="2165400"/>
            <a:ext cx="147636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68520" y="2165400"/>
            <a:ext cx="1157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08400" y="2165400"/>
            <a:ext cx="127800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6520" y="2165400"/>
            <a:ext cx="1197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86400" y="2165400"/>
            <a:ext cx="131760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64120" y="2165400"/>
            <a:ext cx="1516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0" y="2165400"/>
            <a:ext cx="163656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92160" y="2576520"/>
            <a:ext cx="13557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18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32040" y="2576520"/>
            <a:ext cx="1476360" cy="40968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68520" y="2576520"/>
            <a:ext cx="11574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08400" y="2576520"/>
            <a:ext cx="1278000" cy="40968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6520" y="2576520"/>
            <a:ext cx="11970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86400" y="2576520"/>
            <a:ext cx="1317600" cy="40968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64120" y="2576520"/>
            <a:ext cx="15163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r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04000" y="2576520"/>
            <a:ext cx="1636560" cy="40968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92160" y="2986200"/>
            <a:ext cx="1355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32040" y="2986200"/>
            <a:ext cx="147636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68520" y="2986200"/>
            <a:ext cx="1157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08400" y="2986200"/>
            <a:ext cx="127800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6520" y="2986200"/>
            <a:ext cx="1197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86400" y="2986200"/>
            <a:ext cx="131760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64120" y="2986200"/>
            <a:ext cx="1516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r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04000" y="2986200"/>
            <a:ext cx="163656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92160" y="3397320"/>
            <a:ext cx="1355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9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32040" y="3397320"/>
            <a:ext cx="147636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68520" y="3397320"/>
            <a:ext cx="1157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08400" y="3397320"/>
            <a:ext cx="127800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6520" y="3397320"/>
            <a:ext cx="1197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86400" y="3397320"/>
            <a:ext cx="131760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64120" y="3397320"/>
            <a:ext cx="1516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w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04000" y="3397320"/>
            <a:ext cx="163656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1752480"/>
            <a:ext cx="5715000" cy="2057400"/>
          </a:xfrm>
          <a:prstGeom prst="rect">
            <a:avLst/>
          </a:prstGeom>
          <a:noFill/>
          <a:ln w="648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heck  A       B, erase all other colum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if the remaining relation is many-one (calle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unctio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mathematic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411280" y="3105000"/>
          <a:ext cx="4330800" cy="231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105000"/>
                    <a:ext cx="4330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138320" y="2300400"/>
          <a:ext cx="6977160" cy="258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2300400"/>
                    <a:ext cx="6977160" cy="25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flipH="1">
            <a:off x="548640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4864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56272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5480" y="2506680"/>
            <a:ext cx="18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45440" y="1793880"/>
            <a:ext cx="540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name       price, manufactu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sn          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      stock price,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5268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5268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600" y="3241800"/>
            <a:ext cx="75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of a re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t of attributes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unctionally determines all the attributes of the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ne of its subsets determines all th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perkey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set of attributes that contains a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the Keys of a R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1960" y="2022480"/>
            <a:ext cx="83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ven a relation constructed from an E/R diagram, what is its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6040" y="2590920"/>
            <a:ext cx="794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If the relation comes from an entity se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of the relation is the set of attributes which i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of the entity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8600" y="4648320"/>
            <a:ext cx="4723920" cy="1396800"/>
            <a:chOff x="228600" y="4648320"/>
            <a:chExt cx="4723920" cy="1396800"/>
          </a:xfrm>
        </p:grpSpPr>
        <p:sp>
          <p:nvSpPr>
            <p:cNvPr id="140" name=""/>
            <p:cNvSpPr/>
            <p:nvPr/>
          </p:nvSpPr>
          <p:spPr>
            <a:xfrm>
              <a:off x="228600" y="5561640"/>
              <a:ext cx="101988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53800" y="5507640"/>
              <a:ext cx="101952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32640" y="5507640"/>
              <a:ext cx="101988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s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17040" y="4648320"/>
              <a:ext cx="1771560" cy="537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140480" y="5185440"/>
              <a:ext cx="1181160" cy="4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22000" y="5185440"/>
              <a:ext cx="21456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22000" y="5185440"/>
              <a:ext cx="1717560" cy="42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333040" y="464832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, nam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49528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5T10:52:07Z</dcterms:created>
  <dc:creator>dan</dc:creator>
  <dc:description/>
  <dc:language>en-US</dc:language>
  <cp:lastModifiedBy>Administrator</cp:lastModifiedBy>
  <cp:lastPrinted>2000-10-04T18:00:51Z</cp:lastPrinted>
  <dcterms:modified xsi:type="dcterms:W3CDTF">2001-10-12T03:01:22Z</dcterms:modified>
  <cp:revision>59</cp:revision>
  <dc:subject/>
  <dc:title>Database Desig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