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EF7-EF94-4773-BD57-88C8A736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B26-DB58-489C-B882-448926CF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878-3293-44F4-8785-9ECD2761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E18-5EB5-426C-85B9-EB4EE6EA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AA1-63D9-416E-A7FC-044AEFB8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8F0-0427-4B0F-A559-E90F39D1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2F6-4A37-4039-9A98-B4DC5D0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610-8EA0-452C-ADD1-B01A2008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080-6BD2-476B-B8B0-351A3437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134-81B7-4C31-AAAA-07B1D37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C55-88B3-4AAF-950A-A96124C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AF4-45C9-43C0-8DEF-9F2DA11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2957-E820-4D89-9ADC-8AB6C4C9A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0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EB8-C449-4250-8B2C-A38B10CAFF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 and 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y with programming langu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=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=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disti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chema = stable over long period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Instance = changes constantly, as data is inserted/updated/de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B44-45CE-43F1-A963-AFCC771860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Mathematical Definitions of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618320" cy="44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as cartesian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= elemen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t = (gizmo, 19, gadgets, GizmoWo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= subse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in the tuple is importan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izmo, 19, gadgets, GizmoWo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izmo, 19 , GizmoWorks, gadg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034-D01F-41FB-AA4B-30A33F5B05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as a set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 the set of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ufactur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= function t:A     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= set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in a tuple is no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names ar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5920" y="4343400"/>
            <a:ext cx="33645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ame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gizm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19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gadge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nufacturer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zmoWorks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D64-E1E3-4A6A-9632-9A2C47B89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Definitions of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switch back and forth between these tw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al tuples, without attribut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schemas with attribut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A84-C225-42D0-8207-7BC6DFD009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ODL 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360" y="2251080"/>
            <a:ext cx="79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simple:  a class definition has onl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 valued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5720" y="4495680"/>
            <a:ext cx="91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ecomes a relation, and every attribute becomes a relation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715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867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9240" y="522288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7680" y="6137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$19.99           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533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533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880" y="49942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9200" y="2743200"/>
            <a:ext cx="63860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at pric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ing na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um {telephony, gadgets, books}  categor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02B-6DB0-48F1-A88E-6FFE72FE89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Non atomic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5320" y="399744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320" y="41497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120" y="3505320"/>
            <a:ext cx="61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urrency    Am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6000" y="441972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US$          19.99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6000" y="49528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   US$          29.99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3920" y="1600200"/>
            <a:ext cx="7235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{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 {string currency, float amount} pric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9680" y="31240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57D-04E6-4C53-BCF3-068715168D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640" y="3692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640" y="3844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680" y="32004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411480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45720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3352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352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7920" y="274320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 option:  have a tuple for every value in the s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720" y="61372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advant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9320" y="1066680"/>
            <a:ext cx="47325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s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ing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ger SS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&lt;integer&gt; PhoneNumbe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540-2E36-401D-93A0-0562D30855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Colle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520" y="1641600"/>
            <a:ext cx="768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becomes even more significant if a class h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attributes that are set typ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ad is the redundancy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 type attribu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with possibly up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val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stions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model ba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length arr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EF6-E992-42EB-BDBF-AFEBBEFF5C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8480" y="1066680"/>
            <a:ext cx="536400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loat  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mpany&gt;  madeB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ring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loat stock-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ring  addr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2240" y="5943600"/>
            <a:ext cx="82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do we incorporate the relationship madeBy in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018-0E66-4C74-A361-E2DBB62948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960" y="2590920"/>
            <a:ext cx="89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Price    made-by-name   made-by-stock-price  made-by-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240" y="300672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1240" y="3159000"/>
            <a:ext cx="899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1600" y="270180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270180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73400" y="270180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16600" y="277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8120" y="320040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$19.99  gizmoWorks        0.0001$                     Montez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4956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6000" y="1676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3D7-594B-4FCD-914B-3D993BB03B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model (3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 to relational model (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to relational model (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es to relational model (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BC2-58A6-4FE9-A27F-AC422D88F1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680" y="1066680"/>
            <a:ext cx="530748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loat  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  madeB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ring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loat stock-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ring  addr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t &lt;Product&gt; mak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242-AD16-4C71-BD8F-61FC207738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200" y="2438280"/>
            <a:ext cx="76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  Price                            made-by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11400" y="2549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5320" y="3048120"/>
            <a:ext cx="73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   $19.99             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1676520"/>
            <a:ext cx="74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ssu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 is a key for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8954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0481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6800" y="4232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160" y="5029200"/>
            <a:ext cx="70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  Stock Price                    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01840" y="5140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43680" y="5105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680" y="563868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Works                   $0.00001                    Montez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040" y="5486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040" y="56386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1E2-DA48-4390-B27E-64B0A76EFC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3320" y="2479680"/>
            <a:ext cx="679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hat if there is no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if the relationship is multi-valu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How do we represent a relationship and its inve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25000" y="568008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swer: that’s what we have the book for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9DD-7E16-48CC-8295-26542B5423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 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2320" y="2022480"/>
            <a:ext cx="835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han ODL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using a liberal interpretation of the word “easy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lationships are already independen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ly atomic types exist in the E/R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ntity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re for weak entity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ABA-EAA2-4C77-8DFB-CE56A5D70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189" idx="2"/>
            <a:endCxn id="193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88" idx="0"/>
            <a:endCxn id="189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8B2-4B90-427C-986C-1021C803E9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CF7-F14E-4136-8E86-62A9137FCC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27" idx="0"/>
            <a:endCxn id="242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27" idx="0"/>
            <a:endCxn id="228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27" idx="0"/>
            <a:endCxn id="229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5" idx="0"/>
            <a:endCxn id="236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25" idx="3"/>
            <a:endCxn id="226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C4E-ECCF-4C3E-8C7B-74F34B39BC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-one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Just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2" idx="0"/>
            <a:endCxn id="26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52" idx="0"/>
            <a:endCxn id="25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52" idx="0"/>
            <a:endCxn id="25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50" idx="0"/>
            <a:endCxn id="26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50" idx="3"/>
            <a:endCxn id="25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247-5C7D-41A4-9EAB-510B761C4F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3960" y="3581280"/>
            <a:ext cx="835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ort                            Number                 Affiliate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d wrestling                 15                     Montezuma State 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-105120" y="5527800"/>
            <a:ext cx="744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ed all the attributes that contribute to the key of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n’t need a separate relation for Affili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4876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A9C-A70B-4416-9204-6457860C5B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180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44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297" idx="0"/>
            <a:endCxn id="306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6" idx="0"/>
            <a:endCxn id="295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295" idx="2"/>
            <a:endCxn id="304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4" idx="3"/>
            <a:endCxn id="296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297" idx="2"/>
            <a:endCxn id="305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5" idx="3"/>
            <a:endCxn id="298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03" idx="0"/>
            <a:endCxn id="296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298" idx="0"/>
            <a:endCxn id="303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0" idx="2"/>
            <a:endCxn id="297" idx="0"/>
          </p:cNvCxnSpPr>
          <p:nvPr/>
        </p:nvCxnSpPr>
        <p:spPr>
          <a:xfrm>
            <a:off x="1144080" y="3260880"/>
            <a:ext cx="7995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299" idx="2"/>
            <a:endCxn id="296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0A0-61E2-4896-8686-11DBFFDDB9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1793880"/>
            <a:ext cx="1636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L, E/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224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936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080" y="4613400"/>
            <a:ext cx="21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L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(E/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61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6DE-D0C6-40FD-88C7-5B3359EE5A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#1: the OD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320" y="1870200"/>
            <a:ext cx="858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4 tables: each object can only belong to a sing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, 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Product(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, category, manufactur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Group, to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Product(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, category, manufactur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tforms, required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SoftwareProduct(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, category, manufactur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Group, topic, platform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quired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ll 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 are distin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82D-6C9A-4009-8D2C-AB24329938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#2: the E/R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560" y="2057400"/>
            <a:ext cx="7286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, 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Product(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Group, to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Product(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tforms, required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 need for a relation EducationalSoftware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ess, it has a specialized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Software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ducational-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appear in several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6A3-6FE9-45C6-AEB2-047E71197D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#3: The Null Valu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1600" y="2631960"/>
            <a:ext cx="860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on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( name,  price,  manufacturer, age-group, topic, platform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-memory, educational-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values in the table will be NULL, meaning that the 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ake sense for the specific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o many meanings for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8F4-F8FE-4A6F-AD9F-1D460D8457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424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440" y="59850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460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762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726-43B8-4853-A343-FFCAFE395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has 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tomic type (why ?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1A2-0D94-446D-9B64-0FE5BA6D33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add the domain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endor(Name, Address, Phone)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295-1521-4B97-8599-3C6D665BF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1,…,Ak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corresponding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1(…), R2(…), …, Rn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1, R2, ...,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F9E-4373-48AE-B1E8-57B8D036D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85" name=""/>
            <p:cNvSpPr/>
            <p:nvPr/>
          </p:nvSpPr>
          <p:spPr>
            <a:xfrm>
              <a:off x="98640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2C6-FE7C-49E1-AA5C-71A660486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1960" y="2098800"/>
            <a:ext cx="761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database maintains a current databas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 to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add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delete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modify an attribute in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s to the data happen very frequ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s to the schema: relatively rare. Rather painful. Wh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E11-0854-446A-AE0B-2873A16B98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10:52:07Z</dcterms:created>
  <dc:creator>dan</dc:creator>
  <dc:description/>
  <dc:language>en-US</dc:language>
  <cp:lastModifiedBy>Administrator</cp:lastModifiedBy>
  <cp:lastPrinted>1999-09-29T15:59:08Z</cp:lastPrinted>
  <dcterms:modified xsi:type="dcterms:W3CDTF">2001-10-10T17:56:32Z</dcterms:modified>
  <cp:revision>70</cp:revision>
  <dc:subject/>
  <dc:title>Databas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