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A3D-36F0-4F9C-9039-D93E79BC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BEE-46D9-4E7F-A4BC-7583A607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AD2-6F0B-4AF6-B407-2F0F5B4A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03A-7511-4810-83E6-DA43C6E8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366-463E-4C8E-B5AF-47636F9D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15B-CB89-423A-985C-A142F4F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8CD-CE55-4A6D-98B8-8FB4EE5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709-38E4-4829-BC6C-978F609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F45-F0A2-46E1-8E79-CF29BF0C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165-22C0-44CD-8B38-8AE9C51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703-892F-4531-8399-E8F24DB3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23D-70DD-48B2-B948-FDC9A221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5FB9-B07D-4EFD-86F4-BBCD7123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odeling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. 8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095-04F6-46B4-AF79-6CFD04DE9E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resolve conflict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286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562720"/>
            <a:ext cx="221004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6000" y="3962520"/>
            <a:ext cx="135864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28800" y="3276720"/>
            <a:ext cx="2743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276720"/>
            <a:ext cx="2590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876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419360" y="4876920"/>
            <a:ext cx="2819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1680" y="301320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93960" y="27846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26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57200" y="35809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0120" y="3733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62720" y="5866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2960" y="22096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0400" y="548640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85440" y="48769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009920" y="2971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65240" y="575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0481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619-3287-41C0-8522-8649DE35B1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0280" y="152280"/>
            <a:ext cx="53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in E/R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A90-7197-4B21-8C1E-B8A0DAED05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176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EDD-9C5D-4193-B91E-9F4B0C78C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196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8F8-B060-4913-8253-FB11FEC892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212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5CB-F188-4EAD-B8F0-B6C314A26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228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85F-785D-4235-A1AC-5BACD9F1E9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235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3BA-A208-4186-BC91-757B99240A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8" idx="0"/>
            <a:endCxn id="246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49" idx="0"/>
            <a:endCxn id="252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46" idx="0"/>
            <a:endCxn id="251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2" idx="0"/>
            <a:endCxn id="251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0CF-FDC1-4FCD-9A39-880DACAC08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n assertion about the database that must be true at all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d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in programming languages do not have anything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vari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C73-2319-41FB-BA2B-882414ECEE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640" y="1219320"/>
            <a:ext cx="8682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main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al 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 others (at most 50 students enroll in a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D23-1E98-4567-8B7D-0D0935A8D2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es (2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: (2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 (2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DE6-6BD2-45C7-AA4A-0EE98B924A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6000" y="1793880"/>
            <a:ext cx="744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attributes that uniquely identify an object or e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cial-security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+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+ address +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keys are often hard to find, so organizations us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 somet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382-4A84-43A1-B25D-9B5F4F290E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attribute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+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cial-security-number,  name +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416-EA02-4D5D-8B64-7E72492B3B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4320" y="4800600"/>
            <a:ext cx="595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multiple ke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sn employeID  (name address ag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5000" y="1905120"/>
            <a:ext cx="34635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ss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ing ss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ing nam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5F0-1F03-4352-9E05-EB9D8E6139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636-F93B-488E-9F62-0351400FF9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can choose to allow one or mor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are always singl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have single or multipl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presi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&lt;person&gt; presid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31C-569D-4D15-BADE-03ED645DBF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057400" y="2362320"/>
            <a:ext cx="4647960" cy="828720"/>
            <a:chOff x="2057400" y="2362320"/>
            <a:chExt cx="4647960" cy="828720"/>
          </a:xfrm>
        </p:grpSpPr>
        <p:grpSp>
          <p:nvGrpSpPr>
            <p:cNvPr id="295" name=""/>
            <p:cNvGrpSpPr/>
            <p:nvPr/>
          </p:nvGrpSpPr>
          <p:grpSpPr>
            <a:xfrm>
              <a:off x="2057400" y="2362320"/>
              <a:ext cx="1981080" cy="828720"/>
              <a:chOff x="2057400" y="2362320"/>
              <a:chExt cx="1981080" cy="82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2609640" y="2362320"/>
                <a:ext cx="922320" cy="82872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ff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057400" y="277668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31960" y="2776680"/>
                <a:ext cx="5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5276880" y="2362320"/>
              <a:ext cx="922320" cy="8287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723920" y="277668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99200" y="277668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AD9-8E70-4DA4-9648-9DBE2FD1F8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Value Constrai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explicitly require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lav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nu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llow nu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F69-7C5E-4F63-8E16-CF03BEA471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formalisms we may refer to other object but get garbage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dangling pointer in C/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ferential Integrity Constraint explicitly requires a reference to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735-F97C-48FA-9A11-C87BFF55AF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D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that a relationship cannot be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/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3962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3962520"/>
            <a:ext cx="213336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35812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638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5638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9548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9760" y="563868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71D-6CE0-4FBC-A50F-0D99B39ACF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5640" y="1717560"/>
            <a:ext cx="78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attributes come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part-of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splitting n-ary relations to bi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49528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49528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45720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819520" y="5257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19920" y="6019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48769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1280" y="44956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6477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00800" y="6553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142640" y="5791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5791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629040" y="5715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202-F71A-4A0E-AC17-6B5D0E70CD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6200" y="606096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(in ODL and in E/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D08-F613-4E6E-9B0C-AE787981C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lasse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5120" y="1447920"/>
            <a:ext cx="8505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ftwareProduct:  Produc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ring    platfor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teger  requiredMemo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ucationalProduct: Produc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 Interval {integer begin, integer end} ageGrou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ing top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800" y="6137280"/>
            <a:ext cx="65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two classe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heri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ll the properties of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BA1-46B8-4D76-9B89-28C9E8936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59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62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65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77" name="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80" name="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83" name="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ADF-8791-432D-AFBE-0F32CEABBB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lasses for Heterogeneous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consider a class referring to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fers a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thers a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ftwareProduc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080" y="2819520"/>
            <a:ext cx="55191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endor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ring    nam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&l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offer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F55-05CB-49A4-A751-9A1FBB49F8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nheritance in OD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286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5562720"/>
            <a:ext cx="221004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6000" y="3962520"/>
            <a:ext cx="135864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828800" y="3276720"/>
            <a:ext cx="2743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276720"/>
            <a:ext cx="2590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876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19360" y="4876920"/>
            <a:ext cx="2819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1680" y="301320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93960" y="27846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726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57200" y="35809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620120" y="3733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562720" y="5866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C99-CD00-46F4-95EB-1A162EA332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518240" cy="28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ucSoftwareProduct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ftwareProduct, EducationalProduc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tring  educational-metho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BB8-9AB3-4E25-B340-B0ED4EBAB6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Multiple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57800" y="3733920"/>
            <a:ext cx="1219320" cy="1168200"/>
            <a:chOff x="5257800" y="3733920"/>
            <a:chExt cx="1219320" cy="1168200"/>
          </a:xfrm>
        </p:grpSpPr>
        <p:grpSp>
          <p:nvGrpSpPr>
            <p:cNvPr id="112" name=""/>
            <p:cNvGrpSpPr/>
            <p:nvPr/>
          </p:nvGrpSpPr>
          <p:grpSpPr>
            <a:xfrm>
              <a:off x="5257800" y="3733920"/>
              <a:ext cx="1218960" cy="838080"/>
              <a:chOff x="5257800" y="3733920"/>
              <a:chExt cx="1218960" cy="838080"/>
            </a:xfrm>
          </p:grpSpPr>
          <p:sp>
            <p:nvSpPr>
              <p:cNvPr id="113" name=""/>
              <p:cNvSpPr/>
              <p:nvPr/>
            </p:nvSpPr>
            <p:spPr>
              <a:xfrm>
                <a:off x="5257800" y="3733920"/>
                <a:ext cx="1218960" cy="838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57800" y="419112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5257800" y="4572000"/>
              <a:ext cx="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7800" y="4876920"/>
              <a:ext cx="1219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477120" y="4571640"/>
              <a:ext cx="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410080" y="3733920"/>
              <a:ext cx="893880" cy="916920"/>
              <a:chOff x="5410080" y="3733920"/>
              <a:chExt cx="893880" cy="916920"/>
            </a:xfrm>
          </p:grpSpPr>
          <p:sp>
            <p:nvSpPr>
              <p:cNvPr id="119" name=""/>
              <p:cNvSpPr/>
              <p:nvPr/>
            </p:nvSpPr>
            <p:spPr>
              <a:xfrm>
                <a:off x="5410080" y="3733920"/>
                <a:ext cx="89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el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10080" y="4191120"/>
                <a:ext cx="89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eld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471280" y="453384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e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257800" y="4876920"/>
            <a:ext cx="1219320" cy="596880"/>
            <a:chOff x="5257800" y="4876920"/>
            <a:chExt cx="1219320" cy="596880"/>
          </a:xfrm>
        </p:grpSpPr>
        <p:sp>
          <p:nvSpPr>
            <p:cNvPr id="123" name=""/>
            <p:cNvSpPr/>
            <p:nvPr/>
          </p:nvSpPr>
          <p:spPr>
            <a:xfrm>
              <a:off x="5257800" y="4929120"/>
              <a:ext cx="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800" y="5157720"/>
              <a:ext cx="1219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77120" y="4928760"/>
              <a:ext cx="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7800" y="5157720"/>
              <a:ext cx="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5386320"/>
              <a:ext cx="1219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477120" y="5157360"/>
              <a:ext cx="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87120" y="48769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eld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7120" y="51055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eld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C36-3856-423B-B266-28271A0AA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dan</dc:creator>
  <dc:description/>
  <dc:language>en-US</dc:language>
  <cp:lastModifiedBy>uw</cp:lastModifiedBy>
  <cp:lastPrinted>1999-10-01T16:14:41Z</cp:lastPrinted>
  <dcterms:modified xsi:type="dcterms:W3CDTF">2001-10-08T18:02:43Z</dcterms:modified>
  <cp:revision>57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