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4B6-06A5-4571-870E-20AFDC56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410-1CAF-42E3-AA9B-6D020DDD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045-6B7B-42FD-9249-4ABCB143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670-70F9-4013-A9C1-B6474CBD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583-B50B-4917-B004-5B74FF85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CA1-DC47-45FC-A5BD-D5F5AE5B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5AD-CF6F-4542-A52B-9B3AF9D1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A8E-66E6-42C8-B237-5FD1334E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2F4-F1D0-4876-97F6-538FA207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9C1-36F1-4485-9F9B-34820759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FAB-5BAB-4E35-8173-328DFF3E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169-BE04-47DC-837B-360BC6CF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B22E-AF96-4B2F-A303-43C748297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systems po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SQ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GI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proje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HTML w/ D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46480" y="202248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828800"/>
            <a:ext cx="1523880" cy="21337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2209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1676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db_access.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1828800"/>
            <a:ext cx="1523880" cy="21337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514240" y="37339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32004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2004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3581280"/>
            <a:ext cx="914400" cy="609840"/>
          </a:xfrm>
          <a:prstGeom prst="flowChartPunchedTap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410080"/>
            <a:ext cx="2057400" cy="12193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4343400"/>
            <a:ext cx="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400800" y="4343400"/>
            <a:ext cx="0" cy="83808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956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Q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41972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quer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 connection from Pe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76520"/>
            <a:ext cx="3047760" cy="243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#!/usr/bin/perl5 -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e CGI; use DB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$html = new CG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int $html-&gt;header, "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$html-&gt;start_html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int $html-&gt;end_html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447920"/>
            <a:ext cx="4800600" cy="501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 searchDatab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$sql = "SELECT * FROM Elections2000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$db = DBI-&gt;connect ("dbi:Sybase:server=ISQL01", "cse444", “password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$db or die "Sorry we couldn't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nect!\n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$sth = $db-&gt;prepare($sql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$sth-&gt;execut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$row = "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ile ($row = $sth-&gt; fetchrow_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hashref()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$rec1 = $row-&gt;{lname}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int "Record 1 = $rec1&lt;p&gt;"; }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b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GI programs are not allowed by cs web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server: CUB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account will have directory ww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ed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bist.cs.washington.edu/~username/index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ty Calendar: samp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: </a:t>
            </a: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October 14, 2001, 2:3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: </a:t>
            </a: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October 14, 2001, 3:3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: </a:t>
            </a: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chess tournament with db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er: </a:t>
            </a: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ger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st of attendees: </a:t>
            </a: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{joe, uw-db, chess-players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: </a:t>
            </a: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ty Cale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events for users and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week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/modify event, manag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 interf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events via email containing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endar actions - not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y me 1 hour before a certain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y me if an event is added which applies to a group to which I be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y me if I have conflicts in my sched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me an email each evening summarizing my schedule for the next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ilest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15: Groups formed (email 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week project description will have complete calendar of milest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ome Miklau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rome@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 hours: Monday, 2:30-3:30 Sieg 226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 see me in office hou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mailing li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s P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or C/C++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x tools: shell programming, makefiles, 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HTML: cgi, asp, 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Server: Query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49662" r="49317" b="1532"/>
          <a:stretch/>
        </p:blipFill>
        <p:spPr>
          <a:xfrm>
            <a:off x="1676520" y="1828800"/>
            <a:ext cx="5638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Server: Lo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33640" y="2181240"/>
            <a:ext cx="3276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82028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GI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GI: common gateway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executed by web server, returning web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6480" y="202248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438280"/>
            <a:ext cx="632448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&lt;h1&gt; </a:t>
            </a:r>
            <a:r>
              <a:rPr b="0" lang="en-US" sz="2000" spc="-1" strike="noStrike">
                <a:solidFill>
                  <a:srgbClr val="ff0000"/>
                </a:solidFill>
                <a:latin typeface="Lucida Console"/>
              </a:rPr>
              <a:t>I love databases!</a:t>
            </a: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 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9810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cs.washington.edu/static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419720"/>
            <a:ext cx="1523880" cy="1371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45720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4038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static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4419720"/>
            <a:ext cx="1523880" cy="1371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410080"/>
            <a:ext cx="762120" cy="53352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276720" y="5334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5029200"/>
            <a:ext cx="457200" cy="6858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” HTML w/ PE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6480" y="202248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600200"/>
            <a:ext cx="632448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#!/usr/bin/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print “</a:t>
            </a:r>
            <a:r>
              <a:rPr b="0" lang="en-US" sz="2000" spc="-1" strike="noStrike">
                <a:solidFill>
                  <a:srgbClr val="ff0000"/>
                </a:solidFill>
                <a:latin typeface="Lucida Console"/>
              </a:rPr>
              <a:t>Content-type: text/html \n</a:t>
            </a: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print “</a:t>
            </a:r>
            <a:r>
              <a:rPr b="0" lang="en-US" sz="2000" spc="-1" strike="noStrike">
                <a:solidFill>
                  <a:srgbClr val="ff0000"/>
                </a:solidFill>
                <a:latin typeface="Lucida Console"/>
              </a:rPr>
              <a:t>&lt;html&gt;\n</a:t>
            </a: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print “</a:t>
            </a:r>
            <a:r>
              <a:rPr b="0" lang="en-US" sz="2000" spc="-1" strike="noStrike">
                <a:solidFill>
                  <a:srgbClr val="ff0000"/>
                </a:solidFill>
                <a:latin typeface="Lucida Console"/>
              </a:rPr>
              <a:t>&lt;h1&gt; I love databases! &lt;/h1&gt; \n</a:t>
            </a: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print “</a:t>
            </a:r>
            <a:r>
              <a:rPr b="0" lang="en-US" sz="2000" spc="-1" strike="noStrike">
                <a:solidFill>
                  <a:srgbClr val="ff0000"/>
                </a:solidFill>
                <a:latin typeface="Lucida Console"/>
              </a:rPr>
              <a:t>&lt;/html&gt;\n</a:t>
            </a:r>
            <a:r>
              <a:rPr b="0" lang="en-US" sz="2000" spc="-1" strike="noStrike">
                <a:solidFill>
                  <a:srgbClr val="3333cc"/>
                </a:solidFill>
                <a:latin typeface="Lucida Console"/>
              </a:rPr>
              <a:t>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12193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cs.washington.edu/dynamic.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4419720"/>
            <a:ext cx="1523880" cy="1371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45720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4038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dynamic.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19720"/>
            <a:ext cx="1523880" cy="1371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76720" y="5334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52578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334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5486400"/>
            <a:ext cx="914400" cy="609480"/>
          </a:xfrm>
          <a:prstGeom prst="flowChartPunchedTap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77040" y="2434680"/>
            <a:ext cx="21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CGI  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5T01:28:46Z</dcterms:created>
  <dc:creator>Gerome Miklau</dc:creator>
  <dc:description/>
  <dc:language>en-US</dc:language>
  <cp:lastModifiedBy>Gerome Miklau</cp:lastModifiedBy>
  <dcterms:modified xsi:type="dcterms:W3CDTF">2001-10-05T17:39:47Z</dcterms:modified>
  <cp:revision>14</cp:revision>
  <dc:subject/>
  <dc:title>Overview</dc:title>
</cp:coreProperties>
</file>