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376-D392-473B-91A9-A5A7A44A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0CA-1C92-42A6-B14A-AAF3AB43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B56-A91D-4E10-B241-90E559C5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903-FEE7-49EC-B80C-D7140658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C08-E7B4-4673-B0CC-904F6ECA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E12-51E0-403B-BF70-CF2CA631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8D8-BC44-47A0-9402-F354D059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842-2493-447D-BE0D-0A19F901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46F-0245-426D-8017-C495D1FA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529-9E91-406C-A4D1-14A27486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846-3CF2-46F4-8C80-5090EC87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448-E8AE-4643-83A9-CBA296C6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E2D2-50C1-4D03-BF20-4C10EF1E7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. 3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Example Exten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209680"/>
            <a:ext cx="220968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876920"/>
            <a:ext cx="213336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419720"/>
            <a:ext cx="1752480" cy="99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3480" y="1641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9800" y="232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51440" y="1793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579132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08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" y="495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9680" y="6400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412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36196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133720" y="2590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990360" y="6019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5780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838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320040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24080" y="518112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5520" y="3733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590920" y="320004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3920" y="5299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75840" y="33177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52578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Declarations, Exten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000" y="1447920"/>
            <a:ext cx="758268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ring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float   pr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num Catego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electronics, communications, sports …} catego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lt;Company&gt;  madeB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s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ger ss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ing  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uct Address {string street, string city} addres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Product&gt;  buy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Company&gt;  worksFor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9000" y="624852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s somewhat to pointers in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Example, Extended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209680"/>
            <a:ext cx="220968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876920"/>
            <a:ext cx="213336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419720"/>
            <a:ext cx="1752480" cy="99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3480" y="1641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79800" y="232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51440" y="1793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579132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08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" y="495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9680" y="6400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412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36196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133720" y="2590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990360" y="6019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25780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38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320040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24080" y="518112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5520" y="3733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320004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3920" y="5299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75840" y="33177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3720" y="495288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028840" y="320004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89480" y="46893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80560" y="35463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5181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Declarations, Extended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8880" y="2209680"/>
            <a:ext cx="590940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tring 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loat    stock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t &lt;Product&gt; 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ve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::madeB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t &lt;Person&gt;  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ve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::worksF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in O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0640" y="1752480"/>
            <a:ext cx="711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c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ypes (e.g., string, integer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types (e.g., Person, Product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{1, 5, 6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{1, 1, 5, 6, 6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[1, 5, 6, 1, 6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ra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integer[1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string street, string city, integer zipcod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, number of occurrences don’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7,9} = {7,9,7,4} = {9,4,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occurrences matter, order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7,9,7,4}={7,7,9,4}, is different from {4,7,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, number of occurrences m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4,7,9] different from [9,4,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wable Types in O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5880" y="1790640"/>
            <a:ext cx="7547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ttribut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tomic/struct, or collection of atomic/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K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, set&lt;integ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 O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,   set&lt;set&lt;integer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relationship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, or collection of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K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,  set&lt;Product&gt;, list&lt;Pers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 O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pname Product, cname Company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&lt;bag&lt;Product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0" idx="0"/>
            <a:endCxn id="161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1" idx="2"/>
            <a:endCxn id="165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x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185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438280" y="5562720"/>
            <a:ext cx="3810240" cy="709200"/>
            <a:chOff x="2438280" y="5562720"/>
            <a:chExt cx="3810240" cy="709200"/>
          </a:xfrm>
        </p:grpSpPr>
        <p:sp>
          <p:nvSpPr>
            <p:cNvPr id="200" name=""/>
            <p:cNvSpPr/>
            <p:nvPr/>
          </p:nvSpPr>
          <p:spPr>
            <a:xfrm>
              <a:off x="3820320" y="55627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65280" y="57121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38280" y="58986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67320" y="58986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483720" y="58986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 - Object Definition Language (2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  - Entity relationship diagrams (2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rinciples (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217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223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226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240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6060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250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273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900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708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536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5036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24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Object Definition Language (OD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r in spirit to object-oriente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ntity/Relationship model (E/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ational i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 to OO-schema: direct transformation (C++ or Smalltalk based syst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Object Defini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2895120"/>
            <a:ext cx="584028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 is part of ODM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set of Corba’s ID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mbles C++ (and Smalltal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esign paradigm in OD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i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bstraction purpo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objects in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qualifies a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should have common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Class Decla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7696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: arbitrary function, of little concern for u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240" y="2514600"/>
            <a:ext cx="51854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name&gt;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&lt;type&gt;  &lt;name&gt;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range type&gt;  &lt;name&gt;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type&gt; &lt;name&gt;(param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209680"/>
            <a:ext cx="220968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876920"/>
            <a:ext cx="213336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419720"/>
            <a:ext cx="1752480" cy="99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3480" y="1641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79800" y="232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1440" y="1793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579132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308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0" y="495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680" y="6400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412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36196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133720" y="2590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990360" y="6019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25780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38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54100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Decla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" y="1295280"/>
            <a:ext cx="751248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ring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float   pr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num Catego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electronics, communications, sports …}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an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string 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float    stockpr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s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ger ss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ing  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uct Address {string street, string city} address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5360" y="6095880"/>
            <a:ext cx="69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just simplified C++ with slightly different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10:52:07Z</dcterms:created>
  <dc:creator>Alon Levy</dc:creator>
  <dc:description/>
  <dc:language>en-US</dc:language>
  <cp:lastModifiedBy>Administrator</cp:lastModifiedBy>
  <cp:lastPrinted>2000-09-27T17:43:13Z</cp:lastPrinted>
  <dcterms:modified xsi:type="dcterms:W3CDTF">2001-10-03T17:31:15Z</dcterms:modified>
  <cp:revision>41</cp:revision>
  <dc:subject/>
  <dc:title>Databas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odl+er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