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F83C-20BA-4CCC-8A41-A3AF02EB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12CC-F84A-48AF-A6EE-458970F4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AAC-383E-4B6C-8747-C0A0B238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B89A-C6AE-4EAA-83B9-0A406E8A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308-90BC-4EFB-A248-21DD8A71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78FC-EA62-4973-9369-C228A1DC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4044-4448-4327-9FB9-38249693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C55C-85F3-4C1B-B7E7-E826DC98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3FE-3B85-4ED4-AA67-912519C4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736-4B07-482B-9762-C08D68E6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CAD-2C38-4662-B684-2C563B31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849C-A2B8-4E89-87D5-4A43DAC8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F250-B24B-4F99-9D89-519E482CC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21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733920"/>
            <a:ext cx="72392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, 1st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ing Without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rect Implementation Won’t Wor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ing data: file system is lim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less than 4GB (on 32 bits machi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ystem crashes we may loos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word-based authorization insu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/upd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write a new C++/Java program for every new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worry about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: limited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worry about interfering with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offer different views to different users (e.g. registrar, students, profess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chan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rewrite virtually all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ity of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Definition Language - D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anipulation Language - D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an Application with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3818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s modeling (conceptual, pictu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what entities should be part of the application and how they should be lin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 design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on a set of tables,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tables in the databas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te database (insert tupl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pplication programs using the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y easier now that the data management is taken care 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228600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05120" y="114264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133720" y="30481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9608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010280" y="266688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ptual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990720"/>
            <a:ext cx="144756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1676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 Design and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es the logical view from the physical view of th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11280" y="5427720"/>
          <a:ext cx="42037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5427720"/>
                    <a:ext cx="42037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914400" y="2666880"/>
          <a:ext cx="3944880" cy="1435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666880"/>
                    <a:ext cx="3944880" cy="14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033880" y="2666880"/>
          <a:ext cx="2814840" cy="1616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3880" y="2666880"/>
                    <a:ext cx="281484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822240" y="2251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7400" y="2251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03240" y="4194000"/>
          <a:ext cx="4961160" cy="14335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240" y="4194000"/>
                    <a:ext cx="496116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915120" y="38098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a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courses that “Mary” 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(tructured) Q(uery) L(angu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processor figures out how to answer the query efficient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61120" y="3124080"/>
            <a:ext cx="577368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C.na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S, Takes T, Courses C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.name=“Mary”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S.ssn = T.ssn and T.cid = C.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76720" y="1523880"/>
            <a:ext cx="4970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Book Antiqua"/>
              </a:rPr>
              <a:t>Imperative query execution 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2200" y="2362320"/>
            <a:ext cx="4840920" cy="155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S, Takes T, Courses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.name=“Mary”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ssn = T.ssn and T.cid = C.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52388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clarative 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17524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5410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lan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of Relational Algebra operator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choice of algorithms at each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6040" y="6248520"/>
            <a:ext cx="79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al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find best plan.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actical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worst pla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80" y="11080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952880" y="4723920"/>
            <a:ext cx="0" cy="38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486400" y="41148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866920" y="685800"/>
            <a:ext cx="1219320" cy="220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3581280" y="2209680"/>
            <a:ext cx="22860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2209680"/>
            <a:ext cx="1600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85800" y="2209680"/>
            <a:ext cx="129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362320"/>
            <a:ext cx="3733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019560" y="2438280"/>
            <a:ext cx="75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422600" y="1981080"/>
            <a:ext cx="4337280" cy="3388680"/>
            <a:chOff x="4422600" y="1981080"/>
            <a:chExt cx="4337280" cy="3388680"/>
          </a:xfrm>
        </p:grpSpPr>
        <p:sp>
          <p:nvSpPr>
            <p:cNvPr id="131" name=""/>
            <p:cNvSpPr/>
            <p:nvPr/>
          </p:nvSpPr>
          <p:spPr>
            <a:xfrm flipH="1">
              <a:off x="5749920" y="2427120"/>
              <a:ext cx="12686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22600" y="5018040"/>
              <a:ext cx="111168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tuden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10000" y="5002200"/>
              <a:ext cx="79920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5415840" y="3668400"/>
              <a:ext cx="803880" cy="515160"/>
              <a:chOff x="5415840" y="3668400"/>
              <a:chExt cx="803880" cy="515160"/>
            </a:xfrm>
          </p:grpSpPr>
          <p:sp>
            <p:nvSpPr>
              <p:cNvPr id="135" name=""/>
              <p:cNvSpPr/>
              <p:nvPr/>
            </p:nvSpPr>
            <p:spPr>
              <a:xfrm>
                <a:off x="5597640" y="3668400"/>
                <a:ext cx="180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945400" y="3668400"/>
                <a:ext cx="180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597640" y="3668400"/>
                <a:ext cx="34956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5415840" y="3668400"/>
                <a:ext cx="803880" cy="515160"/>
                <a:chOff x="5415840" y="3668400"/>
                <a:chExt cx="803880" cy="5151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597640" y="3668400"/>
                  <a:ext cx="349560" cy="123840"/>
                </a:xfrm>
                <a:custGeom>
                  <a:avLst/>
                  <a:gdLst/>
                  <a:ahLst/>
                  <a:rect l="l" t="t" r="r" b="b"/>
                  <a:pathLst>
                    <a:path w="220" h="78">
                      <a:moveTo>
                        <a:pt x="0" y="77"/>
                      </a:moveTo>
                      <a:lnTo>
                        <a:pt x="219" y="0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15840" y="3877920"/>
                  <a:ext cx="803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id=s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1" name=""/>
            <p:cNvGrpSpPr/>
            <p:nvPr/>
          </p:nvGrpSpPr>
          <p:grpSpPr>
            <a:xfrm>
              <a:off x="6942240" y="1992240"/>
              <a:ext cx="842400" cy="389520"/>
              <a:chOff x="6942240" y="1992240"/>
              <a:chExt cx="842400" cy="389520"/>
            </a:xfrm>
          </p:grpSpPr>
          <p:sp>
            <p:nvSpPr>
              <p:cNvPr id="142" name=""/>
              <p:cNvSpPr/>
              <p:nvPr/>
            </p:nvSpPr>
            <p:spPr>
              <a:xfrm>
                <a:off x="6983280" y="2008080"/>
                <a:ext cx="1440" cy="172800"/>
              </a:xfrm>
              <a:custGeom>
                <a:avLst/>
                <a:gdLst/>
                <a:ahLst/>
                <a:rect l="l" t="t" r="r" b="b"/>
                <a:pathLst>
                  <a:path w="1" h="109">
                    <a:moveTo>
                      <a:pt x="0" y="0"/>
                    </a:moveTo>
                    <a:lnTo>
                      <a:pt x="0" y="1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70760" y="2008080"/>
                <a:ext cx="1080" cy="172800"/>
              </a:xfrm>
              <a:custGeom>
                <a:avLst/>
                <a:gdLst/>
                <a:ahLst/>
                <a:rect l="l" t="t" r="r" b="b"/>
                <a:pathLst>
                  <a:path w="1" h="109">
                    <a:moveTo>
                      <a:pt x="0" y="0"/>
                    </a:moveTo>
                    <a:lnTo>
                      <a:pt x="0" y="1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942240" y="1992240"/>
                <a:ext cx="174600" cy="1440"/>
              </a:xfrm>
              <a:custGeom>
                <a:avLst/>
                <a:gdLst/>
                <a:ahLst/>
                <a:rect l="l" t="t" r="r" b="b"/>
                <a:pathLst>
                  <a:path w="110" h="1">
                    <a:moveTo>
                      <a:pt x="0" y="0"/>
                    </a:moveTo>
                    <a:lnTo>
                      <a:pt x="109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035840" y="2076120"/>
                <a:ext cx="748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6935760" y="2987640"/>
              <a:ext cx="184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04080" y="1981080"/>
              <a:ext cx="184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732560" y="4354200"/>
              <a:ext cx="1472400" cy="381960"/>
              <a:chOff x="4732560" y="4354200"/>
              <a:chExt cx="1472400" cy="38196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4732560" y="4354200"/>
                <a:ext cx="162000" cy="158760"/>
                <a:chOff x="4732560" y="4354200"/>
                <a:chExt cx="162000" cy="158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732560" y="4354200"/>
                  <a:ext cx="115920" cy="158760"/>
                </a:xfrm>
                <a:custGeom>
                  <a:avLst/>
                  <a:gdLst/>
                  <a:ahLst/>
                  <a:rect l="l" t="t" r="r" b="b"/>
                  <a:pathLst>
                    <a:path w="73" h="100">
                      <a:moveTo>
                        <a:pt x="72" y="50"/>
                      </a:moveTo>
                      <a:lnTo>
                        <a:pt x="62" y="15"/>
                      </a:lnTo>
                      <a:lnTo>
                        <a:pt x="36" y="0"/>
                      </a:lnTo>
                      <a:lnTo>
                        <a:pt x="11" y="15"/>
                      </a:lnTo>
                      <a:lnTo>
                        <a:pt x="0" y="50"/>
                      </a:lnTo>
                      <a:lnTo>
                        <a:pt x="11" y="84"/>
                      </a:lnTo>
                      <a:lnTo>
                        <a:pt x="36" y="99"/>
                      </a:lnTo>
                      <a:lnTo>
                        <a:pt x="62" y="84"/>
                      </a:lnTo>
                      <a:lnTo>
                        <a:pt x="72" y="5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791600" y="4371840"/>
                  <a:ext cx="102960" cy="1440"/>
                </a:xfrm>
                <a:custGeom>
                  <a:avLst/>
                  <a:gdLst/>
                  <a:ahLst/>
                  <a:rect l="l" t="t" r="r" b="b"/>
                  <a:pathLst>
                    <a:path w="65" h="1">
                      <a:moveTo>
                        <a:pt x="0" y="0"/>
                      </a:moveTo>
                      <a:lnTo>
                        <a:pt x="6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4805280" y="4430520"/>
                <a:ext cx="1399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ame=“Mary”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711120" y="2982600"/>
              <a:ext cx="803880" cy="515160"/>
              <a:chOff x="6711120" y="2982600"/>
              <a:chExt cx="803880" cy="515160"/>
            </a:xfrm>
          </p:grpSpPr>
          <p:sp>
            <p:nvSpPr>
              <p:cNvPr id="154" name=""/>
              <p:cNvSpPr/>
              <p:nvPr/>
            </p:nvSpPr>
            <p:spPr>
              <a:xfrm>
                <a:off x="6892920" y="2982600"/>
                <a:ext cx="180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240680" y="2982600"/>
                <a:ext cx="180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92920" y="2982600"/>
                <a:ext cx="34956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6711120" y="2982600"/>
                <a:ext cx="803880" cy="515160"/>
                <a:chOff x="6711120" y="2982600"/>
                <a:chExt cx="803880" cy="5151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892920" y="2982600"/>
                  <a:ext cx="349560" cy="123840"/>
                </a:xfrm>
                <a:custGeom>
                  <a:avLst/>
                  <a:gdLst/>
                  <a:ahLst/>
                  <a:rect l="l" t="t" r="r" b="b"/>
                  <a:pathLst>
                    <a:path w="220" h="78">
                      <a:moveTo>
                        <a:pt x="0" y="77"/>
                      </a:moveTo>
                      <a:lnTo>
                        <a:pt x="219" y="0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711120" y="3192120"/>
                  <a:ext cx="803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id=c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" name=""/>
            <p:cNvSpPr/>
            <p:nvPr/>
          </p:nvSpPr>
          <p:spPr>
            <a:xfrm>
              <a:off x="7707600" y="4964040"/>
              <a:ext cx="105228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urs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037120" y="4049280"/>
              <a:ext cx="30492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08520" y="4659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8520" y="4659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5037120" y="3972960"/>
              <a:ext cx="3812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6180120" y="3972960"/>
              <a:ext cx="5335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027840" y="313524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7475400" y="3134880"/>
              <a:ext cx="68580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tional and Nov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78840" cy="45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tional Data Manag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data for enterpris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processing/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el Data Manag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data for exchange on th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/data 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Indu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databases are a great success of theoretical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DBMS companies are among the largest software companies in the worl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 (with DB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ft (SQL Server, Microsoft Ac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20B indu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or:  Dan Suc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eg, Room 318, suciu@cs.washington.e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hours:  Wednesday 2:30-3: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 by appointment)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: Gerome Mikl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eg 226b, gerome@cs.washington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hours: Monday 2:30 - 3: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y of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asp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ing and design of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programming: querying and updat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 study cuts across many fields of Computer Science: OS, languages, AI, Logic, multimedia, theory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(Rough)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desig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Relationship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 (object-oriented design langu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ing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al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ing E/R models to relational sc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: a data format for th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(“intergalactic dataspeak”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s and trigg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query langu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queries and data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ies for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 and index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processing and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requisites: Data structures course (CSE-326 or equivale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&amp; Gra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 25%: 6 of them, some light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: 25% - se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term: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: 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angibles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design end-to-end database ap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in groups of 3-4 (start forming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: design a multi-user cale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ervice projects avail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table for project milest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creativ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tart soon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pag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cs.washington.edu/444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: send email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domo@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ying (in body of emai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e cse4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tbook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rst Course in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Jeff Ullman and  Jennifer Wi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ector Garcia-Molina, Jeff Ullman and Jennifer Wi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in a shrink-wrapped package at the book 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x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1932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anagement System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makrishn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compreh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damentals of Database Systems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lmasri and Nava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widely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7888320" cy="3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ations of Databases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iteboul, Hull and Vian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ly theory of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on the Web,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iteboul,Buneman,Suc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and other new/advanced stu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77320" y="5499000"/>
            <a:ext cx="749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vailable on reserve, at the libr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tional Database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615312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are building a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tore the information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takes what, who teaches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78560" y="5853240"/>
            <a:ext cx="45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y use a DBM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e need from a databa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the data for a long period of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amounts (100s of G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 against cr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 against unauthorized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users to query/upda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teaches “CSE14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roll “Mary” in “CSE444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several (100s, 1000s) users to access the data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administrators to change the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information about 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1T22:48:26Z</dcterms:created>
  <dc:creator>cse</dc:creator>
  <dc:description/>
  <dc:language>en-US</dc:language>
  <cp:lastModifiedBy>Gerome Miklau</cp:lastModifiedBy>
  <cp:lastPrinted>1998-09-26T21:35:18Z</cp:lastPrinted>
  <dcterms:modified xsi:type="dcterms:W3CDTF">2001-09-29T19:43:24Z</dcterms:modified>
  <cp:revision>86</cp:revision>
  <dc:subject/>
  <dc:title>Introduction to Database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lecture1\lecture1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